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449-C218-4647-B4E7-D0B5F0F7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656-0E77-4355-A7BC-74AF9E93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B10-7D3E-4E19-8BE5-6E32D0C6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684-97DF-449A-AD1D-13446CAC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46FD9-B72F-476D-8F8D-897EB8D9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F8BB-C7F4-4373-9F3B-EFA366CE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CCC6-23EB-4FE9-979A-45DE55CF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D9D0-9A42-48CB-A750-C8DB5FD8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9096-1AE9-46D8-AC70-8A173B8D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6B46-946B-4665-A268-6EA906C1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2FFD-F615-490C-BB0D-016F50B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81A-833D-46B6-8E26-E5F5C2D3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F7D5-0344-4C7F-B4AC-6CAA22AC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1B3E-2285-43F4-83FF-3FAB43AE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9272-704F-4CE5-9FDF-B42175A4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77EB-FA5E-4D80-B59E-49F486D9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1592-FB83-4516-9382-7C022A76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8B59-A14F-4FD2-919B-D233DA61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8CD78-4312-4A85-9B1B-A8A20F6E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A87A-31B2-4F6D-8C04-895FBA0C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A4AE-640E-459C-85D4-8436E443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D5AE8-C095-4C3E-B0A3-524FF836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C69-9E0C-4E4F-8122-83D3F1DB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668B-3438-4421-B13D-4C4BB76D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81FF-8AB8-4AE1-92C0-7A3D55A2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4748-F235-47F0-84CB-93279B90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CE12-E3FF-4778-AE52-3EDFDC3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6B06-0AD5-4CA1-ADD8-44F54F09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50565-A75A-4908-BEC1-D7AC74D8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A751-7F73-491B-9381-7470489A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8F5E-D65E-44A6-B9E1-7A3410AE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B22D-26F0-4BB2-B0C9-65A4F586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7C31-DDC9-40B2-8A1E-4BA3A5DA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7C4-6A09-4266-9DED-E2AA8C3A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BB7B2-9682-4083-B609-BE8AE01F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AB2A4-455C-4A33-90A4-6E55DFA6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4F15-B278-42BC-9DA7-151B9E3A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55CF-D80A-4D97-AB77-7D9CCBF2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223A-57FC-4AB8-B277-6463501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23E6D-5A09-4ADC-8E2C-3F70875D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EDC58-AE30-4642-B581-C31952FC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77EC-544A-44E8-8DB0-B14B2FE1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F091-789B-47EC-A498-D481340A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C98-37DF-4C9F-A788-B33711AA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099-8F40-4199-9676-B2747610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C29-42B1-4BBD-A32B-979C411F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50D-CD75-4D1F-9482-068DB772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0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F66-15F7-4C00-92E5-457D9040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D0AD76CA-A3B0-4BDB-9FA0-13BE8A06035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7D0EFF3D-3810-4820-BEB3-E0B80D61CDF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0-</a:t>
            </a:r>
            <a:fld id="{36A65AD2-E5B2-4803-98C6-63E18F09B07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P0-</a:t>
            </a:r>
            <a:fld id="{59DFBBD9-C12A-44AD-B7C9-DCB3CFABB42B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7"/>
          <p:cNvGraphicFramePr/>
          <p:nvPr/>
        </p:nvGraphicFramePr>
        <p:xfrm>
          <a:off x="39600" y="0"/>
          <a:ext cx="474840" cy="49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0"/>
                    <a:ext cx="474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8"/>
          <p:cNvSpPr/>
          <p:nvPr/>
        </p:nvSpPr>
        <p:spPr>
          <a:xfrm>
            <a:off x="616680" y="-72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1784520"/>
            <a:ext cx="8570880" cy="18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Large Graph Mining: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Power Tools and a Practitioner’s guide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9520" y="3871800"/>
            <a:ext cx="73962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ristos Falouts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Gary Mill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66"/>
                </a:solidFill>
                <a:latin typeface="Times New Roman"/>
              </a:rPr>
              <a:t>Charalampos (Babis) Tsourakak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FD32-D071-4AF0-AF6F-79A9EA88C8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Authors and term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061640" y="2286000"/>
            <a:ext cx="7396560" cy="2482200"/>
            <a:chOff x="1061640" y="2286000"/>
            <a:chExt cx="7396560" cy="2482200"/>
          </a:xfrm>
        </p:grpSpPr>
        <p:graphicFrame>
          <p:nvGraphicFramePr>
            <p:cNvPr id="313" name=""/>
            <p:cNvGraphicFramePr/>
            <p:nvPr/>
          </p:nvGraphicFramePr>
          <p:xfrm>
            <a:off x="1976400" y="2894040"/>
            <a:ext cx="6481800" cy="1733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6400" y="2894040"/>
                      <a:ext cx="648180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5" name=""/>
            <p:cNvSpPr/>
            <p:nvPr/>
          </p:nvSpPr>
          <p:spPr>
            <a:xfrm>
              <a:off x="2211840" y="22860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0080" y="2286000"/>
              <a:ext cx="104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ining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0440" y="22860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classif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66000" y="2286000"/>
              <a:ext cx="63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ree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53440" y="2403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061640" y="2784600"/>
              <a:ext cx="842040" cy="1983600"/>
              <a:chOff x="1061640" y="2784600"/>
              <a:chExt cx="842040" cy="1983600"/>
            </a:xfrm>
          </p:grpSpPr>
          <p:sp>
            <p:nvSpPr>
              <p:cNvPr id="321" name=""/>
              <p:cNvSpPr/>
              <p:nvPr/>
            </p:nvSpPr>
            <p:spPr>
              <a:xfrm>
                <a:off x="1062360" y="278460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John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76760" y="3124080"/>
                <a:ext cx="80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Peter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61640" y="34290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ry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77840" y="3809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Nick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290960" y="43084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66"/>
                    </a:solidFill>
                    <a:latin typeface="Times New Roman"/>
                  </a:rPr>
                  <a:t>...</a:t>
                </a:r>
                <a:endParaRPr b="0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2A15-33DE-45F2-A751-24323D1884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Examples without networks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or, at least, no straightforward network interpretation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609480"/>
            <a:ext cx="380880" cy="5257800"/>
          </a:xfrm>
          <a:custGeom>
            <a:avLst/>
            <a:gdLst>
              <a:gd name="textAreaLeft" fmla="*/ 111960 w 380880"/>
              <a:gd name="textAreaRight" fmla="*/ 381240 w 380880"/>
              <a:gd name="textAreaTop" fmla="*/ 218880 h 5257800"/>
              <a:gd name="textAreaBottom" fmla="*/ 503892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FD7E-DD16-426C-AB39-4FE4F30EE69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cloud of n-d point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976400" y="274176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4176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2212200" y="21337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ol#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30080" y="2133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lood#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71520" y="2057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3592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453440" y="2251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909000" y="2631960"/>
            <a:ext cx="842040" cy="1983600"/>
            <a:chOff x="909000" y="2631960"/>
            <a:chExt cx="842040" cy="1983600"/>
          </a:xfrm>
        </p:grpSpPr>
        <p:sp>
          <p:nvSpPr>
            <p:cNvPr id="339" name=""/>
            <p:cNvSpPr/>
            <p:nvPr/>
          </p:nvSpPr>
          <p:spPr>
            <a:xfrm>
              <a:off x="909720" y="26319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oh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24120" y="29714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9000" y="32763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25200" y="3657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ick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38320" y="4155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675D-B74B-402B-AECF-18001A336F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sensor-ids and time-tick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976400" y="28940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8940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188360" y="2784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04560" y="3124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8360" y="35053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04560" y="3809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211480" y="2286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mp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10080" y="2286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mp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800960" y="2286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umi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944320" y="22860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ss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53440" y="2403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17680" y="43084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8534520" y="990720"/>
            <a:ext cx="380880" cy="5257800"/>
          </a:xfrm>
          <a:custGeom>
            <a:avLst/>
            <a:gdLst>
              <a:gd name="textAreaLeft" fmla="*/ 111960 w 380880"/>
              <a:gd name="textAreaRight" fmla="*/ 381240 w 380880"/>
              <a:gd name="textAreaTop" fmla="*/ 218880 h 5257800"/>
              <a:gd name="textAreaBottom" fmla="*/ 503892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D0F6-834A-45A4-9A71-41D01B0692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1905120"/>
            <a:ext cx="457200" cy="380880"/>
          </a:xfrm>
          <a:prstGeom prst="rightArrow">
            <a:avLst>
              <a:gd name="adj1" fmla="val 50000"/>
              <a:gd name="adj2" fmla="val 30009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D842-5FE8-408C-B20C-159BE78F7F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troduction – Motiv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1: Node importance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2: Communit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3: Recommend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4: Connection sub-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5: Mining graphs over 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6: Virus/influence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7: Spectral graph the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ask 8: Tera/peta graph mining: hadoo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bservations – patterns of real graph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541440" indent="-5414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D9BF-5C97-48D5-A348-EA4FDBD782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- why should we ca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181" name="Rectangle 3" descr=""/>
          <p:cNvPicPr/>
          <p:nvPr/>
        </p:nvPicPr>
        <p:blipFill>
          <a:blip r:embed="rId1"/>
          <a:stretch/>
        </p:blipFill>
        <p:spPr>
          <a:xfrm>
            <a:off x="1847880" y="1569960"/>
            <a:ext cx="2077920" cy="1560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81720" y="1467000"/>
            <a:ext cx="2187360" cy="1639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915160" y="3981600"/>
            <a:ext cx="1620720" cy="162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119320" y="3124080"/>
            <a:ext cx="205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ternet Map [lumeta.com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0320" y="3124080"/>
            <a:ext cx="205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od Web [Martinez ’91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10240" y="5605560"/>
            <a:ext cx="251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tein Interactions [genomebiology.com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14400" y="5607000"/>
            <a:ext cx="2210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riendship Network [Moody ’01]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8" name="Rectangle 3" descr=""/>
          <p:cNvPicPr/>
          <p:nvPr/>
        </p:nvPicPr>
        <p:blipFill>
          <a:blip r:embed="rId4"/>
          <a:stretch/>
        </p:blipFill>
        <p:spPr>
          <a:xfrm>
            <a:off x="1685880" y="3687840"/>
            <a:ext cx="227808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87E2-0291-48A4-A5BF-278C586D1E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- why should we ca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R: bi-partite graphs (doc-term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eb: hyper-text grap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... and more: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474600" y="1752480"/>
            <a:ext cx="2579400" cy="1500840"/>
            <a:chOff x="6474600" y="1752480"/>
            <a:chExt cx="2579400" cy="1500840"/>
          </a:xfrm>
        </p:grpSpPr>
        <p:sp>
          <p:nvSpPr>
            <p:cNvPr id="192" name=""/>
            <p:cNvSpPr/>
            <p:nvPr/>
          </p:nvSpPr>
          <p:spPr>
            <a:xfrm>
              <a:off x="8267760" y="28954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67760" y="19810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67760" y="21333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67760" y="25905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67760" y="274320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3360" y="2057400"/>
              <a:ext cx="75960" cy="7596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53360" y="22096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353360" y="266688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53360" y="2819160"/>
              <a:ext cx="75960" cy="7632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74600" y="179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08800" y="2666880"/>
              <a:ext cx="52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74120" y="17524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30560" y="2743200"/>
              <a:ext cx="5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197" idx="6"/>
              <a:endCxn id="194" idx="2"/>
            </p:cNvCxnSpPr>
            <p:nvPr/>
          </p:nvCxnSpPr>
          <p:spPr>
            <a:xfrm>
              <a:off x="7448040" y="2095200"/>
              <a:ext cx="801000" cy="7668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206" name=""/>
            <p:cNvCxnSpPr>
              <a:stCxn id="197" idx="6"/>
              <a:endCxn id="195" idx="0"/>
            </p:cNvCxnSpPr>
            <p:nvPr/>
          </p:nvCxnSpPr>
          <p:spPr>
            <a:xfrm>
              <a:off x="7448400" y="2095560"/>
              <a:ext cx="858240" cy="4766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207" name=""/>
            <p:cNvCxnSpPr>
              <a:stCxn id="200" idx="5"/>
              <a:endCxn id="194" idx="2"/>
            </p:cNvCxnSpPr>
            <p:nvPr/>
          </p:nvCxnSpPr>
          <p:spPr>
            <a:xfrm flipV="1">
              <a:off x="7417800" y="2170800"/>
              <a:ext cx="831240" cy="73260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208" name=""/>
            <p:cNvSpPr/>
            <p:nvPr/>
          </p:nvSpPr>
          <p:spPr>
            <a:xfrm>
              <a:off x="7246800" y="2174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61200" y="21333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7826-12C1-4025-9A96-72542B851A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- why should we care?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etwork of companies &amp; board-of-directors memb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viral’ market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web-log (‘blog’) news propag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omputer network security: email/IP traffic and anomaly dete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ny M:N relationship -&gt; Grap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ny subject-verb-object construct: -&gt; Graph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5809-7E7C-4D11-BB19-EEB696D071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Graphs and matrice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osely relate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werful tools from matrix algebra, for graph min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and, conversely, great problems for CS/Math to solv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1C15-B941-4127-B96F-511AC6FB39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 </a:t>
            </a: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Graph - social network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3280" y="213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oh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10440" y="20574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71520" y="20574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35200" y="2057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ic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3440" y="2251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3040" y="2631960"/>
            <a:ext cx="842040" cy="1983600"/>
            <a:chOff x="833040" y="2631960"/>
            <a:chExt cx="842040" cy="1983600"/>
          </a:xfrm>
        </p:grpSpPr>
        <p:sp>
          <p:nvSpPr>
            <p:cNvPr id="222" name=""/>
            <p:cNvSpPr/>
            <p:nvPr/>
          </p:nvSpPr>
          <p:spPr>
            <a:xfrm>
              <a:off x="833760" y="263196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oh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8160" y="29714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3040" y="327636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49240" y="3657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ick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2360" y="4155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76400" y="2741760"/>
            <a:ext cx="6481800" cy="1733400"/>
            <a:chOff x="1976400" y="2741760"/>
            <a:chExt cx="6481800" cy="1733400"/>
          </a:xfrm>
        </p:grpSpPr>
        <p:sp>
          <p:nvSpPr>
            <p:cNvPr id="228" name=""/>
            <p:cNvSpPr/>
            <p:nvPr/>
          </p:nvSpPr>
          <p:spPr>
            <a:xfrm>
              <a:off x="1976400" y="2741760"/>
              <a:ext cx="648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76400" y="2741760"/>
              <a:ext cx="648180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76400" y="2741760"/>
              <a:ext cx="1800" cy="17334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76400" y="2741760"/>
              <a:ext cx="20520" cy="1733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72960" y="276228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55560" y="2762280"/>
              <a:ext cx="37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1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47600" y="2762280"/>
              <a:ext cx="371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2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000" y="2762280"/>
              <a:ext cx="371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64080" y="276228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7880" y="31050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0280" y="3105000"/>
              <a:ext cx="223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9040" y="31050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21080" y="310500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64080" y="310500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9520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8724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7964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7168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64080" y="34466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9520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8724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7964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168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264080" y="378936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9520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8724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7964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7168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264080" y="4132440"/>
              <a:ext cx="224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76400" y="274176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76400" y="274176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76400" y="3084480"/>
              <a:ext cx="6461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76400" y="308448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76400" y="342756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6400" y="3427560"/>
              <a:ext cx="6461280" cy="1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6400" y="376884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76400" y="376884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76400" y="4111560"/>
              <a:ext cx="64612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76400" y="4111560"/>
              <a:ext cx="6461280" cy="20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76400" y="4454640"/>
              <a:ext cx="6461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76400" y="4454640"/>
              <a:ext cx="6461280" cy="20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76400" y="2741760"/>
              <a:ext cx="180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7640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8800" y="2741760"/>
              <a:ext cx="144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6880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0840" y="2741760"/>
              <a:ext cx="180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084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53240" y="2741760"/>
              <a:ext cx="144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5324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45280" y="2741760"/>
              <a:ext cx="180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4528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37680" y="2741760"/>
              <a:ext cx="1440" cy="171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37680" y="2741760"/>
              <a:ext cx="20520" cy="171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AFBB-CA52-48FD-8F58-14FA5C316F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Market basket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market baske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s in Association Rul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976400" y="2894040"/>
          <a:ext cx="64818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894040"/>
                    <a:ext cx="648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211480" y="2286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il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10800" y="2286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e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871520" y="228600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oc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35200" y="2286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i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53440" y="24033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833040" y="2784600"/>
            <a:ext cx="842040" cy="1983600"/>
            <a:chOff x="833040" y="2784600"/>
            <a:chExt cx="842040" cy="1983600"/>
          </a:xfrm>
        </p:grpSpPr>
        <p:sp>
          <p:nvSpPr>
            <p:cNvPr id="291" name=""/>
            <p:cNvSpPr/>
            <p:nvPr/>
          </p:nvSpPr>
          <p:spPr>
            <a:xfrm>
              <a:off x="833760" y="27846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ohn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48160" y="3124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eter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3040" y="342900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Mary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9240" y="3809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Nick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2360" y="4308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1127-9DCC-40B8-AEB7-16AF550445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Examples of Matrices: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a50021"/>
                </a:solidFill>
                <a:latin typeface="Times New Roman"/>
              </a:rPr>
              <a:t>Documents and terms</a:t>
            </a:r>
            <a:endParaRPr b="1" lang="en-US" sz="4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976400" y="2852640"/>
          <a:ext cx="6481800" cy="173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852640"/>
                    <a:ext cx="648180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3661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1960" y="3200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6120" y="36576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1960" y="40384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per#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11840" y="22446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10080" y="22446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in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870440" y="224460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if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66000" y="22446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453440" y="23623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5440" y="4267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aloutsos, Miller, Tsourakak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DFAA-685B-491B-8631-BE41B0FD6A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KDD'0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7T05:13:27Z</dcterms:created>
  <dc:creator/>
  <dc:description/>
  <dc:language>en-US</dc:language>
  <cp:lastModifiedBy>christos</cp:lastModifiedBy>
  <dcterms:modified xsi:type="dcterms:W3CDTF">2009-06-05T15:18:16Z</dcterms:modified>
  <cp:revision>181</cp:revision>
  <dc:subject/>
  <dc:title>Large graph mining</dc:title>
</cp:coreProperties>
</file>