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28.wmf" ContentType="image/x-wmf"/>
  <Override PartName="/ppt/media/image27.jpeg" ContentType="image/jpeg"/>
  <Override PartName="/ppt/media/image13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4.png" ContentType="image/png"/>
  <Override PartName="/ppt/media/image5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2.png" ContentType="image/png"/>
  <Override PartName="/ppt/media/image10.wmf" ContentType="image/x-wmf"/>
  <Override PartName="/ppt/media/image30.wmf" ContentType="image/x-wmf"/>
  <Override PartName="/ppt/media/image35.wmf" ContentType="image/x-wmf"/>
  <Override PartName="/ppt/media/image11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33.wmf" ContentType="image/x-wmf"/>
  <Override PartName="/ppt/media/image3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2D5C0-5CC7-44B0-98CD-B565505C06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A961D-352C-430D-BDF5-9AA06E071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E642F-70DC-4DD7-939D-7D9B33684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DE3436-DF43-4DE6-8471-C3EC018172F7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2838D-48A4-4FB1-95D0-F7F3D248D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7A28484-5603-4761-B464-5E769939B454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13B8D-DD18-4B09-9D0E-7A89B2058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66"/>
                </a:solidFill>
                <a:latin typeface="Arial"/>
              </a:rPr>
              <a:t>Faloutsos, Tong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7E3C40-4651-4BE2-BA97-851C7855B47E}" type="slidenum">
              <a:rPr b="0" lang="en-US" sz="13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8013-8E36-42D6-BD42-6A09F9C04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8D1-1BA7-4FFC-8A76-6FCB5025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6AC-1669-46B7-8191-9805C67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92A-C415-4C73-9CE6-1C435590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F5C-5005-46EB-97AA-D683D549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FF09-4208-4A00-A918-CAD9BAC0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FC38-872A-4292-A3FD-56A759AD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776-3010-4F59-A136-227B856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1B84-37C3-4B6B-BC33-980B441A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A298-310D-4D50-980D-AEC8C2C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5CC-5C3F-4CD0-B0DE-0A0AFF61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AF2C-9B22-4283-8E41-C710D868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AAC-C43E-4C94-BBBB-5E47C5E9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35C-03D5-4675-BAF4-AF67CF7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BED-775B-471B-9639-0B4C279A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97BD-08F1-4E57-8DFB-EA8F39FD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9F68-ECDB-46BF-87E5-A12AE313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CBD-F678-42FC-897A-CC13E27D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AD7-1E42-4423-92AF-A4DACBD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6E7-890A-483E-B94E-8C16419A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400-9D38-49F7-B787-B5F15796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891-CE16-42EA-ACCB-AB45B30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BD3-ACCF-4CD1-A534-2B60B394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3F0-34C0-4C66-986D-92432AE1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101D-F78A-4E59-9C4C-98A6440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1-</a:t>
            </a:r>
            <a:fld id="{2EF3FD49-3B8D-4353-98EF-DEABEDB99B6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5C285B0F-53A4-420F-830E-4A072C895B33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5.wmf"/><Relationship Id="rId5" Type="http://schemas.openxmlformats.org/officeDocument/2006/relationships/image" Target="../media/image31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http://www.cs.utk.edu/~lsi/" TargetMode="External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/mybookInfo.html" TargetMode="External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arge Graph Mining: Power Tools and a Practitioner’s guid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aloutsos, Miller, Tsourakak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 / reduce dimensional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E78A-5AEE-496A-A0DE-2BB7E8F942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arenthesis: intuition behind eigenvector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533520"/>
            <a:ext cx="381240" cy="6019560"/>
          </a:xfrm>
          <a:custGeom>
            <a:avLst/>
            <a:gdLst>
              <a:gd name="textAreaLeft" fmla="*/ 111960 w 381240"/>
              <a:gd name="textAreaRight" fmla="*/ 381600 w 381240"/>
              <a:gd name="textAreaTop" fmla="*/ 250560 h 6019560"/>
              <a:gd name="textAreaBottom" fmla="*/ 5769000 h 6019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207-2CD1-4D02-9392-F75770C07ECE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ormal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(n x n) square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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, 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an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alue/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pair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f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      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 to singular valu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597040" y="3782880"/>
            <a:ext cx="2222640" cy="706680"/>
          </a:xfrm>
          <a:prstGeom prst="rect">
            <a:avLst/>
          </a:prstGeom>
          <a:noFill/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C4A-6FF6-4017-ACC6-4481C5BB5E48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perty #1: Eigen- vs singular-valu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is symmetric an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B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6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en-US" sz="36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, ...: eigenvectors of 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(B</a:t>
            </a:r>
            <a:r>
              <a:rPr b="1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B)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02A-1C9E-433D-87D9-26E42F69040F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not symmetric, some eigenvalues may be comple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5C6-0110-4C36-BCF0-2BFFB27F1EFF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y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[nxn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real, symmetric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 it ha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real eigen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y agree with i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alues, except possibly for the sig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0A8-FF73-4584-BD09-5EFB8144E2C3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vector transform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54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32892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355" name=""/>
          <p:cNvGrpSpPr/>
          <p:nvPr/>
        </p:nvGrpSpPr>
        <p:grpSpPr>
          <a:xfrm>
            <a:off x="1676520" y="2819880"/>
            <a:ext cx="1433520" cy="1818720"/>
            <a:chOff x="1676520" y="2819880"/>
            <a:chExt cx="1433520" cy="1818720"/>
          </a:xfrm>
        </p:grpSpPr>
        <p:graphicFrame>
          <p:nvGraphicFramePr>
            <p:cNvPr id="1356" name=""/>
            <p:cNvGraphicFramePr/>
            <p:nvPr/>
          </p:nvGraphicFramePr>
          <p:xfrm>
            <a:off x="1752840" y="3429000"/>
            <a:ext cx="1357200" cy="120960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52840" y="342900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8" name=""/>
            <p:cNvSpPr/>
            <p:nvPr/>
          </p:nvSpPr>
          <p:spPr>
            <a:xfrm>
              <a:off x="167652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28951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4440" y="281988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3505320" y="3429000"/>
            <a:ext cx="842760" cy="1238400"/>
            <a:chOff x="3505320" y="3429000"/>
            <a:chExt cx="842760" cy="1238400"/>
          </a:xfrm>
        </p:grpSpPr>
        <p:sp>
          <p:nvSpPr>
            <p:cNvPr id="1362" name=""/>
            <p:cNvSpPr/>
            <p:nvPr/>
          </p:nvSpPr>
          <p:spPr>
            <a:xfrm>
              <a:off x="3505320" y="342900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4038480" y="342900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364" name=""/>
            <p:cNvGraphicFramePr/>
            <p:nvPr/>
          </p:nvGraphicFramePr>
          <p:xfrm>
            <a:off x="3581280" y="3505320"/>
            <a:ext cx="766800" cy="116208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3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581280" y="3505320"/>
                      <a:ext cx="766800" cy="116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6" name=""/>
          <p:cNvSpPr/>
          <p:nvPr/>
        </p:nvSpPr>
        <p:spPr>
          <a:xfrm>
            <a:off x="6629400" y="396252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733920" y="281988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>
            <a:off x="990000" y="3429000"/>
            <a:ext cx="152280" cy="106668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70" name=""/>
          <p:cNvGraphicFramePr/>
          <p:nvPr/>
        </p:nvGraphicFramePr>
        <p:xfrm>
          <a:off x="533520" y="3505320"/>
          <a:ext cx="688680" cy="12189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3505320"/>
                    <a:ext cx="6886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2" name=""/>
          <p:cNvSpPr/>
          <p:nvPr/>
        </p:nvSpPr>
        <p:spPr>
          <a:xfrm>
            <a:off x="627120" y="281988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179720" y="385632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6629400" y="3580920"/>
            <a:ext cx="762120" cy="38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286760" y="3932640"/>
            <a:ext cx="36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7456320" y="3323160"/>
            <a:ext cx="4809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x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173240" y="5527800"/>
            <a:ext cx="304560" cy="30456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055960" y="5521320"/>
            <a:ext cx="304560" cy="30492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77" idx="1"/>
            <a:endCxn id="1377" idx="3"/>
          </p:cNvCxnSpPr>
          <p:nvPr/>
        </p:nvCxnSpPr>
        <p:spPr>
          <a:xfrm flipH="1" rot="16200000">
            <a:off x="1091160" y="5679000"/>
            <a:ext cx="254880" cy="2520"/>
          </a:xfrm>
          <a:prstGeom prst="curvedConnector5">
            <a:avLst>
              <a:gd name="adj1" fmla="val -100000"/>
              <a:gd name="adj2" fmla="val -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0" name=""/>
          <p:cNvCxnSpPr>
            <a:stCxn id="1378" idx="7"/>
            <a:endCxn id="1378" idx="5"/>
          </p:cNvCxnSpPr>
          <p:nvPr/>
        </p:nvCxnSpPr>
        <p:spPr>
          <a:xfrm flipH="1" rot="16200000">
            <a:off x="2189880" y="5671800"/>
            <a:ext cx="254520" cy="2160"/>
          </a:xfrm>
          <a:prstGeom prst="curvedConnector5">
            <a:avLst>
              <a:gd name="adj1" fmla="val -100000"/>
              <a:gd name="adj2" fmla="val 15400000"/>
              <a:gd name="adj3" fmla="val -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1" name=""/>
          <p:cNvCxnSpPr>
            <a:stCxn id="1377" idx="7"/>
            <a:endCxn id="1378" idx="1"/>
          </p:cNvCxnSpPr>
          <p:nvPr/>
        </p:nvCxnSpPr>
        <p:spPr>
          <a:xfrm flipH="1" flipV="1" rot="5400000">
            <a:off x="1763640" y="5216040"/>
            <a:ext cx="684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382" name=""/>
          <p:cNvCxnSpPr>
            <a:stCxn id="1378" idx="3"/>
            <a:endCxn id="1377" idx="5"/>
          </p:cNvCxnSpPr>
          <p:nvPr/>
        </p:nvCxnSpPr>
        <p:spPr>
          <a:xfrm rot="5400000">
            <a:off x="1762920" y="5470560"/>
            <a:ext cx="7200" cy="667440"/>
          </a:xfrm>
          <a:prstGeom prst="curvedConnector5">
            <a:avLst>
              <a:gd name="adj1" fmla="val 4100000"/>
              <a:gd name="adj2" fmla="val 49973"/>
              <a:gd name="adj3" fmla="val 4100000"/>
            </a:avLst>
          </a:prstGeom>
          <a:ln cap="sq"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383" name=""/>
          <p:cNvSpPr/>
          <p:nvPr/>
        </p:nvSpPr>
        <p:spPr>
          <a:xfrm>
            <a:off x="213120" y="543240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644840" y="4898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46640" y="60418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924640" y="5397480"/>
            <a:ext cx="33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9CC-7B64-486B-A074-DE457F94F48F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Intu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defn., eigenvectors remain parallel to themselves (‘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ixed points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89" name=""/>
          <p:cNvGrpSpPr/>
          <p:nvPr/>
        </p:nvGrpSpPr>
        <p:grpSpPr>
          <a:xfrm>
            <a:off x="2590920" y="3657960"/>
            <a:ext cx="1433520" cy="1818720"/>
            <a:chOff x="2590920" y="3657960"/>
            <a:chExt cx="1433520" cy="1818720"/>
          </a:xfrm>
        </p:grpSpPr>
        <p:graphicFrame>
          <p:nvGraphicFramePr>
            <p:cNvPr id="1390" name=""/>
            <p:cNvGraphicFramePr/>
            <p:nvPr/>
          </p:nvGraphicFramePr>
          <p:xfrm>
            <a:off x="2667240" y="4267080"/>
            <a:ext cx="1357200" cy="12096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67240" y="4267080"/>
                      <a:ext cx="1357200" cy="120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2" name=""/>
            <p:cNvSpPr/>
            <p:nvPr/>
          </p:nvSpPr>
          <p:spPr>
            <a:xfrm>
              <a:off x="2590920" y="4267080"/>
              <a:ext cx="15264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809520" y="4267080"/>
              <a:ext cx="152280" cy="1066680"/>
            </a:xfrm>
            <a:custGeom>
              <a:avLst/>
              <a:gdLst/>
              <a:ahLst/>
              <a:rect l="l" t="t" r="r" b="b"/>
              <a:pathLst>
                <a:path w="96" h="1104">
                  <a:moveTo>
                    <a:pt x="96" y="0"/>
                  </a:moveTo>
                  <a:lnTo>
                    <a:pt x="0" y="0"/>
                  </a:lnTo>
                  <a:lnTo>
                    <a:pt x="0" y="1104"/>
                  </a:lnTo>
                  <a:lnTo>
                    <a:pt x="96" y="110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040" bIns="50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48840" y="3657960"/>
              <a:ext cx="4395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5" name=""/>
          <p:cNvSpPr/>
          <p:nvPr/>
        </p:nvSpPr>
        <p:spPr>
          <a:xfrm>
            <a:off x="441972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952880" y="4267080"/>
            <a:ext cx="15264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4344840" y="4267080"/>
          <a:ext cx="703440" cy="1200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484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9" name=""/>
          <p:cNvSpPr/>
          <p:nvPr/>
        </p:nvSpPr>
        <p:spPr>
          <a:xfrm>
            <a:off x="459648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716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H="1">
            <a:off x="1904400" y="4267080"/>
            <a:ext cx="152280" cy="1067040"/>
          </a:xfrm>
          <a:custGeom>
            <a:avLst/>
            <a:gdLst/>
            <a:ahLst/>
            <a:rect l="l" t="t" r="r" b="b"/>
            <a:pathLst>
              <a:path w="96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96" y="1104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548360" y="3628440"/>
            <a:ext cx="46548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4120" y="469476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04" name=""/>
          <p:cNvGrpSpPr/>
          <p:nvPr/>
        </p:nvGrpSpPr>
        <p:grpSpPr>
          <a:xfrm>
            <a:off x="5334120" y="3048120"/>
            <a:ext cx="3328920" cy="3311280"/>
            <a:chOff x="5334120" y="3048120"/>
            <a:chExt cx="3328920" cy="3311280"/>
          </a:xfrm>
        </p:grpSpPr>
        <p:pic>
          <p:nvPicPr>
            <p:cNvPr id="1405" name="" descr=""/>
            <p:cNvPicPr/>
            <p:nvPr/>
          </p:nvPicPr>
          <p:blipFill>
            <a:blip r:embed="rId5"/>
            <a:stretch/>
          </p:blipFill>
          <p:spPr>
            <a:xfrm>
              <a:off x="5334120" y="3048120"/>
              <a:ext cx="3328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6" name=""/>
            <p:cNvSpPr/>
            <p:nvPr/>
          </p:nvSpPr>
          <p:spPr>
            <a:xfrm flipV="1">
              <a:off x="7086600" y="4343040"/>
              <a:ext cx="228600" cy="30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7086600" y="3429000"/>
              <a:ext cx="685800" cy="1142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1408" name=""/>
          <p:cNvGraphicFramePr/>
          <p:nvPr/>
        </p:nvGraphicFramePr>
        <p:xfrm>
          <a:off x="1298520" y="4267080"/>
          <a:ext cx="703440" cy="12002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4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8520" y="4267080"/>
                    <a:ext cx="7034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0" name=""/>
          <p:cNvSpPr/>
          <p:nvPr/>
        </p:nvSpPr>
        <p:spPr>
          <a:xfrm>
            <a:off x="301680" y="4618440"/>
            <a:ext cx="10735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.62 *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69000" y="3674520"/>
            <a:ext cx="482400" cy="5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686-C843-419B-A15B-FD1B615584A9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15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4211-C75B-4379-AD13-ED976D146E3D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2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2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29E2-D7B1-4121-A46E-7101377DC4EA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vergenc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ually, fas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pends on rati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1 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328920" cy="331128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7086600" y="4572000"/>
            <a:ext cx="3808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7467480" y="4191120"/>
            <a:ext cx="381240" cy="380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7086600" y="4038480"/>
            <a:ext cx="1066680" cy="533520"/>
          </a:xfrm>
          <a:prstGeom prst="line">
            <a:avLst/>
          </a:prstGeom>
          <a:ln w="3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7086600" y="4419360"/>
            <a:ext cx="304920" cy="152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391520" y="3580920"/>
            <a:ext cx="533160" cy="8384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7086600" y="3428640"/>
            <a:ext cx="990720" cy="1143000"/>
          </a:xfrm>
          <a:prstGeom prst="line">
            <a:avLst/>
          </a:prstGeom>
          <a:ln w="3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 flipV="1">
            <a:off x="7086600" y="4343040"/>
            <a:ext cx="228600" cy="228600"/>
          </a:xfrm>
          <a:prstGeom prst="line">
            <a:avLst/>
          </a:prstGeom>
          <a:ln w="7632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203880" y="2950920"/>
            <a:ext cx="995400" cy="97308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 flipV="1">
            <a:off x="7813440" y="2626920"/>
            <a:ext cx="323640" cy="24300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846760" y="301932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875360" y="2178000"/>
            <a:ext cx="611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8686800" y="609480"/>
            <a:ext cx="228600" cy="5943600"/>
          </a:xfrm>
          <a:custGeom>
            <a:avLst/>
            <a:gdLst>
              <a:gd name="textAreaLeft" fmla="*/ 0 w 228600"/>
              <a:gd name="textAreaRight" fmla="*/ 160560 w 228600"/>
              <a:gd name="textAreaTop" fmla="*/ 247320 h 5943600"/>
              <a:gd name="textAreaBottom" fmla="*/ 5696280 h 594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727-F895-47CD-B195-E136E5433247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 - spec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10**6 rows; ~10**3 columns; no updates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access to any cell(s) ; small error: O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19320" y="3581280"/>
            <a:ext cx="6248160" cy="2381040"/>
            <a:chOff x="1219320" y="3581280"/>
            <a:chExt cx="6248160" cy="238104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219320" y="3581280"/>
              <a:ext cx="6248160" cy="23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76560" y="4647960"/>
              <a:ext cx="380520" cy="2286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743200" y="5181480"/>
            <a:ext cx="4495680" cy="228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A21-72D2-46A7-BF37-EADF74DA9F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/google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V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elps in graph analysi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ub/authority scores: strongest left- and right- singular-vectors of the adjacenc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andom walk on a graph: steady state probabilities are given by the strongest eigenvector of the (modified)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6B7-84BB-4891-B508-482471A8A183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aluabl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o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ocument-term matrix, it finds ‘concepts’ (LSI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fixed-points or steady-state probabilities (google/ Kleinberg/ Markov Chain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B54-27BC-4599-9BA5-ABA7CC6FC5C7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onclusion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We didn’t discuss/elaborate, but, SV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 can reduce dimensionality (KL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find rules (PCA; RatioRule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can solve optimally over- and under-constraint linear systems (least squares / query feedback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58B-2B37-4516-AD85-C555D0CF6EC9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rry, Michael: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cs.utk.edu/~lsi/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. and L.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5EB2-FE51-411F-988F-36974E7F7CDA}" type="slidenum">
              <a:t>1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ristos Faloutsos, </a:t>
            </a:r>
            <a:r>
              <a:rPr b="0" lang="en-US" sz="32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Searching Multimedia Databases by Cont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Springer, 1996. (App. 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kunaga, K. (1990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ntroduction to Statistical Pattern Recognitio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Academic Pres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.T. Jolliff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Principal Component Analysi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ringer, 2002 (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ed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C7D-BA1D-4938-B709-CEC0C536B178}" type="slidenum">
              <a:t>1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References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.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ess, W. H., S. A. Teukolsky, et al. (1992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Numerical Recipes in 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Cambridge University Press. </a:t>
            </a:r>
            <a:r>
              <a:rPr b="0" lang="en-US" sz="3200" spc="-1" strike="noStrike">
                <a:solidFill>
                  <a:srgbClr val="000066"/>
                </a:solidFill>
                <a:latin typeface="Courier New"/>
              </a:rPr>
              <a:t>www.nr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F71-D2E8-4800-BC88-3E342857F0D3}" type="slidenum">
              <a:t>1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8F8-86B7-4B4F-BD10-C932D9E339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V="1">
            <a:off x="3048120" y="1752480"/>
            <a:ext cx="3581280" cy="33530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B64-DA98-4E46-ABF1-221BD832F4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2860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2C56-E4C5-41D0-93CD-FC16236B85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18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18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30E-E4DE-4EDC-9918-F42D1F40B08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0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0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10A-7D99-49D0-931D-E0DEC44F3ED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27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30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358128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C57-9B2A-406C-BD49-A75EE6A481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53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56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8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0555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692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21160" y="54856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3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943600"/>
            <a:ext cx="990720" cy="165240"/>
          </a:xfrm>
          <a:custGeom>
            <a:avLst/>
            <a:gdLst/>
            <a:ahLst/>
            <a:rect l="l" t="t" r="r" b="b"/>
            <a:pathLst>
              <a:path w="624" h="104">
                <a:moveTo>
                  <a:pt x="0" y="0"/>
                </a:moveTo>
                <a:cubicBezTo>
                  <a:pt x="92" y="44"/>
                  <a:pt x="184" y="88"/>
                  <a:pt x="288" y="96"/>
                </a:cubicBezTo>
                <a:cubicBezTo>
                  <a:pt x="392" y="104"/>
                  <a:pt x="508" y="76"/>
                  <a:pt x="624" y="48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5397480"/>
            <a:ext cx="3276360" cy="241200"/>
          </a:xfrm>
          <a:custGeom>
            <a:avLst/>
            <a:gdLst/>
            <a:ahLst/>
            <a:rect l="l" t="t" r="r" b="b"/>
            <a:pathLst>
              <a:path w="2064" h="152">
                <a:moveTo>
                  <a:pt x="0" y="104"/>
                </a:moveTo>
                <a:cubicBezTo>
                  <a:pt x="500" y="52"/>
                  <a:pt x="1000" y="0"/>
                  <a:pt x="1344" y="8"/>
                </a:cubicBezTo>
                <a:cubicBezTo>
                  <a:pt x="1688" y="16"/>
                  <a:pt x="1876" y="84"/>
                  <a:pt x="2064" y="152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6019920"/>
            <a:ext cx="1371600" cy="7596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0"/>
                </a:moveTo>
                <a:cubicBezTo>
                  <a:pt x="192" y="24"/>
                  <a:pt x="384" y="48"/>
                  <a:pt x="528" y="48"/>
                </a:cubicBezTo>
                <a:cubicBezTo>
                  <a:pt x="672" y="48"/>
                  <a:pt x="768" y="24"/>
                  <a:pt x="864" y="0"/>
                </a:cubicBezTo>
              </a:path>
            </a:pathLst>
          </a:custGeom>
          <a:noFill/>
          <a:ln w="15840">
            <a:solidFill>
              <a:srgbClr val="000066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4191120"/>
            <a:ext cx="1828800" cy="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376-5617-41ED-9325-6807C33B46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minder: matrix multipl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990720" y="3429000"/>
          <a:ext cx="137160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13716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2363760" y="396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990720" y="3429000"/>
            <a:ext cx="1066320" cy="1676520"/>
            <a:chOff x="990720" y="3429000"/>
            <a:chExt cx="1066320" cy="1676520"/>
          </a:xfrm>
        </p:grpSpPr>
        <p:sp>
          <p:nvSpPr>
            <p:cNvPr id="279" name=""/>
            <p:cNvSpPr/>
            <p:nvPr/>
          </p:nvSpPr>
          <p:spPr>
            <a:xfrm>
              <a:off x="99072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828080" y="3429000"/>
              <a:ext cx="228600" cy="1676520"/>
            </a:xfrm>
            <a:custGeom>
              <a:avLst/>
              <a:gdLst/>
              <a:ahLst/>
              <a:rect l="l" t="t" r="r" b="b"/>
              <a:pathLst>
                <a:path w="144" h="1056">
                  <a:moveTo>
                    <a:pt x="144" y="0"/>
                  </a:moveTo>
                  <a:lnTo>
                    <a:pt x="0" y="0"/>
                  </a:lnTo>
                  <a:lnTo>
                    <a:pt x="0" y="1056"/>
                  </a:lnTo>
                  <a:lnTo>
                    <a:pt x="96" y="1056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819520" y="3733920"/>
            <a:ext cx="914400" cy="1295280"/>
            <a:chOff x="2819520" y="3733920"/>
            <a:chExt cx="914400" cy="1295280"/>
          </a:xfrm>
        </p:grpSpPr>
        <p:graphicFrame>
          <p:nvGraphicFramePr>
            <p:cNvPr id="282" name=""/>
            <p:cNvGraphicFramePr/>
            <p:nvPr/>
          </p:nvGraphicFramePr>
          <p:xfrm>
            <a:off x="2819520" y="3733920"/>
            <a:ext cx="914400" cy="1295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3733920"/>
                      <a:ext cx="914400" cy="12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281952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3428280" y="3733920"/>
              <a:ext cx="228600" cy="1085760"/>
            </a:xfrm>
            <a:custGeom>
              <a:avLst/>
              <a:gdLst/>
              <a:ahLst/>
              <a:rect l="l" t="t" r="r" b="b"/>
              <a:pathLst>
                <a:path w="96" h="780">
                  <a:moveTo>
                    <a:pt x="96" y="0"/>
                  </a:moveTo>
                  <a:lnTo>
                    <a:pt x="0" y="12"/>
                  </a:lnTo>
                  <a:lnTo>
                    <a:pt x="0" y="780"/>
                  </a:lnTo>
                  <a:lnTo>
                    <a:pt x="96" y="78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040280" y="39618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95680" y="3429000"/>
          <a:ext cx="685800" cy="1771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429000"/>
                    <a:ext cx="68580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44956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028480" y="3352680"/>
            <a:ext cx="228600" cy="1676520"/>
          </a:xfrm>
          <a:custGeom>
            <a:avLst/>
            <a:gdLst/>
            <a:ahLst/>
            <a:rect l="l" t="t" r="r" b="b"/>
            <a:pathLst>
              <a:path w="144" h="1056">
                <a:moveTo>
                  <a:pt x="144" y="0"/>
                </a:moveTo>
                <a:lnTo>
                  <a:pt x="0" y="0"/>
                </a:lnTo>
                <a:lnTo>
                  <a:pt x="0" y="1056"/>
                </a:lnTo>
                <a:lnTo>
                  <a:pt x="96" y="1056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434-F11C-4C77-BC43-0F28396F0C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905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29D-C461-4D5E-A8E7-04E1F2CBC1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n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Symbol"/>
                <a:ea typeface="Symbol"/>
              </a:rPr>
              <a:t>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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r x r]</a:t>
            </a: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Times New Roman"/>
              </a:rPr>
              <a:t>[m x r]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40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m matrix (eg., n documents, m 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n x r matrix (n document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r x r diagonal matrix (strength of each ‘concept’) (r : rank of the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m x r matrix (m terms, r concept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1676520"/>
            <a:ext cx="7620120" cy="838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ADCC-7D17-44F9-9A4F-B6B04CF47C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fini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4190760" cy="3539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124080" y="4343400"/>
            <a:ext cx="304920" cy="304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C76-9B59-486B-B3AE-28D2D70C43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OREM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Press+92]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lways possible to decompose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tri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o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,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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unique (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column orthonormal (ie., columns are unit vectors, orthogonal to each othe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 (I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dentity matrix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ngular are positive, and sorted in decreasing ord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C58-003F-4D95-9B08-D809E928EC8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CE7-E728-4D38-BDDE-FF8D8758E25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AC8-A8A7-4FCB-8E23-B0754D17F6C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2880" y="228528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3800" y="2590200"/>
            <a:ext cx="19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2971800"/>
            <a:ext cx="0" cy="38088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266720" y="3124080"/>
            <a:ext cx="30492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3276720"/>
            <a:ext cx="6858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86400" y="167616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oc-to-concep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1D2-1CC7-40A3-A25B-811A76F853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4280" y="2437560"/>
            <a:ext cx="36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trength’ of 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562720" y="3276720"/>
            <a:ext cx="0" cy="7617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34120" y="3962520"/>
            <a:ext cx="60948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741-B6E1-429D-9645-65A9455116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048120"/>
            <a:ext cx="4876560" cy="22096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1A7-5168-47A8-A59D-9EF4BE92CF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Exampl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2520" y="281844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20040" y="2513880"/>
            <a:ext cx="60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f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440" y="22849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triev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05480" y="2742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a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2000" y="258984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u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0492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4880" y="385524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60" y="525708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492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0492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53160" y="2072880"/>
            <a:ext cx="256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erm-to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01680" y="3276000"/>
            <a:ext cx="18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S-concep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3809880"/>
            <a:ext cx="380880" cy="1676520"/>
          </a:xfrm>
          <a:custGeom>
            <a:avLst/>
            <a:gdLst/>
            <a:ahLst/>
            <a:rect l="l" t="t" r="r" b="b"/>
            <a:pathLst>
              <a:path w="240" h="1056">
                <a:moveTo>
                  <a:pt x="0" y="0"/>
                </a:moveTo>
                <a:lnTo>
                  <a:pt x="0" y="1056"/>
                </a:lnTo>
                <a:lnTo>
                  <a:pt x="240" y="1056"/>
                </a:lnTo>
              </a:path>
            </a:pathLst>
          </a:custGeom>
          <a:noFill/>
          <a:ln w="158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3276720"/>
            <a:ext cx="4495680" cy="19810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5181480"/>
            <a:ext cx="6098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A4B-273C-43E0-B6CE-A42E81805A0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4920" y="28195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A6E-4188-4F56-98D8-D3F65CE9BAA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4" idx="6"/>
            <a:endCxn id="103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6"/>
            <a:endCxn id="103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7" idx="6"/>
            <a:endCxn id="105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3" idx="6"/>
            <a:endCxn id="106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8" idx="6"/>
            <a:endCxn id="104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2" idx="7"/>
            <a:endCxn id="104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F0F0-1AA2-4EB9-B2CE-20AAFBBAD2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.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its diagonal elements: ‘strength’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DA9-9F70-48DE-94CD-51707A201F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A29-51B1-40A3-ACBA-7DA662D555D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6B7005F2-8B6D-448B-B80D-206052CCC38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– Interpretation #1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s’, ‘terms’ and ‘concept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document-to-term matrix, what i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erm-to-term ([m x m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document-to-document ([n x n]) similarity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Date Placeholder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CDE’0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BEF-4E51-429A-B808-3BFCB935217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Copyright: Faloutsos, Tong (2009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2-</a:t>
            </a:r>
            <a:fld id="{47234822-16F9-41FF-9A8F-5AC97897E829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SVD propertie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re the eigenvectors of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Gram (inner-product) matri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37" name="Picture 4" descr="txp_fig"/>
          <p:cNvPicPr/>
          <p:nvPr/>
        </p:nvPicPr>
        <p:blipFill>
          <a:blip r:embed="rId1"/>
          <a:stretch/>
        </p:blipFill>
        <p:spPr>
          <a:xfrm>
            <a:off x="914400" y="2568600"/>
            <a:ext cx="7696080" cy="784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txp_fig"/>
          <p:cNvPicPr/>
          <p:nvPr/>
        </p:nvPicPr>
        <p:blipFill>
          <a:blip r:embed="rId2"/>
          <a:stretch/>
        </p:blipFill>
        <p:spPr>
          <a:xfrm>
            <a:off x="914400" y="4768920"/>
            <a:ext cx="7772400" cy="7938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6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Further reading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1. Ian T. Jolliffe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Principal Component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Springer, 2002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2. Gilbert Strang,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Linear Algebra and Its Application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(4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ed), Brooks Cole, 2005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533520" y="2514600"/>
            <a:ext cx="830556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Rectangle 9"/>
          <p:cNvSpPr/>
          <p:nvPr/>
        </p:nvSpPr>
        <p:spPr>
          <a:xfrm>
            <a:off x="685800" y="4724280"/>
            <a:ext cx="830592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636-89D7-4B32-AA11-4CA6C1F837D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est axis to project on: (‘best’ = min sum of squares of projection error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C9A-9243-4E86-9E80-C78DD939570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419360" cy="420048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D778-0E39-4767-8671-56FD3E31731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581280" y="1905120"/>
            <a:ext cx="5224680" cy="3695760"/>
            <a:chOff x="3581280" y="1905120"/>
            <a:chExt cx="5224680" cy="3695760"/>
          </a:xfrm>
        </p:grpSpPr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3581280" y="1905120"/>
              <a:ext cx="522468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flipV="1">
              <a:off x="3886200" y="4800960"/>
              <a:ext cx="38088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5562720" y="2743200"/>
            <a:ext cx="380880" cy="38088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3048120"/>
            <a:ext cx="152640" cy="152280"/>
          </a:xfrm>
          <a:prstGeom prst="ellipse">
            <a:avLst/>
          </a:prstGeom>
          <a:noFill/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3733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inimum RMS err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8280" y="2225160"/>
            <a:ext cx="285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giv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est axis to proje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58680" y="43426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05720" y="2895480"/>
            <a:ext cx="21333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rst singula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DA24-E3DF-47F3-BD0A-F1EBD712A5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7772400" cy="296208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F37-4E16-498B-A988-FF5065A3543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565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7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69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1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4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6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38680" y="5334120"/>
              <a:ext cx="2971800" cy="304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84720" y="47696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v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7F5-666F-4872-8603-16ED11029D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3962520"/>
            <a:ext cx="7621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84560" y="2742480"/>
            <a:ext cx="49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variance (‘spread’) on the v1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715000" y="3505320"/>
            <a:ext cx="76320" cy="380880"/>
          </a:xfrm>
          <a:prstGeom prst="line">
            <a:avLst/>
          </a:prstGeom>
          <a:ln w="158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896-AEA9-4A50-8D3D-8B32EDE80E6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: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1: HITS (SVD = Singular Value Decomposi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2: eigenvector (PageRank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6"/>
            <a:endCxn id="11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2" idx="6"/>
            <a:endCxn id="11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2" idx="6"/>
            <a:endCxn id="12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6"/>
            <a:endCxn id="12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3" idx="6"/>
            <a:endCxn id="11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7" idx="7"/>
            <a:endCxn id="11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70FE-09E9-436F-8548-3255511A3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- exampl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gives the coordinates of the points in the projection ax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E42-F373-4B92-A3D9-EAD9C973DFC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838080" y="3352680"/>
            <a:ext cx="7944120" cy="2917800"/>
            <a:chOff x="838080" y="3352680"/>
            <a:chExt cx="7944120" cy="2917800"/>
          </a:xfrm>
        </p:grpSpPr>
        <p:graphicFrame>
          <p:nvGraphicFramePr>
            <p:cNvPr id="637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6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9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3429000" y="3352680"/>
            <a:ext cx="1244520" cy="276228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29000" y="3352680"/>
                      <a:ext cx="1244520" cy="276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3" name=""/>
            <p:cNvSpPr/>
            <p:nvPr/>
          </p:nvSpPr>
          <p:spPr>
            <a:xfrm flipH="1">
              <a:off x="4571280" y="3352680"/>
              <a:ext cx="15228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27672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97280" y="426636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46" name=""/>
            <p:cNvGraphicFramePr/>
            <p:nvPr/>
          </p:nvGraphicFramePr>
          <p:xfrm>
            <a:off x="5334120" y="4114800"/>
            <a:ext cx="1218960" cy="9111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6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334120" y="4114800"/>
                      <a:ext cx="1218960" cy="91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8" name=""/>
            <p:cNvSpPr/>
            <p:nvPr/>
          </p:nvSpPr>
          <p:spPr>
            <a:xfrm>
              <a:off x="51814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400080" y="4038480"/>
              <a:ext cx="228600" cy="9907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020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51" name=""/>
            <p:cNvGraphicFramePr/>
            <p:nvPr/>
          </p:nvGraphicFramePr>
          <p:xfrm>
            <a:off x="5562720" y="5334120"/>
            <a:ext cx="3219480" cy="93636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6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5334120"/>
                      <a:ext cx="3219480" cy="93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3" name=""/>
            <p:cNvSpPr/>
            <p:nvPr/>
          </p:nvSpPr>
          <p:spPr>
            <a:xfrm>
              <a:off x="6859440" y="4190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62720" y="5334120"/>
              <a:ext cx="152280" cy="76176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533800" y="5410080"/>
              <a:ext cx="152280" cy="7621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9A8-BE83-4055-919E-957CE0656DC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detail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how exactly is dim. reduction done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set the smallest singular values to zero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FBF-42B7-4DDC-9714-26227CA588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6BC1-588B-483C-A913-6EEA27AA784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095880" y="434304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019920" y="4495680"/>
            <a:ext cx="6094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114800" y="3200400"/>
            <a:ext cx="380880" cy="304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410080" y="5790960"/>
            <a:ext cx="335304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10080" y="5715000"/>
            <a:ext cx="3276720" cy="3808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4038480" y="3200400"/>
            <a:ext cx="381240" cy="2819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918-246F-4A3E-83D2-ED15450B9B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5334120" y="4114800"/>
          <a:ext cx="609480" cy="584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5562720" y="5334120"/>
          <a:ext cx="3143160" cy="9144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14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C98-D154-443C-9397-A8EF37D0DD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838080" y="3352680"/>
            <a:ext cx="2141640" cy="2648160"/>
            <a:chOff x="838080" y="3352680"/>
            <a:chExt cx="2141640" cy="2648160"/>
          </a:xfrm>
        </p:grpSpPr>
        <p:graphicFrame>
          <p:nvGraphicFramePr>
            <p:cNvPr id="758" name=""/>
            <p:cNvGraphicFramePr/>
            <p:nvPr/>
          </p:nvGraphicFramePr>
          <p:xfrm>
            <a:off x="914400" y="3429000"/>
            <a:ext cx="2065320" cy="257184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7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429000"/>
                      <a:ext cx="2065320" cy="257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0" name=""/>
            <p:cNvSpPr/>
            <p:nvPr/>
          </p:nvSpPr>
          <p:spPr>
            <a:xfrm>
              <a:off x="83808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2590200" y="3352680"/>
              <a:ext cx="228600" cy="2590920"/>
            </a:xfrm>
            <a:custGeom>
              <a:avLst/>
              <a:gdLst/>
              <a:ahLst/>
              <a:rect l="l" t="t" r="r" b="b"/>
              <a:pathLst>
                <a:path w="264" h="2220">
                  <a:moveTo>
                    <a:pt x="264" y="0"/>
                  </a:moveTo>
                  <a:lnTo>
                    <a:pt x="0" y="12"/>
                  </a:lnTo>
                  <a:lnTo>
                    <a:pt x="0" y="2220"/>
                  </a:lnTo>
                  <a:lnTo>
                    <a:pt x="228" y="222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900520" y="4266360"/>
            <a:ext cx="3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3581280" y="3276720"/>
          <a:ext cx="2065320" cy="2571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32767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350532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257080" y="32004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24280" y="4724280"/>
            <a:ext cx="609840" cy="990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372-B446-4C8A-9902-20C4FA6EAD5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75" name=""/>
          <p:cNvGraphicFramePr/>
          <p:nvPr/>
        </p:nvGraphicFramePr>
        <p:xfrm>
          <a:off x="3429000" y="335268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35268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5334120" y="411480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11480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562720" y="5334120"/>
          <a:ext cx="3219480" cy="936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334120"/>
                    <a:ext cx="321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7E5-8863-4867-8FFF-78B38F4C52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571280" y="335268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27672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1814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6400080" y="403848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020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59440" y="419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562720" y="5334120"/>
            <a:ext cx="152280" cy="76176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533800" y="54100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912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077000" y="43131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58128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267080" y="495288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191120" y="342900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4120" y="400824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446544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095520" y="4114800"/>
            <a:ext cx="381240" cy="304920"/>
            <a:chOff x="6095520" y="4114800"/>
            <a:chExt cx="381240" cy="304920"/>
          </a:xfrm>
        </p:grpSpPr>
        <p:sp>
          <p:nvSpPr>
            <p:cNvPr id="815" name=""/>
            <p:cNvSpPr/>
            <p:nvPr/>
          </p:nvSpPr>
          <p:spPr>
            <a:xfrm>
              <a:off x="6095880" y="4114800"/>
              <a:ext cx="304920" cy="304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095520" y="4114800"/>
              <a:ext cx="381240" cy="30492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409720" y="4648320"/>
            <a:ext cx="381240" cy="304560"/>
            <a:chOff x="5409720" y="4648320"/>
            <a:chExt cx="381240" cy="304560"/>
          </a:xfrm>
        </p:grpSpPr>
        <p:sp>
          <p:nvSpPr>
            <p:cNvPr id="818" name=""/>
            <p:cNvSpPr/>
            <p:nvPr/>
          </p:nvSpPr>
          <p:spPr>
            <a:xfrm>
              <a:off x="5410080" y="4648320"/>
              <a:ext cx="304920" cy="3045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5409720" y="4648320"/>
              <a:ext cx="381240" cy="304560"/>
            </a:xfrm>
            <a:prstGeom prst="line">
              <a:avLst/>
            </a:prstGeom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639480" y="515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639480" y="568476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15000" y="5486400"/>
            <a:ext cx="9144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162920" y="54864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715000" y="5943600"/>
            <a:ext cx="8380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162920" y="5943600"/>
            <a:ext cx="12952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9D9-BF00-4A5C-B4EA-B4AE0FF6E5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3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3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1EB-113E-40BA-8B7D-07D8AAAB77A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Node importance - motiv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and eigenvector analysis: very 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e ‘theory Task’,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84C-5BE6-4677-AC6C-CB050A839E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actly equivalen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pectral decomposition’ of the matrix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53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5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59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63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67240" y="54853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 x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114800" y="4800600"/>
            <a:ext cx="22860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60280" y="5561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1 x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 flipV="1">
            <a:off x="4876560" y="4876560"/>
            <a:ext cx="75960" cy="53316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57880" y="339804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 term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581280" y="3581280"/>
            <a:ext cx="144792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629400" y="35812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4EB-F6DB-4E5B-B853-9F3533D75B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pproximation / dim. reductio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keeping the first few terms (Q: how man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6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890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894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E50-EC54-4824-844E-FB20F278A8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2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(heuristic - [Fukunaga]): keep 80-90% of ‘energy’ (= sum of squares of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09" name=""/>
          <p:cNvGraphicFramePr/>
          <p:nvPr/>
        </p:nvGraphicFramePr>
        <p:xfrm>
          <a:off x="9144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1" name=""/>
          <p:cNvSpPr/>
          <p:nvPr/>
        </p:nvSpPr>
        <p:spPr>
          <a:xfrm>
            <a:off x="8380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59020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89728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505320" y="4236840"/>
            <a:ext cx="1830960" cy="579600"/>
            <a:chOff x="3505320" y="4236840"/>
            <a:chExt cx="1830960" cy="579600"/>
          </a:xfrm>
        </p:grpSpPr>
        <p:sp>
          <p:nvSpPr>
            <p:cNvPr id="915" name=""/>
            <p:cNvSpPr/>
            <p:nvPr/>
          </p:nvSpPr>
          <p:spPr>
            <a:xfrm>
              <a:off x="420084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50532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74876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5867280" y="4236840"/>
            <a:ext cx="1830960" cy="579600"/>
            <a:chOff x="5867280" y="4236840"/>
            <a:chExt cx="1830960" cy="579600"/>
          </a:xfrm>
        </p:grpSpPr>
        <p:sp>
          <p:nvSpPr>
            <p:cNvPr id="919" name=""/>
            <p:cNvSpPr/>
            <p:nvPr/>
          </p:nvSpPr>
          <p:spPr>
            <a:xfrm>
              <a:off x="6562800" y="423684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67280" y="4236840"/>
              <a:ext cx="60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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10720" y="4236840"/>
              <a:ext cx="587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v</a:t>
              </a:r>
              <a:r>
                <a:rPr b="0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5335920" y="42663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41720" y="434268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+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5280" y="45410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47920" y="286488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057400" y="3124080"/>
            <a:ext cx="6858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914400" y="3124080"/>
            <a:ext cx="457200" cy="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228600" y="3352320"/>
            <a:ext cx="0" cy="11430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8600" y="5105520"/>
            <a:ext cx="0" cy="9144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640320" y="5227560"/>
            <a:ext cx="342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ssume: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&gt;= 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FC8-823A-4105-B93B-3C0E4C0C39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1: documents/terms/concep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2: dim. redu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#3: picking non-zero, rectangular ‘blobs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7200" y="38862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03A-0355-4416-AB4B-4F557E3C08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37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9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1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3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36F-C936-4155-8E99-2B6A5EDB50E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0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3200400" y="2971800"/>
          <a:ext cx="1244520" cy="27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971800"/>
                    <a:ext cx="12445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 flipH="1">
            <a:off x="4342680" y="2971800"/>
            <a:ext cx="15228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4812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668680" y="3885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5105520" y="3733920"/>
          <a:ext cx="1218960" cy="911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3733920"/>
                    <a:ext cx="12189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"/>
          <p:cNvSpPr/>
          <p:nvPr/>
        </p:nvSpPr>
        <p:spPr>
          <a:xfrm>
            <a:off x="49528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71480" y="3657600"/>
            <a:ext cx="228600" cy="9907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734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72" name=""/>
          <p:cNvGraphicFramePr/>
          <p:nvPr/>
        </p:nvGraphicFramePr>
        <p:xfrm>
          <a:off x="5334120" y="4952880"/>
          <a:ext cx="3219480" cy="93672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4952880"/>
                    <a:ext cx="32194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6630840" y="3809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4120" y="495288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8305200" y="5029200"/>
            <a:ext cx="152280" cy="7621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19D-5DC5-4383-9A8D-55D6CB6084E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Interpretation #3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s non-zero ‘blobs’ in  a data matrix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munities’ (bi-partite cores, he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685800" y="3048120"/>
          <a:ext cx="2065320" cy="257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2065320" cy="25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>
            <a:off x="60948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2361600" y="297180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76520" y="2971800"/>
            <a:ext cx="0" cy="266688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85800" y="4495680"/>
            <a:ext cx="175248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3555000" y="2984400"/>
            <a:ext cx="4409640" cy="2731680"/>
            <a:chOff x="3555000" y="2984400"/>
            <a:chExt cx="4409640" cy="2731680"/>
          </a:xfrm>
        </p:grpSpPr>
        <p:sp>
          <p:nvSpPr>
            <p:cNvPr id="988" name=""/>
            <p:cNvSpPr/>
            <p:nvPr/>
          </p:nvSpPr>
          <p:spPr>
            <a:xfrm>
              <a:off x="5181480" y="32767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81480" y="3581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181480" y="3886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81480" y="4191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781680" y="35053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781680" y="38098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81680" y="411480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95" name=""/>
            <p:cNvCxnSpPr>
              <a:stCxn id="992" idx="1"/>
              <a:endCxn id="988" idx="6"/>
            </p:cNvCxnSpPr>
            <p:nvPr/>
          </p:nvCxnSpPr>
          <p:spPr>
            <a:xfrm flipH="1" flipV="1">
              <a:off x="5347440" y="33519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6" name=""/>
            <p:cNvCxnSpPr>
              <a:stCxn id="988" idx="6"/>
              <a:endCxn id="993" idx="1"/>
            </p:cNvCxnSpPr>
            <p:nvPr/>
          </p:nvCxnSpPr>
          <p:spPr>
            <a:xfrm>
              <a:off x="5347800" y="335268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7" name=""/>
            <p:cNvCxnSpPr>
              <a:stCxn id="988" idx="6"/>
              <a:endCxn id="994" idx="1"/>
            </p:cNvCxnSpPr>
            <p:nvPr/>
          </p:nvCxnSpPr>
          <p:spPr>
            <a:xfrm>
              <a:off x="5347800" y="3352320"/>
              <a:ext cx="1420200" cy="839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8" name=""/>
            <p:cNvCxnSpPr>
              <a:stCxn id="989" idx="6"/>
              <a:endCxn id="992" idx="1"/>
            </p:cNvCxnSpPr>
            <p:nvPr/>
          </p:nvCxnSpPr>
          <p:spPr>
            <a:xfrm flipV="1">
              <a:off x="5347800" y="358128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999" name=""/>
            <p:cNvCxnSpPr>
              <a:stCxn id="989" idx="6"/>
              <a:endCxn id="993" idx="1"/>
            </p:cNvCxnSpPr>
            <p:nvPr/>
          </p:nvCxnSpPr>
          <p:spPr>
            <a:xfrm>
              <a:off x="5347800" y="365724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0" name=""/>
            <p:cNvCxnSpPr>
              <a:stCxn id="989" idx="6"/>
              <a:endCxn id="994" idx="1"/>
            </p:cNvCxnSpPr>
            <p:nvPr/>
          </p:nvCxnSpPr>
          <p:spPr>
            <a:xfrm>
              <a:off x="5347800" y="3657600"/>
              <a:ext cx="1420200" cy="53424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1" name=""/>
            <p:cNvCxnSpPr>
              <a:stCxn id="990" idx="6"/>
              <a:endCxn id="992" idx="1"/>
            </p:cNvCxnSpPr>
            <p:nvPr/>
          </p:nvCxnSpPr>
          <p:spPr>
            <a:xfrm flipV="1">
              <a:off x="5347800" y="3580560"/>
              <a:ext cx="1420200" cy="381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2" name=""/>
            <p:cNvCxnSpPr>
              <a:stCxn id="990" idx="6"/>
              <a:endCxn id="993" idx="1"/>
            </p:cNvCxnSpPr>
            <p:nvPr/>
          </p:nvCxnSpPr>
          <p:spPr>
            <a:xfrm flipV="1">
              <a:off x="5347800" y="38862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3" name=""/>
            <p:cNvCxnSpPr>
              <a:stCxn id="990" idx="6"/>
              <a:endCxn id="994" idx="1"/>
            </p:cNvCxnSpPr>
            <p:nvPr/>
          </p:nvCxnSpPr>
          <p:spPr>
            <a:xfrm>
              <a:off x="5347800" y="3962160"/>
              <a:ext cx="1420200" cy="2293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4" name=""/>
            <p:cNvCxnSpPr>
              <a:stCxn id="991" idx="6"/>
              <a:endCxn id="992" idx="1"/>
            </p:cNvCxnSpPr>
            <p:nvPr/>
          </p:nvCxnSpPr>
          <p:spPr>
            <a:xfrm flipV="1">
              <a:off x="5347800" y="3580560"/>
              <a:ext cx="1420200" cy="6865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5" name=""/>
            <p:cNvCxnSpPr>
              <a:stCxn id="991" idx="6"/>
              <a:endCxn id="993" idx="1"/>
            </p:cNvCxnSpPr>
            <p:nvPr/>
          </p:nvCxnSpPr>
          <p:spPr>
            <a:xfrm flipV="1">
              <a:off x="5347800" y="3885840"/>
              <a:ext cx="1420200" cy="3816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06" name=""/>
            <p:cNvCxnSpPr>
              <a:stCxn id="991" idx="6"/>
              <a:endCxn id="994" idx="1"/>
            </p:cNvCxnSpPr>
            <p:nvPr/>
          </p:nvCxnSpPr>
          <p:spPr>
            <a:xfrm flipV="1">
              <a:off x="5347800" y="4190400"/>
              <a:ext cx="1420200" cy="7668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181480" y="502920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81480" y="533412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81680" y="4876920"/>
              <a:ext cx="152640" cy="15228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81680" y="5181480"/>
              <a:ext cx="152640" cy="152640"/>
            </a:xfrm>
            <a:prstGeom prst="diamond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012" name=""/>
            <p:cNvCxnSpPr>
              <a:stCxn id="1007" idx="6"/>
              <a:endCxn id="1011" idx="1"/>
            </p:cNvCxnSpPr>
            <p:nvPr/>
          </p:nvCxnSpPr>
          <p:spPr>
            <a:xfrm>
              <a:off x="5347800" y="480060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3" name=""/>
            <p:cNvCxnSpPr>
              <a:stCxn id="1008" idx="6"/>
              <a:endCxn id="1010" idx="1"/>
            </p:cNvCxnSpPr>
            <p:nvPr/>
          </p:nvCxnSpPr>
          <p:spPr>
            <a:xfrm flipV="1">
              <a:off x="5347800" y="4952520"/>
              <a:ext cx="1420200" cy="153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4" name=""/>
            <p:cNvCxnSpPr>
              <a:stCxn id="1008" idx="6"/>
              <a:endCxn id="1011" idx="1"/>
            </p:cNvCxnSpPr>
            <p:nvPr/>
          </p:nvCxnSpPr>
          <p:spPr>
            <a:xfrm>
              <a:off x="5347800" y="510516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1"/>
            </p:cNvCxnSpPr>
            <p:nvPr/>
          </p:nvCxnSpPr>
          <p:spPr>
            <a:xfrm flipV="1">
              <a:off x="5347800" y="4952520"/>
              <a:ext cx="1420200" cy="4579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6" name=""/>
            <p:cNvCxnSpPr>
              <a:stCxn id="1009" idx="6"/>
              <a:endCxn id="1011" idx="1"/>
            </p:cNvCxnSpPr>
            <p:nvPr/>
          </p:nvCxnSpPr>
          <p:spPr>
            <a:xfrm flipV="1">
              <a:off x="5347800" y="525708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cxnSp>
          <p:nvCxnSpPr>
            <p:cNvPr id="1017" name=""/>
            <p:cNvCxnSpPr>
              <a:stCxn id="1007" idx="6"/>
              <a:endCxn id="1010" idx="1"/>
            </p:cNvCxnSpPr>
            <p:nvPr/>
          </p:nvCxnSpPr>
          <p:spPr>
            <a:xfrm>
              <a:off x="5347800" y="4800240"/>
              <a:ext cx="1420200" cy="1530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</a:ln>
          </p:spPr>
        </p:cxnSp>
        <p:sp>
          <p:nvSpPr>
            <p:cNvPr id="1018" name=""/>
            <p:cNvSpPr/>
            <p:nvPr/>
          </p:nvSpPr>
          <p:spPr>
            <a:xfrm>
              <a:off x="3555000" y="298440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74080" y="3975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990840" y="32130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1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70320" y="397512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3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11360" y="4692600"/>
              <a:ext cx="953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Col 4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582000" y="45403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5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582000" y="5226120"/>
              <a:ext cx="1119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Arial"/>
                </a:rPr>
                <a:t>Row 7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D85-6EC0-4003-91A2-56DE9969353C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ditional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492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CDC-70BA-4971-B87D-5BBE9121849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mplexit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( n * m * m) or O( n * n * m) (whichever is les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ss work, if we just want singular valu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we want firs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ingular vecto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 if the matrix is sparse [Berry]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mplemented: in any linear algebra package (LINPACK, matlab, Splus, mathematica 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EB4-D4B6-494C-B326-A6CC98DADFC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conclusions so fa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= U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: unique (*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document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term-to-concept similari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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: strength of each concep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. reduction: keep the first few strongest singular values (80-90% of ‘energy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VD: picks up linear correl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: picks up non-zero ‘blob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88C-8C6F-46C3-B0F1-4BDEC40FD7D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8288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355-46D0-480D-8E99-382C33C001C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finition -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terpre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04920" y="41911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7BB-4266-46BF-9A91-A610C627E11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Other properties - summary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produce orthogonal basis (obvious) (who cares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solve over- and under-determined linear problems (see C(1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n compute ‘fixed points’ (= ‘steady state prob. in Markov chains’) (see C(4) property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DB68-C612-4AB5-81D6-C061356D89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outline of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):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B): less obviou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): least obvious (and most powerful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071-DEBC-4FCD-9033-8CB2B04766A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by defn.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identity matrix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n x r 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r x r 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3):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diag(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...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 (k: ANY real number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62120" y="2438280"/>
            <a:ext cx="708660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7AA-9200-45D5-8337-23852362FBB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?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38080" y="2514600"/>
            <a:ext cx="6934320" cy="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12C-C3F3-4F3E-BCB6-12009E94E7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559-A5A6-485D-A743-3111C818FA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ymmetric; 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ocument-to-document’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 symmetrically, for ‘V’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T) [m x n] A [n x m] = V L2 V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uition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456-7AF2-4CCC-AF4B-1BD5481E091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: term-to-term similarity matrix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[m x 1] first column (singular-vector) o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: strongest singular valu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862-444C-48FC-8EF4-613F68C9710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for k&gt;&gt;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e., for (almost) any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it converges to a vector parallel to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 useful to compute first singular vector/value (as well as the next ones, too...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4920" y="2209680"/>
            <a:ext cx="6858000" cy="6858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F119-9AD8-46A0-9FE5-9A26ACF551E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ss obvious properties - repeated: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2):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3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n]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4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~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2k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BDA-1A27-4FD0-B433-0A9F102C1FD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2: compression / dim. redu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117-61BE-4A02-947E-029360CE1F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her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e first (column) vectors of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. (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= right-singular-vector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(3): symmetrically: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= left-singular-vecto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refor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2CC-2A3D-4037-B85F-6BFB90D1F2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cont’d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fixed poin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- the dfn of eigenvector for a symmetric matrix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4920" y="2895480"/>
            <a:ext cx="4724280" cy="6098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6D4-AB4A-4418-BEC9-B7B2F2BA84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Least obvious properties - altogether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A2B-2D1C-43D4-BD75-781355EC176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perties - conclusion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(0)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n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r 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 r x m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1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n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66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(-1)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: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hortest, actual or least-squares solu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4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8001000" y="152280"/>
            <a:ext cx="898560" cy="719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etail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1016-39B3-45E7-BF8A-AC5C7D0EDF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80880" y="33526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7D3-7791-4FDD-81E9-09385DD791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 (HITS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083" name="Rectangle 3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1084" name=""/>
          <p:cNvSpPr/>
          <p:nvPr/>
        </p:nvSpPr>
        <p:spPr>
          <a:xfrm>
            <a:off x="3429000" y="2362320"/>
            <a:ext cx="49528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Kleinberg, Jon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uthoritative sources in a hyperlinked environmen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Proc. 9th ACM-SIAM Symposium on Discrete Algorithm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47A-C908-4FBB-BE8E-F7AE189EAA88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Recall: problem df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graph (eg., web pages containing the desirable query word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Q: Which node is the most important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819520" y="57150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34340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6576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72428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9200" y="48769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733920" y="58672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66880" y="50292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94" name=""/>
          <p:cNvCxnSpPr>
            <a:stCxn id="1089" idx="6"/>
            <a:endCxn id="1088" idx="2"/>
          </p:cNvCxnSpPr>
          <p:nvPr/>
        </p:nvCxnSpPr>
        <p:spPr>
          <a:xfrm>
            <a:off x="3894120" y="50673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5" name=""/>
          <p:cNvCxnSpPr>
            <a:stCxn id="1092" idx="6"/>
            <a:endCxn id="1088" idx="3"/>
          </p:cNvCxnSpPr>
          <p:nvPr/>
        </p:nvCxnSpPr>
        <p:spPr>
          <a:xfrm flipV="1">
            <a:off x="3970080" y="52318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6" name=""/>
          <p:cNvCxnSpPr>
            <a:stCxn id="1092" idx="6"/>
            <a:endCxn id="1090" idx="2"/>
          </p:cNvCxnSpPr>
          <p:nvPr/>
        </p:nvCxnSpPr>
        <p:spPr>
          <a:xfrm>
            <a:off x="3970440" y="5981400"/>
            <a:ext cx="7466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7" name=""/>
          <p:cNvCxnSpPr>
            <a:stCxn id="1088" idx="6"/>
            <a:endCxn id="1091" idx="2"/>
          </p:cNvCxnSpPr>
          <p:nvPr/>
        </p:nvCxnSpPr>
        <p:spPr>
          <a:xfrm flipV="1">
            <a:off x="4579920" y="49906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8" name=""/>
          <p:cNvCxnSpPr>
            <a:stCxn id="1093" idx="6"/>
            <a:endCxn id="1089" idx="2"/>
          </p:cNvCxnSpPr>
          <p:nvPr/>
        </p:nvCxnSpPr>
        <p:spPr>
          <a:xfrm flipV="1">
            <a:off x="2903040" y="50673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099" name=""/>
          <p:cNvCxnSpPr>
            <a:stCxn id="1087" idx="7"/>
            <a:endCxn id="1089" idx="3"/>
          </p:cNvCxnSpPr>
          <p:nvPr/>
        </p:nvCxnSpPr>
        <p:spPr>
          <a:xfrm flipV="1">
            <a:off x="3014280" y="5155560"/>
            <a:ext cx="67716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E8A-93F4-482A-AFDA-E966074221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dfn: given the web and a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nd the most ‘authoritative’ web pages for this quer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0: find all pages containing the query ter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E9B-D777-4EDE-97BE-93E8E380471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ep 1: expand by one move forward and backwar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295280" y="48006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819520" y="411480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40384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00400" y="49528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505320" y="3962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209680" y="4952880"/>
            <a:ext cx="228600" cy="228600"/>
          </a:xfrm>
          <a:prstGeom prst="ellipse">
            <a:avLst/>
          </a:prstGeom>
          <a:solidFill>
            <a:srgbClr val="000066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43000" y="4114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stCxn id="1106" idx="6"/>
            <a:endCxn id="1105" idx="2"/>
          </p:cNvCxnSpPr>
          <p:nvPr/>
        </p:nvCxnSpPr>
        <p:spPr>
          <a:xfrm>
            <a:off x="2370240" y="415296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109" idx="6"/>
            <a:endCxn id="1105" idx="3"/>
          </p:cNvCxnSpPr>
          <p:nvPr/>
        </p:nvCxnSpPr>
        <p:spPr>
          <a:xfrm flipV="1">
            <a:off x="2445840" y="431748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3" name=""/>
          <p:cNvCxnSpPr>
            <a:stCxn id="1109" idx="6"/>
            <a:endCxn id="1107" idx="2"/>
          </p:cNvCxnSpPr>
          <p:nvPr/>
        </p:nvCxnSpPr>
        <p:spPr>
          <a:xfrm>
            <a:off x="2445840" y="506700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4" name=""/>
          <p:cNvCxnSpPr>
            <a:stCxn id="1105" idx="6"/>
            <a:endCxn id="1108" idx="2"/>
          </p:cNvCxnSpPr>
          <p:nvPr/>
        </p:nvCxnSpPr>
        <p:spPr>
          <a:xfrm flipV="1">
            <a:off x="3056040" y="4076280"/>
            <a:ext cx="442080" cy="1533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6"/>
            <a:endCxn id="1106" idx="2"/>
          </p:cNvCxnSpPr>
          <p:nvPr/>
        </p:nvCxnSpPr>
        <p:spPr>
          <a:xfrm flipV="1">
            <a:off x="1379160" y="41529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16" name=""/>
          <p:cNvCxnSpPr>
            <a:stCxn id="1104" idx="7"/>
            <a:endCxn id="1106" idx="3"/>
          </p:cNvCxnSpPr>
          <p:nvPr/>
        </p:nvCxnSpPr>
        <p:spPr>
          <a:xfrm flipV="1">
            <a:off x="1490760" y="424116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17" name=""/>
          <p:cNvSpPr/>
          <p:nvPr/>
        </p:nvSpPr>
        <p:spPr>
          <a:xfrm>
            <a:off x="1981080" y="3429000"/>
            <a:ext cx="1143000" cy="20574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9A0-0B82-41D7-BF0F-3FB3BFF047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n the resulting graph, give high score (= ‘authorities’) to nodes that many important nodes point t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 high importance score (‘hubs’) to nodes that point to good ‘authorities’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066680" y="4800600"/>
            <a:ext cx="1828800" cy="914040"/>
            <a:chOff x="1066680" y="4800600"/>
            <a:chExt cx="1828800" cy="914040"/>
          </a:xfrm>
        </p:grpSpPr>
        <p:sp>
          <p:nvSpPr>
            <p:cNvPr id="1121" name=""/>
            <p:cNvSpPr/>
            <p:nvPr/>
          </p:nvSpPr>
          <p:spPr>
            <a:xfrm>
              <a:off x="1173960" y="542916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50000" y="491472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765800" y="48574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18920" y="554328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34200" y="480060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19440" y="5543280"/>
              <a:ext cx="161280" cy="171360"/>
            </a:xfrm>
            <a:prstGeom prst="ellipse">
              <a:avLst/>
            </a:prstGeom>
            <a:solidFill>
              <a:srgbClr val="000066"/>
            </a:solidFill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066680" y="4914720"/>
              <a:ext cx="161280" cy="17136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28" name=""/>
            <p:cNvCxnSpPr>
              <a:stCxn id="1123" idx="6"/>
              <a:endCxn id="1122" idx="2"/>
            </p:cNvCxnSpPr>
            <p:nvPr/>
          </p:nvCxnSpPr>
          <p:spPr>
            <a:xfrm>
              <a:off x="1932480" y="4942800"/>
              <a:ext cx="31176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29" name=""/>
            <p:cNvCxnSpPr>
              <a:stCxn id="1126" idx="6"/>
              <a:endCxn id="1122" idx="3"/>
            </p:cNvCxnSpPr>
            <p:nvPr/>
          </p:nvCxnSpPr>
          <p:spPr>
            <a:xfrm flipV="1">
              <a:off x="1986480" y="5066280"/>
              <a:ext cx="286920" cy="5626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0" name=""/>
            <p:cNvCxnSpPr>
              <a:stCxn id="1126" idx="6"/>
              <a:endCxn id="1124" idx="2"/>
            </p:cNvCxnSpPr>
            <p:nvPr/>
          </p:nvCxnSpPr>
          <p:spPr>
            <a:xfrm>
              <a:off x="1986120" y="5628960"/>
              <a:ext cx="527400" cy="108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1" name=""/>
            <p:cNvCxnSpPr>
              <a:stCxn id="1122" idx="6"/>
              <a:endCxn id="1125" idx="2"/>
            </p:cNvCxnSpPr>
            <p:nvPr/>
          </p:nvCxnSpPr>
          <p:spPr>
            <a:xfrm flipV="1">
              <a:off x="2416680" y="4885560"/>
              <a:ext cx="311760" cy="1152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2" name=""/>
            <p:cNvCxnSpPr>
              <a:stCxn id="1127" idx="6"/>
              <a:endCxn id="1123" idx="2"/>
            </p:cNvCxnSpPr>
            <p:nvPr/>
          </p:nvCxnSpPr>
          <p:spPr>
            <a:xfrm flipV="1">
              <a:off x="1233000" y="4942440"/>
              <a:ext cx="527400" cy="579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33" name=""/>
            <p:cNvCxnSpPr>
              <a:stCxn id="1121" idx="7"/>
              <a:endCxn id="1123" idx="3"/>
            </p:cNvCxnSpPr>
            <p:nvPr/>
          </p:nvCxnSpPr>
          <p:spPr>
            <a:xfrm flipV="1">
              <a:off x="1311480" y="5009400"/>
              <a:ext cx="477720" cy="4388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1134" name=""/>
          <p:cNvSpPr/>
          <p:nvPr/>
        </p:nvSpPr>
        <p:spPr>
          <a:xfrm>
            <a:off x="4419720" y="53341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181480" y="533412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181480" y="480060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05520" y="57913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419720" y="57150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343400" y="491508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4" idx="6"/>
            <a:endCxn id="1135" idx="2"/>
          </p:cNvCxnSpPr>
          <p:nvPr/>
        </p:nvCxnSpPr>
        <p:spPr>
          <a:xfrm>
            <a:off x="4587480" y="5419440"/>
            <a:ext cx="58644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8" idx="6"/>
            <a:endCxn id="1135" idx="3"/>
          </p:cNvCxnSpPr>
          <p:nvPr/>
        </p:nvCxnSpPr>
        <p:spPr>
          <a:xfrm flipV="1">
            <a:off x="4589640" y="5487120"/>
            <a:ext cx="615960" cy="31356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2" name=""/>
          <p:cNvCxnSpPr>
            <a:stCxn id="1138" idx="6"/>
            <a:endCxn id="1137" idx="2"/>
          </p:cNvCxnSpPr>
          <p:nvPr/>
        </p:nvCxnSpPr>
        <p:spPr>
          <a:xfrm>
            <a:off x="4589280" y="5800680"/>
            <a:ext cx="5086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3" name=""/>
          <p:cNvCxnSpPr>
            <a:stCxn id="1139" idx="6"/>
            <a:endCxn id="1136" idx="2"/>
          </p:cNvCxnSpPr>
          <p:nvPr/>
        </p:nvCxnSpPr>
        <p:spPr>
          <a:xfrm flipV="1">
            <a:off x="4513320" y="4885920"/>
            <a:ext cx="660600" cy="115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44" name=""/>
          <p:cNvCxnSpPr>
            <a:stCxn id="1134" idx="7"/>
            <a:endCxn id="1136" idx="3"/>
          </p:cNvCxnSpPr>
          <p:nvPr/>
        </p:nvCxnSpPr>
        <p:spPr>
          <a:xfrm flipV="1">
            <a:off x="4555800" y="4954320"/>
            <a:ext cx="649800" cy="397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45" name=""/>
          <p:cNvSpPr/>
          <p:nvPr/>
        </p:nvSpPr>
        <p:spPr>
          <a:xfrm>
            <a:off x="3383640" y="530316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ub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530316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uthorit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3200400" y="4648320"/>
            <a:ext cx="0" cy="1676160"/>
          </a:xfrm>
          <a:prstGeom prst="line">
            <a:avLst/>
          </a:prstGeom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243-A40C-4673-A9B3-0B2EAED640C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blem #1: text - LSI: find ‘concepts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14400" y="2554200"/>
            <a:ext cx="738648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E7C-D9CD-489D-B401-F0032C7D7D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bserv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ursive definition!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ach node (say, ‘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’-th node) has both an authoritative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a hubness scor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477-7C24-4041-A7C7-9A39DB03791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set of edges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: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e (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is 1 if the edge from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exis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 [n x 1] vectors with the ‘hubness’ and ‘authoritativiness’ scores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5AF1-3972-4EE1-BAEC-CBE741B37BD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l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,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174680" y="3676680"/>
            <a:ext cx="16056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66680" y="3162240"/>
            <a:ext cx="1620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58" name=""/>
          <p:cNvCxnSpPr>
            <a:stCxn id="1157" idx="6"/>
            <a:endCxn id="1155" idx="2"/>
          </p:cNvCxnSpPr>
          <p:nvPr/>
        </p:nvCxnSpPr>
        <p:spPr>
          <a:xfrm flipV="1">
            <a:off x="1233360" y="3190680"/>
            <a:ext cx="527760" cy="576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59" name=""/>
          <p:cNvCxnSpPr>
            <a:stCxn id="1154" idx="7"/>
            <a:endCxn id="1155" idx="3"/>
          </p:cNvCxnSpPr>
          <p:nvPr/>
        </p:nvCxnSpPr>
        <p:spPr>
          <a:xfrm flipV="1">
            <a:off x="1312560" y="3256920"/>
            <a:ext cx="477000" cy="4388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60" name=""/>
          <p:cNvCxnSpPr>
            <a:stCxn id="1156" idx="5"/>
            <a:endCxn id="1155" idx="1"/>
          </p:cNvCxnSpPr>
          <p:nvPr/>
        </p:nvCxnSpPr>
        <p:spPr>
          <a:xfrm>
            <a:off x="1128240" y="2897280"/>
            <a:ext cx="661320" cy="226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161" name=""/>
          <p:cNvSpPr/>
          <p:nvPr/>
        </p:nvSpPr>
        <p:spPr>
          <a:xfrm>
            <a:off x="353880" y="2636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7160" y="31694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09840" y="37029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070000" y="301716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5CB-A011-4A8C-A22F-8192A02A88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5638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ymmetrically, for the ‘hubness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=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 + a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Sum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q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    over al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i,j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edge exis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600200" y="3733920"/>
            <a:ext cx="16020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765440" y="3105000"/>
            <a:ext cx="16164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90720" y="2743200"/>
            <a:ext cx="161640" cy="17136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00200" y="2209680"/>
            <a:ext cx="162000" cy="17172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11120" y="274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019240" y="213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08160" y="3733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320" y="2133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5" name=""/>
          <p:cNvCxnSpPr>
            <a:stCxn id="1169" idx="7"/>
            <a:endCxn id="1170" idx="2"/>
          </p:cNvCxnSpPr>
          <p:nvPr/>
        </p:nvCxnSpPr>
        <p:spPr>
          <a:xfrm flipV="1">
            <a:off x="1128600" y="2294640"/>
            <a:ext cx="464400" cy="4662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6" name=""/>
          <p:cNvCxnSpPr>
            <a:stCxn id="1169" idx="6"/>
            <a:endCxn id="1168" idx="2"/>
          </p:cNvCxnSpPr>
          <p:nvPr/>
        </p:nvCxnSpPr>
        <p:spPr>
          <a:xfrm>
            <a:off x="1160640" y="2828880"/>
            <a:ext cx="597600" cy="36252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7" name=""/>
          <p:cNvCxnSpPr>
            <a:stCxn id="1169" idx="4"/>
            <a:endCxn id="1167" idx="1"/>
          </p:cNvCxnSpPr>
          <p:nvPr/>
        </p:nvCxnSpPr>
        <p:spPr>
          <a:xfrm>
            <a:off x="1071720" y="2922480"/>
            <a:ext cx="552960" cy="8294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B28-BA9B-4B60-8730-EAFB01589E2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conclusion, we want vector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uch that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call properties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2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m]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[m x 1]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[n x 1]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(3)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u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 =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</a:t>
            </a:r>
            <a:r>
              <a:rPr b="1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08660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543800" y="2895480"/>
            <a:ext cx="60948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8381880" y="2895480"/>
            <a:ext cx="76320" cy="6098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164720" y="288612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984-EB8C-43BF-954F-4CB1CA971B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short, the solutions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re the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left- and right- singular-vecto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adjacency matrix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ing from rando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a’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nd iterating, we’ll eventually conver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7200" y="1905120"/>
            <a:ext cx="8229600" cy="41907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64A-E0CC-486F-9C56-6CA06280178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Q: to which of all the singular-vectors? why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: to the ones of the strongest singular-value, because of property B(5)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(5): (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)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k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v’ ~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constant)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v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63C-FFE5-493F-A354-30DADA5581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resul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g., for the query ‘java’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328 www.gamela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251 java.sun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0.190 www.digitalfocus.com (“the java developer”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FDB8-5EE9-48F2-8FA3-D0B1DBC442F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Kleinberg’s algorithm - discuss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uthority’ score can be used to find ‘similar pages’ (how?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981-8C69-4F6D-B595-3F24EE03649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detailed 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lexit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VD propert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ase studi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Kleinberg’s algorithm (HITS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Google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04920" y="4419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F8F-7443-48C5-B1C5-F68EAE8D34B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SVD - Motivation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ustomer-product, for recommendation system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18000" y="3429000"/>
          <a:ext cx="2065320" cy="257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8000" y="3429000"/>
                    <a:ext cx="206532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54168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293440" y="3352680"/>
            <a:ext cx="228600" cy="2590920"/>
          </a:xfrm>
          <a:custGeom>
            <a:avLst/>
            <a:gdLst/>
            <a:ahLst/>
            <a:rect l="l" t="t" r="r" b="b"/>
            <a:pathLst>
              <a:path w="264" h="2220">
                <a:moveTo>
                  <a:pt x="264" y="0"/>
                </a:moveTo>
                <a:lnTo>
                  <a:pt x="0" y="12"/>
                </a:lnTo>
                <a:lnTo>
                  <a:pt x="0" y="2220"/>
                </a:lnTo>
                <a:lnTo>
                  <a:pt x="228" y="2220"/>
                </a:lnTo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750600">
            <a:off x="3414600" y="2637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660000">
            <a:off x="3791880" y="25441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lettu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8730200">
            <a:off x="4745520" y="2740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ee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08160" y="3352680"/>
            <a:ext cx="0" cy="53352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64480" y="38854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vegetaria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96160" y="5257080"/>
            <a:ext cx="19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eat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at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08160" y="441972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08160" y="4876920"/>
            <a:ext cx="0" cy="4572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08160" y="5715000"/>
            <a:ext cx="0" cy="228600"/>
          </a:xfrm>
          <a:prstGeom prst="line">
            <a:avLst/>
          </a:prstGeom>
          <a:ln w="15840">
            <a:solidFill>
              <a:srgbClr val="00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8660000">
            <a:off x="4089600" y="2504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tomat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8730200">
            <a:off x="4972320" y="2571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hic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B5EE-F7DF-48D1-8830-59E122435A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ageRank (google)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197" name="Rectangle 3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124440" cy="216396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3886200" y="2362320"/>
            <a:ext cx="4952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rin, Sergey and Lawrence Page (1998).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Anatomy of a Large-Scale Hypertextual Web Search Engin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 7th Intl World Wide Web Conf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56040" y="4943520"/>
            <a:ext cx="9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ar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982880" y="4952880"/>
            <a:ext cx="116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rgey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r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61B-55EA-4352-B800-62EFB5C421B0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Problem: PageRan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636440" y="4035600"/>
            <a:ext cx="36493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is important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important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11" name=""/>
          <p:cNvCxnSpPr>
            <a:stCxn id="1206" idx="6"/>
            <a:endCxn id="1205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2" name=""/>
          <p:cNvCxnSpPr>
            <a:stCxn id="1209" idx="6"/>
            <a:endCxn id="1205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3" name=""/>
          <p:cNvCxnSpPr>
            <a:stCxn id="1209" idx="6"/>
            <a:endCxn id="1207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14" name=""/>
          <p:cNvCxnSpPr>
            <a:stCxn id="1205" idx="6"/>
            <a:endCxn id="1208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15" name=""/>
          <p:cNvCxnSpPr>
            <a:stCxn id="1210" idx="6"/>
            <a:endCxn id="1206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6" name=""/>
          <p:cNvCxnSpPr>
            <a:stCxn id="1204" idx="7"/>
            <a:endCxn id="1206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stCxn id="1209" idx="0"/>
            <a:endCxn id="1206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DC2-4E07-4ADE-8AC3-333648E996F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roblem: PageRank -  solu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Given a directed graph, find its most interesting/central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posed solution: Random walk; spot most ‘popular’ node (-&gt; steady state prob. (ssp)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95280" y="51055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81952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133720" y="43434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0040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505320" y="426708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209680" y="525780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143000" y="4419720"/>
            <a:ext cx="228600" cy="228600"/>
          </a:xfrm>
          <a:prstGeom prst="ellipse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227" name=""/>
          <p:cNvCxnSpPr>
            <a:stCxn id="1222" idx="6"/>
            <a:endCxn id="1221" idx="2"/>
          </p:cNvCxnSpPr>
          <p:nvPr/>
        </p:nvCxnSpPr>
        <p:spPr>
          <a:xfrm>
            <a:off x="2370240" y="4457520"/>
            <a:ext cx="44208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28" name=""/>
          <p:cNvCxnSpPr>
            <a:stCxn id="1225" idx="6"/>
            <a:endCxn id="1221" idx="3"/>
          </p:cNvCxnSpPr>
          <p:nvPr/>
        </p:nvCxnSpPr>
        <p:spPr>
          <a:xfrm flipV="1">
            <a:off x="2445840" y="4622400"/>
            <a:ext cx="407160" cy="75024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29" name=""/>
          <p:cNvCxnSpPr>
            <a:stCxn id="1225" idx="6"/>
            <a:endCxn id="1223" idx="2"/>
          </p:cNvCxnSpPr>
          <p:nvPr/>
        </p:nvCxnSpPr>
        <p:spPr>
          <a:xfrm>
            <a:off x="2445840" y="5371920"/>
            <a:ext cx="747000" cy="10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triangle" w="med"/>
          </a:ln>
        </p:spPr>
      </p:cxnSp>
      <p:cxnSp>
        <p:nvCxnSpPr>
          <p:cNvPr id="1230" name=""/>
          <p:cNvCxnSpPr>
            <a:stCxn id="1221" idx="6"/>
            <a:endCxn id="1224" idx="2"/>
          </p:cNvCxnSpPr>
          <p:nvPr/>
        </p:nvCxnSpPr>
        <p:spPr>
          <a:xfrm flipV="1">
            <a:off x="3056040" y="4380840"/>
            <a:ext cx="442080" cy="153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1231" name=""/>
          <p:cNvCxnSpPr>
            <a:stCxn id="1226" idx="6"/>
            <a:endCxn id="1222" idx="2"/>
          </p:cNvCxnSpPr>
          <p:nvPr/>
        </p:nvCxnSpPr>
        <p:spPr>
          <a:xfrm flipV="1">
            <a:off x="1379160" y="4457160"/>
            <a:ext cx="747000" cy="7668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2" name=""/>
          <p:cNvCxnSpPr>
            <a:stCxn id="1220" idx="7"/>
            <a:endCxn id="1222" idx="3"/>
          </p:cNvCxnSpPr>
          <p:nvPr/>
        </p:nvCxnSpPr>
        <p:spPr>
          <a:xfrm flipV="1">
            <a:off x="1490760" y="4545720"/>
            <a:ext cx="676800" cy="585000"/>
          </a:xfrm>
          <a:prstGeom prst="straightConnector1">
            <a:avLst/>
          </a:prstGeom>
          <a:ln w="1584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25" idx="0"/>
            <a:endCxn id="1222" idx="4"/>
          </p:cNvCxnSpPr>
          <p:nvPr/>
        </p:nvCxnSpPr>
        <p:spPr>
          <a:xfrm flipH="1" flipV="1">
            <a:off x="2247840" y="4579200"/>
            <a:ext cx="76680" cy="6706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234" name=""/>
          <p:cNvSpPr/>
          <p:nvPr/>
        </p:nvSpPr>
        <p:spPr>
          <a:xfrm>
            <a:off x="4636440" y="4046400"/>
            <a:ext cx="35733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 node has hig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it is connected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high ss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nod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recursive, but OK!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BCB-FBD3-478A-827F-94DC74BF37CC}" type="slidenum">
              <a:t>9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e the adjacency matrix;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et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be the transition matrix: transpose,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- 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38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39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244" name=""/>
              <p:cNvCxnSpPr>
                <a:stCxn id="1241" idx="6"/>
                <a:endCxn id="1240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5" name=""/>
              <p:cNvCxnSpPr>
                <a:stCxn id="1242" idx="6"/>
                <a:endCxn id="1240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6" name=""/>
              <p:cNvCxnSpPr>
                <a:stCxn id="1243" idx="6"/>
                <a:endCxn id="1241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7" name=""/>
              <p:cNvCxnSpPr>
                <a:stCxn id="1239" idx="7"/>
                <a:endCxn id="1241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8" name=""/>
              <p:cNvCxnSpPr>
                <a:stCxn id="1242" idx="2"/>
                <a:endCxn id="1239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49" name=""/>
              <p:cNvCxnSpPr>
                <a:stCxn id="1240" idx="0"/>
                <a:endCxn id="1243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250" name=""/>
              <p:cNvCxnSpPr>
                <a:stCxn id="1241" idx="5"/>
                <a:endCxn id="1242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251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6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59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62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64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65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7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2772360" y="3353040"/>
            <a:ext cx="69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55840" y="3002040"/>
            <a:ext cx="8449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819520" y="3276720"/>
            <a:ext cx="533160" cy="228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439160" y="3170520"/>
            <a:ext cx="419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66E6-1EDE-4608-9D5E-D527A3E1295F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58128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H="1">
            <a:off x="6019200" y="3581280"/>
            <a:ext cx="228600" cy="2438640"/>
          </a:xfrm>
          <a:custGeom>
            <a:avLst/>
            <a:gdLst/>
            <a:ahLst/>
            <a:rect l="l" t="t" r="r" b="b"/>
            <a:pathLst>
              <a:path w="144" h="1536">
                <a:moveTo>
                  <a:pt x="144" y="0"/>
                </a:moveTo>
                <a:lnTo>
                  <a:pt x="0" y="0"/>
                </a:lnTo>
                <a:lnTo>
                  <a:pt x="0" y="1536"/>
                </a:lnTo>
                <a:lnTo>
                  <a:pt x="96" y="1536"/>
                </a:lnTo>
              </a:path>
            </a:pathLst>
          </a:custGeom>
          <a:noFill/>
          <a:ln w="158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6400800" y="3581280"/>
            <a:ext cx="685440" cy="2438280"/>
            <a:chOff x="6400800" y="3581280"/>
            <a:chExt cx="685440" cy="2438280"/>
          </a:xfrm>
        </p:grpSpPr>
        <p:sp>
          <p:nvSpPr>
            <p:cNvPr id="1281" name=""/>
            <p:cNvSpPr/>
            <p:nvPr/>
          </p:nvSpPr>
          <p:spPr>
            <a:xfrm>
              <a:off x="640080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857280" y="3581280"/>
              <a:ext cx="228600" cy="2438280"/>
            </a:xfrm>
            <a:custGeom>
              <a:avLst/>
              <a:gdLst/>
              <a:ahLst/>
              <a:rect l="l" t="t" r="r" b="b"/>
              <a:pathLst>
                <a:path w="144" h="1536">
                  <a:moveTo>
                    <a:pt x="144" y="0"/>
                  </a:moveTo>
                  <a:lnTo>
                    <a:pt x="0" y="0"/>
                  </a:lnTo>
                  <a:lnTo>
                    <a:pt x="0" y="1536"/>
                  </a:lnTo>
                  <a:lnTo>
                    <a:pt x="96" y="1536"/>
                  </a:lnTo>
                </a:path>
              </a:pathLst>
            </a:custGeom>
            <a:noFill/>
            <a:ln w="158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7696080" y="3581280"/>
            <a:ext cx="990360" cy="2438280"/>
            <a:chOff x="7696080" y="3581280"/>
            <a:chExt cx="990360" cy="2438280"/>
          </a:xfrm>
        </p:grpSpPr>
        <p:graphicFrame>
          <p:nvGraphicFramePr>
            <p:cNvPr id="1284" name=""/>
            <p:cNvGraphicFramePr/>
            <p:nvPr/>
          </p:nvGraphicFramePr>
          <p:xfrm>
            <a:off x="7696080" y="3657240"/>
            <a:ext cx="893880" cy="2286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6080" y="3657240"/>
                      <a:ext cx="893880" cy="228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86" name=""/>
            <p:cNvGrpSpPr/>
            <p:nvPr/>
          </p:nvGrpSpPr>
          <p:grpSpPr>
            <a:xfrm>
              <a:off x="8001000" y="3581280"/>
              <a:ext cx="685440" cy="2438280"/>
              <a:chOff x="8001000" y="3581280"/>
              <a:chExt cx="685440" cy="2438280"/>
            </a:xfrm>
          </p:grpSpPr>
          <p:sp>
            <p:nvSpPr>
              <p:cNvPr id="1287" name=""/>
              <p:cNvSpPr/>
              <p:nvPr/>
            </p:nvSpPr>
            <p:spPr>
              <a:xfrm>
                <a:off x="800100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8457480" y="3581280"/>
                <a:ext cx="228600" cy="2438280"/>
              </a:xfrm>
              <a:custGeom>
                <a:avLst/>
                <a:gdLst/>
                <a:ahLst/>
                <a:rect l="l" t="t" r="r" b="b"/>
                <a:pathLst>
                  <a:path w="144" h="1536">
                    <a:moveTo>
                      <a:pt x="144" y="0"/>
                    </a:moveTo>
                    <a:lnTo>
                      <a:pt x="0" y="0"/>
                    </a:lnTo>
                    <a:lnTo>
                      <a:pt x="0" y="1536"/>
                    </a:lnTo>
                    <a:lnTo>
                      <a:pt x="96" y="1536"/>
                    </a:lnTo>
                  </a:path>
                </a:pathLst>
              </a:custGeom>
              <a:noFill/>
              <a:ln w="158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9" name=""/>
          <p:cNvGraphicFramePr/>
          <p:nvPr/>
        </p:nvGraphicFramePr>
        <p:xfrm>
          <a:off x="6172200" y="3657600"/>
          <a:ext cx="893880" cy="2286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657600"/>
                    <a:ext cx="893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"/>
          <p:cNvSpPr/>
          <p:nvPr/>
        </p:nvSpPr>
        <p:spPr>
          <a:xfrm>
            <a:off x="7199640" y="4389840"/>
            <a:ext cx="3834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722120" y="2743560"/>
            <a:ext cx="37587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                     p    =      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525840" y="3676680"/>
          <a:ext cx="2797200" cy="2438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25840" y="3676680"/>
                    <a:ext cx="27972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95" name=""/>
          <p:cNvGrpSpPr/>
          <p:nvPr/>
        </p:nvGrpSpPr>
        <p:grpSpPr>
          <a:xfrm>
            <a:off x="413640" y="3681360"/>
            <a:ext cx="2658960" cy="2269080"/>
            <a:chOff x="413640" y="3681360"/>
            <a:chExt cx="2658960" cy="2269080"/>
          </a:xfrm>
        </p:grpSpPr>
        <p:grpSp>
          <p:nvGrpSpPr>
            <p:cNvPr id="1296" name=""/>
            <p:cNvGrpSpPr/>
            <p:nvPr/>
          </p:nvGrpSpPr>
          <p:grpSpPr>
            <a:xfrm>
              <a:off x="457200" y="3681360"/>
              <a:ext cx="2513880" cy="2108520"/>
              <a:chOff x="457200" y="3681360"/>
              <a:chExt cx="2513880" cy="2108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658800" y="5205960"/>
                <a:ext cx="29952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66832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762920" y="403848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864080" y="5439240"/>
                <a:ext cx="302760" cy="35064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57200" y="4155120"/>
                <a:ext cx="302760" cy="349920"/>
              </a:xfrm>
              <a:prstGeom prst="ellipse">
                <a:avLst/>
              </a:prstGeom>
              <a:noFill/>
              <a:ln w="158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48680" rIns="148680" tIns="74160" bIns="7416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302" name=""/>
              <p:cNvCxnSpPr>
                <a:stCxn id="1299" idx="6"/>
                <a:endCxn id="1298" idx="2"/>
              </p:cNvCxnSpPr>
              <p:nvPr/>
            </p:nvCxnSpPr>
            <p:spPr>
              <a:xfrm>
                <a:off x="2077560" y="4214160"/>
                <a:ext cx="58212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3" name=""/>
              <p:cNvCxnSpPr>
                <a:stCxn id="1300" idx="6"/>
                <a:endCxn id="1298" idx="3"/>
              </p:cNvCxnSpPr>
              <p:nvPr/>
            </p:nvCxnSpPr>
            <p:spPr>
              <a:xfrm flipV="1">
                <a:off x="2179080" y="4466880"/>
                <a:ext cx="534240" cy="11480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4" name=""/>
              <p:cNvCxnSpPr>
                <a:stCxn id="1301" idx="6"/>
                <a:endCxn id="1299" idx="2"/>
              </p:cNvCxnSpPr>
              <p:nvPr/>
            </p:nvCxnSpPr>
            <p:spPr>
              <a:xfrm flipV="1">
                <a:off x="768240" y="4213800"/>
                <a:ext cx="986040" cy="116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5" name=""/>
              <p:cNvCxnSpPr>
                <a:stCxn id="1297" idx="7"/>
                <a:endCxn id="1299" idx="3"/>
              </p:cNvCxnSpPr>
              <p:nvPr/>
            </p:nvCxnSpPr>
            <p:spPr>
              <a:xfrm flipV="1">
                <a:off x="917640" y="4349880"/>
                <a:ext cx="890640" cy="89568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0" idx="2"/>
                <a:endCxn id="1297" idx="6"/>
              </p:cNvCxnSpPr>
              <p:nvPr/>
            </p:nvCxnSpPr>
            <p:spPr>
              <a:xfrm flipH="1" flipV="1">
                <a:off x="973080" y="5380560"/>
                <a:ext cx="876240" cy="23436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7" name=""/>
              <p:cNvCxnSpPr>
                <a:stCxn id="1298" idx="0"/>
                <a:endCxn id="1301" idx="1"/>
              </p:cNvCxnSpPr>
              <p:nvPr/>
            </p:nvCxnSpPr>
            <p:spPr>
              <a:xfrm rot="5400000">
                <a:off x="1633680" y="3004920"/>
                <a:ext cx="52920" cy="2318760"/>
              </a:xfrm>
              <a:prstGeom prst="curvedConnector5">
                <a:avLst>
                  <a:gd name="adj1" fmla="val -868493"/>
                  <a:gd name="adj2" fmla="val 50000"/>
                  <a:gd name="adj3" fmla="val -868493"/>
                </a:avLst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1308" name=""/>
              <p:cNvCxnSpPr>
                <a:stCxn id="1299" idx="5"/>
                <a:endCxn id="1300" idx="0"/>
              </p:cNvCxnSpPr>
              <p:nvPr/>
            </p:nvCxnSpPr>
            <p:spPr>
              <a:xfrm flipH="1">
                <a:off x="2014920" y="4353120"/>
                <a:ext cx="6480" cy="1070640"/>
              </a:xfrm>
              <a:prstGeom prst="straightConnector1">
                <a:avLst/>
              </a:prstGeom>
              <a:ln w="1584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  <p:sp>
          <p:nvSpPr>
            <p:cNvPr id="1309" name=""/>
            <p:cNvSpPr/>
            <p:nvPr/>
          </p:nvSpPr>
          <p:spPr>
            <a:xfrm>
              <a:off x="41364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09280" y="394128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23680" y="409356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13800" y="513000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85240" y="5388840"/>
              <a:ext cx="44892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5000" rIns="135000" tIns="67320" bIns="6732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AC7-366D-499E-B60D-53E0ED0AA51D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Definition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djacency matrix (from-to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gree matrix = (diag ( d1, d2, …, dn) 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ransition matrix: to-from, column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ormaliz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= A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D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48E-E96E-4AAF-B4B9-0B1F69B6ADCB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 p =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 *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us,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s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hat corresponds to the highest eigenvalu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=1, since the matrix is column-normalized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 does such a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ist?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xists if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s nxn, nonnegative, irreducible [Perron–Frobenius theorem]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FFD-A79B-48B4-9E43-67C5E2A0DB71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(Simplified) PageRank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 short: imagine a particle randomly moving along the edg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ompute its steady-state probabilities (ssp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ull version of algo:  with occasional random jum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hy? To make the matrix irreduc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51B-E5B9-4354-AA07-A23BE93EE08D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Full Algorithm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ith probabilit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1-c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, fly-out to a random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, we hav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+ 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=&g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 =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(1-c)/n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 -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B] </a:t>
            </a:r>
            <a:r>
              <a:rPr b="0" lang="en-US" sz="2800" spc="-1" strike="noStrike" baseline="30000">
                <a:solidFill>
                  <a:srgbClr val="000066"/>
                </a:solidFill>
                <a:latin typeface="Times New Roman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295280" y="4724280"/>
            <a:ext cx="15264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971800" y="4724280"/>
            <a:ext cx="1143000" cy="106704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648320" y="4724280"/>
            <a:ext cx="152280" cy="11430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5943600" y="2766960"/>
            <a:ext cx="2513880" cy="2109240"/>
            <a:chOff x="5943600" y="2766960"/>
            <a:chExt cx="2513880" cy="2109240"/>
          </a:xfrm>
        </p:grpSpPr>
        <p:sp>
          <p:nvSpPr>
            <p:cNvPr id="1326" name=""/>
            <p:cNvSpPr/>
            <p:nvPr/>
          </p:nvSpPr>
          <p:spPr>
            <a:xfrm>
              <a:off x="6145200" y="4292280"/>
              <a:ext cx="29952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15472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49320" y="312408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350480" y="4525560"/>
              <a:ext cx="302760" cy="35064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43600" y="3240720"/>
              <a:ext cx="302760" cy="349920"/>
            </a:xfrm>
            <a:prstGeom prst="ellipse">
              <a:avLst/>
            </a:prstGeom>
            <a:noFill/>
            <a:ln w="158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31" name=""/>
            <p:cNvCxnSpPr>
              <a:stCxn id="1328" idx="6"/>
              <a:endCxn id="1327" idx="2"/>
            </p:cNvCxnSpPr>
            <p:nvPr/>
          </p:nvCxnSpPr>
          <p:spPr>
            <a:xfrm>
              <a:off x="7563960" y="3299760"/>
              <a:ext cx="58212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2" name=""/>
            <p:cNvCxnSpPr>
              <a:stCxn id="1329" idx="6"/>
              <a:endCxn id="1327" idx="3"/>
            </p:cNvCxnSpPr>
            <p:nvPr/>
          </p:nvCxnSpPr>
          <p:spPr>
            <a:xfrm flipV="1">
              <a:off x="7665480" y="3552480"/>
              <a:ext cx="534240" cy="114912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3" name=""/>
            <p:cNvCxnSpPr>
              <a:stCxn id="1330" idx="6"/>
              <a:endCxn id="1328" idx="2"/>
            </p:cNvCxnSpPr>
            <p:nvPr/>
          </p:nvCxnSpPr>
          <p:spPr>
            <a:xfrm flipV="1">
              <a:off x="6254640" y="3299400"/>
              <a:ext cx="986040" cy="1166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4" name=""/>
            <p:cNvCxnSpPr>
              <a:stCxn id="1326" idx="7"/>
              <a:endCxn id="1328" idx="3"/>
            </p:cNvCxnSpPr>
            <p:nvPr/>
          </p:nvCxnSpPr>
          <p:spPr>
            <a:xfrm flipV="1">
              <a:off x="6404040" y="3435120"/>
              <a:ext cx="890640" cy="89604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5" name=""/>
            <p:cNvCxnSpPr>
              <a:stCxn id="1329" idx="2"/>
              <a:endCxn id="1326" idx="6"/>
            </p:cNvCxnSpPr>
            <p:nvPr/>
          </p:nvCxnSpPr>
          <p:spPr>
            <a:xfrm flipH="1" flipV="1">
              <a:off x="6459480" y="4466520"/>
              <a:ext cx="876240" cy="23436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6" name=""/>
            <p:cNvCxnSpPr>
              <a:stCxn id="1327" idx="0"/>
              <a:endCxn id="1330" idx="1"/>
            </p:cNvCxnSpPr>
            <p:nvPr/>
          </p:nvCxnSpPr>
          <p:spPr>
            <a:xfrm rot="5400000">
              <a:off x="7120080" y="2090520"/>
              <a:ext cx="52920" cy="2318760"/>
            </a:xfrm>
            <a:prstGeom prst="curvedConnector5">
              <a:avLst>
                <a:gd name="adj1" fmla="val -868493"/>
                <a:gd name="adj2" fmla="val 50000"/>
                <a:gd name="adj3" fmla="val -868493"/>
              </a:avLst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337" name=""/>
            <p:cNvCxnSpPr>
              <a:stCxn id="1328" idx="5"/>
              <a:endCxn id="1329" idx="0"/>
            </p:cNvCxnSpPr>
            <p:nvPr/>
          </p:nvCxnSpPr>
          <p:spPr>
            <a:xfrm flipH="1">
              <a:off x="7501320" y="3438360"/>
              <a:ext cx="6480" cy="1071000"/>
            </a:xfrm>
            <a:prstGeom prst="straightConnector1">
              <a:avLst/>
            </a:prstGeom>
            <a:ln w="1584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553-7597-49CE-95AB-3C7541DCF9CE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lternative notation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dified transition matrix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c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(1-c)/n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e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at is: the steady state probabilities =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geRank scores form th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first eigenvecto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of the ‘modified transition matrix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071-CB46-4FCC-B490-CCED17F8938F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4:17:22Z</dcterms:created>
  <dc:creator>Christos Faloutsos</dc:creator>
  <dc:description/>
  <dc:language>en-US</dc:language>
  <cp:lastModifiedBy>christos</cp:lastModifiedBy>
  <cp:lastPrinted>2000-02-27T03:36:14Z</cp:lastPrinted>
  <dcterms:modified xsi:type="dcterms:W3CDTF">2009-06-05T16:08:15Z</dcterms:modified>
  <cp:revision>680</cp:revision>
  <dc:subject>Task 1: importance</dc:subject>
  <dc:title>KDD'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hristos@cs.cmu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WINDOWS\DESKTOP\junk\salerno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