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C3469F-B52A-42DC-B494-8424857D5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Header Placeholder 1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 et al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Date Placeholder 2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927FD02-9312-4F8F-8F3D-4849842C3F2A}" type="datetime">
              <a:rPr b="0" lang="en-US" sz="1300" spc="-1" strike="noStrike">
                <a:solidFill>
                  <a:srgbClr val="000066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0A9DB717-71C4-44BD-AC13-3D9BE56B48C1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74880" y="6114600"/>
            <a:ext cx="2574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Header Placeholder 1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 et al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Date Placeholder 2"/>
          <p:cNvSpPr/>
          <p:nvPr/>
        </p:nvSpPr>
        <p:spPr>
          <a:xfrm>
            <a:off x="4143240" y="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94153455-0761-4AA4-9B32-6F9F98F60BBA}" type="datetime">
              <a:rPr b="0" lang="en-US" sz="1300" spc="-1" strike="noStrike">
                <a:solidFill>
                  <a:srgbClr val="000066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Slide Number Placeholder 6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62FC149-55E5-4E67-A3F8-28B9CCACCF58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6114600"/>
            <a:ext cx="2574720" cy="12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DC2-BA2E-448E-B997-7836BC16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3E9-BDDD-47A4-B83C-5B152BFE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512-4A0B-4646-A619-8243284D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E0F-541B-41C2-8853-070A4717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6B88-F8AE-49C0-8E55-19EFE99F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8AFF-586A-478E-BC04-BD9B090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2ADB-6DC1-4521-BD36-6562E757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0E40-B165-4A02-9015-DFEEE768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29E0-7BB9-4F15-A2F1-78668090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AADB-5243-4791-8261-9E964ED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3D30-81CD-45D8-B2CA-6950BFB5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0F5-8EA9-49AB-9018-723A13EE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8764-9F22-43B8-A839-378F14C6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DF05-1E6B-42D6-95FC-4467F85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3248-AA8A-4E30-97E6-A5665F88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DB83-453D-4ED9-A665-02471812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E0A-C3A0-405C-B727-E20AB76E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241F6-AC1C-41E4-BEC6-58B5C650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61E1-B2F6-4A7A-A190-20900BE7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AFF5-6498-4387-89C9-0D1F92F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1593-0062-4094-A432-008FE66A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AC70-8E36-4006-AEFD-E7D3A423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F16-24FD-4101-8FA0-6074A8C9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B05EF-37A5-4CBF-A681-DBC7F95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DA1C-FB18-465F-AE62-D4AF2033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0053-9A52-498E-B73F-B9CB14C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DE50-FC5D-4C20-B8FE-CA7C4361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37047-30F4-4332-9229-8AF078EA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D9F6-3AAD-42E8-A85E-27158E75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16E9-1AF0-4393-A2A6-7D546521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45A0-B2C8-489A-A62F-D6AB77F1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23638-D954-405B-A705-0F99B925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2F797-59FF-4D4E-8898-21F83E9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D317-93E7-4452-A32A-673C85E4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BC2D4-66DD-49EB-A100-58E9B88A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4A52-CD6E-4BC5-BD50-1AB9C6EB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09E7B-BCFF-4D83-A102-35F04E5E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7E2B-54E8-486E-AA8B-652E59C1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3942A-E8BC-4505-834B-8675251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4B410-2C29-4AC2-AD53-258A98F7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1F5EA-F777-4F96-9E13-686B2F78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9679-9552-487D-920C-E4A31135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20A7-DC6A-4C3F-85E6-5666E63C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F36-7EBA-40B8-A786-07A48EC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505-FAF1-4A6B-A83B-BE705949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7E28-5967-4E5D-B652-43302EE1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CD3-E28B-4106-8BC3-624C237B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9BC-72A5-4A29-8C13-33EF1FA6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-</a:t>
            </a:r>
            <a:fld id="{D3E7885A-93BC-4250-9700-1372C164BF1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8-</a:t>
            </a:r>
            <a:fld id="{F3109651-0CFC-456D-BFBD-488BCB14F0C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6399494A-28C8-4197-97A5-8770DA043D9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A2E39391-403B-4296-9A5F-EB4FDB283EB0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hadoop.apache.org/core/" TargetMode="External"/><Relationship Id="rId2" Type="http://schemas.openxmlformats.org/officeDocument/2006/relationships/hyperlink" Target="http://hadoop.apache.org/pig/" TargetMode="External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abs.google.com/people/jeff/" TargetMode="External"/><Relationship Id="rId2" Type="http://schemas.openxmlformats.org/officeDocument/2006/relationships/hyperlink" Target="http://labs.google.com/people/sanjay/" TargetMode="External"/><Relationship Id="rId3" Type="http://schemas.openxmlformats.org/officeDocument/2006/relationships/hyperlink" Target="http://labs.google.com/people/sanjay/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adoop.apache.org/" TargetMode="External"/><Relationship Id="rId2" Type="http://schemas.openxmlformats.org/officeDocument/2006/relationships/hyperlink" Target="http://hadoop.apache.org/" TargetMode="External"/><Relationship Id="rId3" Type="http://schemas.openxmlformats.org/officeDocument/2006/relationships/hyperlink" Target="http://hadoop.apache.org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8: hadoop and Tera/Peta byte 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FF74-E915-4D73-852E-AB40FDD225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.I.S.C.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523520"/>
            <a:ext cx="73915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ata Intensive Scientific Computing’ [R. Bryant, CMU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ig data’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ww.cs.cmu.edu/~bryant/pubdir/cmu-cs-07-128.pd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4" name="Picture 4" descr="bryant-02"/>
          <p:cNvPicPr/>
          <p:nvPr/>
        </p:nvPicPr>
        <p:blipFill>
          <a:blip r:embed="rId1"/>
          <a:stretch/>
        </p:blipFill>
        <p:spPr>
          <a:xfrm>
            <a:off x="380880" y="1523880"/>
            <a:ext cx="1001880" cy="10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F7F1-FDE0-4455-99E5-1CF11A6843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~200Gb (Yahoo crawl) - Degree Distribution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in 12 minutes with 50 machin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  <a:ea typeface="MS Mincho"/>
              </a:rPr>
              <a:t>Many link spams at out-degree 12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38080" y="3505320"/>
            <a:ext cx="7580520" cy="2652480"/>
            <a:chOff x="838080" y="3505320"/>
            <a:chExt cx="7580520" cy="2652480"/>
          </a:xfrm>
        </p:grpSpPr>
        <p:pic>
          <p:nvPicPr>
            <p:cNvPr id="267" name="" descr=""/>
            <p:cNvPicPr/>
            <p:nvPr/>
          </p:nvPicPr>
          <p:blipFill>
            <a:blip r:embed="rId1"/>
            <a:stretch/>
          </p:blipFill>
          <p:spPr>
            <a:xfrm>
              <a:off x="838080" y="3505320"/>
              <a:ext cx="7580520" cy="26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90080" y="4570920"/>
              <a:ext cx="22824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1960" y="4951800"/>
              <a:ext cx="22824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nalysis of a large graph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43B3-3ACF-45E8-A125-C07FFFEC00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doop: promising architecture for Tera/Peta scale graph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ourc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hadoop.apache.org/core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http://hadoop.apache.org/pig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gher-level language for data process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69B5-1BD9-41C6-92DA-4F8AC41BEF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Jeffrey Dea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Sanjay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Ghemawa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apReduce: Simplified Data Processing on Large Clusters,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SDI'04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ristopher Olston, Benjamin Reed, Utkarsh Srivastava, Ravi Kumar, Andrew Tomkins: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ig latin: a not-so-foreign language for data process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 SIGMOD 2008: 1099-1110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CF55-B5B7-46E4-9D19-3190640587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8769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31D-6589-4F67-A5F6-BA6CC25242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if graph/tensor does not fit in cor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handling huge graph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E78A-CC91-411D-AF94-932EF42423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if graph/tensor does not fit in cor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‘MET’: Kolda, Sun, ICMD’08, best paper award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about handling huge graph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0A86-F550-40F4-A991-2089646B26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oogle: &gt; 450,000 processors in clusters of ~2000 processors each [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arroso, Dean, Hölzle,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“Web Search for a Planet: The Google Cluster Architecture”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EEE Micro 2003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ahoo: 5Pb of data [Fayyad, KDD’07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: machine failures, on a daily bas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parallelize data mining tasks, the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8E04-541D-4F13-AA0F-C2FB8017D9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cal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: &gt; 450,000 processors in clusters of ~2000 processors each [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rroso, Dean, Hölzle,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“Web Search for a Planet: The Google Cluster Architecture”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EEE Micro 2003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Yahoo: 5Pb of data [Fayyad, KDD’07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: machine failures, on a daily ba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ow to parallelize data mining tasks, the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map/reduce – hadoop (open-source clone) 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hadoop.apache.org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/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5" descr="hadoop-logo"/>
          <p:cNvPicPr/>
          <p:nvPr/>
        </p:nvPicPr>
        <p:blipFill>
          <a:blip r:embed="rId4"/>
          <a:stretch/>
        </p:blipFill>
        <p:spPr>
          <a:xfrm>
            <a:off x="3451320" y="5630760"/>
            <a:ext cx="1834920" cy="43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277E-D4E4-41A6-AD3C-413D2A5363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’ intro to hadoop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ster-slave architecture; n-way replication (default n=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oup by’ of SQL (in parallel, fault-tolerant wa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.g, find histogram of word frequ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 local hist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 merge into global histogra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lect course-id, count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om ENROLL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roup by course-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2EEE-87DF-4699-A0B3-A592762006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2’ intro to hadoop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ster-slave architecture; n-way replication (default n=3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roup by’ of SQL (in parallel, fault-tolerant way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.g, find histogram of word frequenc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 local histogra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 merge into global histogra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lect course-id, count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rom ENROLL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roup by course-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6177600" y="5611680"/>
            <a:ext cx="82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cc33"/>
                </a:solidFill>
                <a:latin typeface="Arial"/>
              </a:rPr>
              <a:t>ma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6210720" y="4648320"/>
            <a:ext cx="1194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redu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3468600" y="5105520"/>
            <a:ext cx="1278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98480" y="5996160"/>
            <a:ext cx="1378080" cy="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826C-B3CB-4051-8859-7FFA46721A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Oval 4"/>
          <p:cNvSpPr/>
          <p:nvPr/>
        </p:nvSpPr>
        <p:spPr>
          <a:xfrm>
            <a:off x="3657600" y="304920"/>
            <a:ext cx="1447920" cy="6858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Us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Pro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Oval 23"/>
          <p:cNvSpPr/>
          <p:nvPr/>
        </p:nvSpPr>
        <p:spPr>
          <a:xfrm>
            <a:off x="5638680" y="3962520"/>
            <a:ext cx="990720" cy="457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duc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24"/>
          <p:cNvSpPr/>
          <p:nvPr/>
        </p:nvSpPr>
        <p:spPr>
          <a:xfrm>
            <a:off x="5638680" y="2971800"/>
            <a:ext cx="990720" cy="4572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duc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3886200" y="1676520"/>
            <a:ext cx="990720" cy="4572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Maste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Group 66"/>
          <p:cNvGrpSpPr/>
          <p:nvPr/>
        </p:nvGrpSpPr>
        <p:grpSpPr>
          <a:xfrm>
            <a:off x="1981080" y="838080"/>
            <a:ext cx="4114800" cy="3962160"/>
            <a:chOff x="1981080" y="838080"/>
            <a:chExt cx="4114800" cy="3962160"/>
          </a:xfrm>
        </p:grpSpPr>
        <p:grpSp>
          <p:nvGrpSpPr>
            <p:cNvPr id="210" name="Group 65"/>
            <p:cNvGrpSpPr/>
            <p:nvPr/>
          </p:nvGrpSpPr>
          <p:grpSpPr>
            <a:xfrm>
              <a:off x="1981080" y="2666880"/>
              <a:ext cx="990720" cy="2133360"/>
              <a:chOff x="1981080" y="2666880"/>
              <a:chExt cx="990720" cy="2133360"/>
            </a:xfrm>
          </p:grpSpPr>
          <p:sp>
            <p:nvSpPr>
              <p:cNvPr id="211" name="Oval 6"/>
              <p:cNvSpPr/>
              <p:nvPr/>
            </p:nvSpPr>
            <p:spPr>
              <a:xfrm>
                <a:off x="1981080" y="266688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2" name="Oval 7"/>
              <p:cNvSpPr/>
              <p:nvPr/>
            </p:nvSpPr>
            <p:spPr>
              <a:xfrm>
                <a:off x="1981080" y="350496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3" name="Oval 8"/>
              <p:cNvSpPr/>
              <p:nvPr/>
            </p:nvSpPr>
            <p:spPr>
              <a:xfrm>
                <a:off x="1981080" y="4343040"/>
                <a:ext cx="990720" cy="457200"/>
              </a:xfrm>
              <a:prstGeom prst="ellipse">
                <a:avLst/>
              </a:prstGeom>
              <a:solidFill>
                <a:srgbClr val="00b05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  <a:ea typeface="굴림"/>
                  </a:rPr>
                  <a:t>Mapper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36"/>
            <p:cNvGrpSpPr/>
            <p:nvPr/>
          </p:nvGrpSpPr>
          <p:grpSpPr>
            <a:xfrm>
              <a:off x="2438280" y="838080"/>
              <a:ext cx="3657600" cy="2057400"/>
              <a:chOff x="2438280" y="838080"/>
              <a:chExt cx="3657600" cy="2057400"/>
            </a:xfrm>
          </p:grpSpPr>
          <p:sp>
            <p:nvSpPr>
              <p:cNvPr id="215" name="Line 30"/>
              <p:cNvSpPr/>
              <p:nvPr/>
            </p:nvSpPr>
            <p:spPr>
              <a:xfrm>
                <a:off x="4343400" y="990360"/>
                <a:ext cx="0" cy="6858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6" name="Line 31"/>
              <p:cNvSpPr/>
              <p:nvPr/>
            </p:nvSpPr>
            <p:spPr>
              <a:xfrm flipH="1">
                <a:off x="2438280" y="838080"/>
                <a:ext cx="1371600" cy="18288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7" name="Line 32"/>
              <p:cNvSpPr/>
              <p:nvPr/>
            </p:nvSpPr>
            <p:spPr>
              <a:xfrm>
                <a:off x="5029200" y="838080"/>
                <a:ext cx="1066680" cy="205740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8" name="Text Box 33"/>
              <p:cNvSpPr/>
              <p:nvPr/>
            </p:nvSpPr>
            <p:spPr>
              <a:xfrm>
                <a:off x="2723760" y="114264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19" name="Text Box 34"/>
              <p:cNvSpPr/>
              <p:nvPr/>
            </p:nvSpPr>
            <p:spPr>
              <a:xfrm>
                <a:off x="3765240" y="108072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20" name="Text Box 35"/>
              <p:cNvSpPr/>
              <p:nvPr/>
            </p:nvSpPr>
            <p:spPr>
              <a:xfrm>
                <a:off x="5238360" y="1066680"/>
                <a:ext cx="60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Times New Roman"/>
                    <a:ea typeface="굴림"/>
                  </a:rPr>
                  <a:t>fork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Line 37"/>
          <p:cNvSpPr/>
          <p:nvPr/>
        </p:nvSpPr>
        <p:spPr>
          <a:xfrm flipH="1">
            <a:off x="2895480" y="1981080"/>
            <a:ext cx="990720" cy="7621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8"/>
          <p:cNvSpPr/>
          <p:nvPr/>
        </p:nvSpPr>
        <p:spPr>
          <a:xfrm>
            <a:off x="4876920" y="1981080"/>
            <a:ext cx="914400" cy="99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3048120" y="1905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as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ma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5002200" y="2057400"/>
            <a:ext cx="86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assig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reduc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5" name="Group 46"/>
          <p:cNvGrpSpPr/>
          <p:nvPr/>
        </p:nvGrpSpPr>
        <p:grpSpPr>
          <a:xfrm>
            <a:off x="1064160" y="2895120"/>
            <a:ext cx="916920" cy="1676520"/>
            <a:chOff x="1064160" y="2895120"/>
            <a:chExt cx="916920" cy="1676520"/>
          </a:xfrm>
        </p:grpSpPr>
        <p:sp>
          <p:nvSpPr>
            <p:cNvPr id="226" name="Line 42"/>
            <p:cNvSpPr/>
            <p:nvPr/>
          </p:nvSpPr>
          <p:spPr>
            <a:xfrm flipV="1">
              <a:off x="1066680" y="2895120"/>
              <a:ext cx="91440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43"/>
            <p:cNvSpPr/>
            <p:nvPr/>
          </p:nvSpPr>
          <p:spPr>
            <a:xfrm>
              <a:off x="1066680" y="3733560"/>
              <a:ext cx="9144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44"/>
            <p:cNvSpPr/>
            <p:nvPr/>
          </p:nvSpPr>
          <p:spPr>
            <a:xfrm>
              <a:off x="1066680" y="4038480"/>
              <a:ext cx="914400" cy="533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Text Box 45"/>
            <p:cNvSpPr/>
            <p:nvPr/>
          </p:nvSpPr>
          <p:spPr>
            <a:xfrm>
              <a:off x="1064160" y="33526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read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4114800" y="2666880"/>
            <a:ext cx="457200" cy="457200"/>
            <a:chOff x="4114800" y="2666880"/>
            <a:chExt cx="457200" cy="457200"/>
          </a:xfrm>
        </p:grpSpPr>
        <p:sp>
          <p:nvSpPr>
            <p:cNvPr id="231" name="Rectangle 14"/>
            <p:cNvSpPr/>
            <p:nvPr/>
          </p:nvSpPr>
          <p:spPr>
            <a:xfrm>
              <a:off x="4114800" y="266688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4343400" y="266688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3" name="Group 17"/>
          <p:cNvGrpSpPr/>
          <p:nvPr/>
        </p:nvGrpSpPr>
        <p:grpSpPr>
          <a:xfrm>
            <a:off x="4114800" y="3505320"/>
            <a:ext cx="457200" cy="457200"/>
            <a:chOff x="4114800" y="3505320"/>
            <a:chExt cx="457200" cy="457200"/>
          </a:xfrm>
        </p:grpSpPr>
        <p:sp>
          <p:nvSpPr>
            <p:cNvPr id="234" name="Rectangle 18"/>
            <p:cNvSpPr/>
            <p:nvPr/>
          </p:nvSpPr>
          <p:spPr>
            <a:xfrm>
              <a:off x="4114800" y="350532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19"/>
            <p:cNvSpPr/>
            <p:nvPr/>
          </p:nvSpPr>
          <p:spPr>
            <a:xfrm>
              <a:off x="4343400" y="350532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6" name="Group 20"/>
          <p:cNvGrpSpPr/>
          <p:nvPr/>
        </p:nvGrpSpPr>
        <p:grpSpPr>
          <a:xfrm>
            <a:off x="4114800" y="4343400"/>
            <a:ext cx="457200" cy="457200"/>
            <a:chOff x="4114800" y="4343400"/>
            <a:chExt cx="457200" cy="457200"/>
          </a:xfrm>
        </p:grpSpPr>
        <p:sp>
          <p:nvSpPr>
            <p:cNvPr id="237" name="Rectangle 21"/>
            <p:cNvSpPr/>
            <p:nvPr/>
          </p:nvSpPr>
          <p:spPr>
            <a:xfrm>
              <a:off x="4114800" y="434340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2"/>
            <p:cNvSpPr/>
            <p:nvPr/>
          </p:nvSpPr>
          <p:spPr>
            <a:xfrm>
              <a:off x="4343400" y="4343400"/>
              <a:ext cx="228600" cy="457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39" name="Line 47"/>
          <p:cNvSpPr/>
          <p:nvPr/>
        </p:nvSpPr>
        <p:spPr>
          <a:xfrm>
            <a:off x="2971800" y="289548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8"/>
          <p:cNvSpPr/>
          <p:nvPr/>
        </p:nvSpPr>
        <p:spPr>
          <a:xfrm>
            <a:off x="2971800" y="373392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9"/>
          <p:cNvSpPr/>
          <p:nvPr/>
        </p:nvSpPr>
        <p:spPr>
          <a:xfrm>
            <a:off x="2971800" y="457200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50"/>
          <p:cNvSpPr/>
          <p:nvPr/>
        </p:nvSpPr>
        <p:spPr>
          <a:xfrm>
            <a:off x="3116880" y="3092400"/>
            <a:ext cx="70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loc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writ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4572000" y="2895480"/>
            <a:ext cx="106668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4572000" y="2895480"/>
            <a:ext cx="1066680" cy="12956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 flipV="1">
            <a:off x="4572000" y="3200400"/>
            <a:ext cx="106668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4572000" y="373392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 flipV="1">
            <a:off x="4572000" y="3276720"/>
            <a:ext cx="106668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 flipV="1">
            <a:off x="4572000" y="4191120"/>
            <a:ext cx="106668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4648320" y="4572000"/>
            <a:ext cx="160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remote read,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sor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629400" y="2819520"/>
            <a:ext cx="1981080" cy="1600200"/>
            <a:chOff x="6629400" y="2819520"/>
            <a:chExt cx="1981080" cy="1600200"/>
          </a:xfrm>
        </p:grpSpPr>
        <p:sp>
          <p:nvSpPr>
            <p:cNvPr id="251" name="Rectangle 27"/>
            <p:cNvSpPr/>
            <p:nvPr/>
          </p:nvSpPr>
          <p:spPr>
            <a:xfrm>
              <a:off x="7696080" y="281952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Outpu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File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7696080" y="3810240"/>
              <a:ext cx="914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Output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File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Line 60"/>
            <p:cNvSpPr/>
            <p:nvPr/>
          </p:nvSpPr>
          <p:spPr>
            <a:xfrm>
              <a:off x="6629400" y="3200400"/>
              <a:ext cx="1066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Line 61"/>
            <p:cNvSpPr/>
            <p:nvPr/>
          </p:nvSpPr>
          <p:spPr>
            <a:xfrm>
              <a:off x="6629400" y="4191120"/>
              <a:ext cx="10666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6680880" y="285120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write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56" name="Group 64"/>
          <p:cNvGrpSpPr/>
          <p:nvPr/>
        </p:nvGrpSpPr>
        <p:grpSpPr>
          <a:xfrm>
            <a:off x="228600" y="3276720"/>
            <a:ext cx="838080" cy="914400"/>
            <a:chOff x="228600" y="3276720"/>
            <a:chExt cx="838080" cy="914400"/>
          </a:xfrm>
        </p:grpSpPr>
        <p:sp>
          <p:nvSpPr>
            <p:cNvPr id="257" name="Rectangle 9"/>
            <p:cNvSpPr/>
            <p:nvPr/>
          </p:nvSpPr>
          <p:spPr>
            <a:xfrm>
              <a:off x="228600" y="3276720"/>
              <a:ext cx="83808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28600" y="3581640"/>
              <a:ext cx="83808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228600" y="3886200"/>
              <a:ext cx="83808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Split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  <a:ea typeface="굴림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60" name="Text Box 69"/>
          <p:cNvSpPr/>
          <p:nvPr/>
        </p:nvSpPr>
        <p:spPr>
          <a:xfrm>
            <a:off x="180720" y="2209680"/>
            <a:ext cx="1317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Input</a:t>
            </a:r>
            <a:r>
              <a:rPr b="1" lang="en-US" sz="2600" spc="-1" strike="noStrike">
                <a:solidFill>
                  <a:srgbClr val="000066"/>
                </a:solidFill>
                <a:latin typeface="Calibri"/>
                <a:ea typeface="굴림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D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(o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  <a:ea typeface="굴림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굴림"/>
              </a:rPr>
              <a:t>HDF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8"/>
          <p:cNvSpPr/>
          <p:nvPr/>
        </p:nvSpPr>
        <p:spPr>
          <a:xfrm>
            <a:off x="345960" y="5410080"/>
            <a:ext cx="635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By default: 3-way replication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ate/dead machines: ignored,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ransparently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!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19DA-10D6-4478-8876-A2F6DB6B40E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38:59Z</dcterms:modified>
  <cp:revision>188</cp:revision>
  <dc:subject/>
  <dc:title>Large graph mining</dc:title>
</cp:coreProperties>
</file>