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media/image2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0.png" ContentType="image/png"/>
  <Override PartName="/ppt/media/image5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9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png" ContentType="image/png"/>
  <Override PartName="/ppt/media/image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04F09E0-09A9-409D-AF78-C6DF57B29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EB9B-231A-499F-8C37-BF9AC562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B1B-12AD-4204-AD43-3ED1DAD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F7A-E6AD-49D2-B60B-49C3F8C3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359-32F1-4730-8433-B7E61564D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D581-FEAB-493B-8308-F06AA4D2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F4C-6267-4E88-BCC0-9020243F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CA92-05F4-4088-B288-72B8CBA4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1456-CD7E-41CD-8612-7C0DA0A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5847-B102-40AD-8FE4-2D4422C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9C2A-0F30-43A6-9C9A-D748632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5E36-0545-4FA6-8ACC-D564F8F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18BC-C1E2-4322-A046-6F38A055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5EBB-2475-4EFA-9DDA-AE6AD552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2EC2-0386-49B0-966B-2C9527F1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4A3-6E50-4747-BD1F-C16A2BAA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3D4-FF0B-41F0-BC64-64550BB8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B24A-F17B-4691-B302-54D97BD5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B92-3EF5-461B-B89A-FB783D2C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F18-E760-4CAF-B743-47038544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052-503F-4DBB-A85F-D71E99DF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4ED-3A2F-44DE-BF0F-775FB541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CE2-A4F4-453F-9803-85B8CE14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435-9AB5-4A17-B32B-37C3060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750-3393-4383-9C02-E28AC346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5-</a:t>
            </a:r>
            <a:fld id="{4BB02427-F7D5-4334-86D5-EE220061066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6576750F-5434-4169-AB43-8CC66AF9D9B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3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24.wmf"/><Relationship Id="rId10" Type="http://schemas.openxmlformats.org/officeDocument/2006/relationships/package" Target="../embeddings/oleObject5.xlsx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9.wmf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Graphs over time &amp; tens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011-0169-49F0-BD2A-6E9E38319B3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28760" y="6172200"/>
            <a:ext cx="21862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destinatio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3720" y="2666880"/>
            <a:ext cx="16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Dest. port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00" y="5378400"/>
            <a:ext cx="157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IP sour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560" y="388620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80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15480" y="3352680"/>
            <a:ext cx="73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125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903-57AF-4023-8D81-76F0F3DAC7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tic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ode does not need to be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 can have more than 3 m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g, fFMRI: x,y,z, time, person-id, task-i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1371600" y="3828960"/>
            <a:ext cx="2362320" cy="210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88920" y="6019920"/>
            <a:ext cx="744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ttp://denlab.temple.edu/bidms/cgi-bin/browse.cgi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85120" y="4876920"/>
            <a:ext cx="4586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From DENLAB, Temple U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(Prof. V. Megalooikonomou +)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E7F-13DE-4D1C-9BF6-97F3859A03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otivating Applications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tensors are useful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 mining (TOP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vironmental senso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usion detection (src, dst, time, dest-por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s (src, dst, time, type-of-contac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e recogn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tc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EE0-CDCA-4119-8641-A5E815AB32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1337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CC2-BC33-469D-9F20-12EF023A6F4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basic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ulti-mode extensions of SVD – recall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39C-F709-41F0-A8DA-D6BE886A23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786200" y="2481120"/>
            <a:ext cx="328680" cy="32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85120" y="2838600"/>
            <a:ext cx="3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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95480" y="2475000"/>
            <a:ext cx="481320" cy="1752480"/>
            <a:chOff x="3795480" y="2475000"/>
            <a:chExt cx="481320" cy="1752480"/>
          </a:xfrm>
        </p:grpSpPr>
        <p:sp>
          <p:nvSpPr>
            <p:cNvPr id="219" name=""/>
            <p:cNvSpPr/>
            <p:nvPr/>
          </p:nvSpPr>
          <p:spPr>
            <a:xfrm>
              <a:off x="4124520" y="2475000"/>
              <a:ext cx="152280" cy="1752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95480" y="3116160"/>
              <a:ext cx="41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m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277960" y="1776240"/>
            <a:ext cx="1066680" cy="660600"/>
            <a:chOff x="5277960" y="1776240"/>
            <a:chExt cx="1066680" cy="660600"/>
          </a:xfrm>
        </p:grpSpPr>
        <p:sp>
          <p:nvSpPr>
            <p:cNvPr id="222" name=""/>
            <p:cNvSpPr/>
            <p:nvPr/>
          </p:nvSpPr>
          <p:spPr>
            <a:xfrm>
              <a:off x="5658120" y="177624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Sylfaen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5658840" y="1751040"/>
              <a:ext cx="304920" cy="10666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313520" y="4222800"/>
            <a:ext cx="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352008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77504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75680" y="2800440"/>
            <a:ext cx="5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Sylfae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Sylfae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11520" y="2471760"/>
            <a:ext cx="17172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1440" y="265104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3548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34040" y="266076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1A5-0BD6-446C-A999-17791CF3E8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minder: SVD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7120" y="1147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rank-k approximation in L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0000">
            <a:off x="1495080" y="2817720"/>
            <a:ext cx="1828800" cy="1143000"/>
          </a:xfrm>
          <a:prstGeom prst="flowChart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lfae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38360" y="247500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68000" y="316080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43520" y="17985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lfaen"/>
              </a:rPr>
              <a:t>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2247480" y="172260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3205800" y="3307320"/>
            <a:ext cx="1828800" cy="1638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4260600" y="2485440"/>
            <a:ext cx="174600" cy="16200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946240" y="2830680"/>
            <a:ext cx="978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29440" y="2514600"/>
            <a:ext cx="171360" cy="1832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2514600"/>
            <a:ext cx="158760" cy="15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492280"/>
            <a:ext cx="1149480" cy="163440"/>
          </a:xfrm>
          <a:prstGeom prst="flowChartProcess">
            <a:avLst/>
          </a:prstGeom>
          <a:solidFill>
            <a:srgbClr val="b2b2b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2514600"/>
            <a:ext cx="1150920" cy="169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71880" y="30290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omic Sans MS"/>
              </a:rPr>
              <a:t>+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8280" y="194940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61120" y="1996920"/>
            <a:ext cx="11725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66"/>
                </a:solidFill>
                <a:latin typeface="Symbol"/>
                <a:ea typeface="Symbol"/>
              </a:rPr>
              <a:t>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1" lang="en-US" sz="2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248160" cy="635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7BD-2514-4A76-8A5A-F318B389FB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Goal: extension to &gt;=3 mod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77160" y="26589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msy10"/>
                <a:ea typeface="Arial"/>
              </a:rPr>
              <a:t>¼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923200" y="1456560"/>
            <a:ext cx="2129400" cy="2323440"/>
            <a:chOff x="2923200" y="1456560"/>
            <a:chExt cx="2129400" cy="2323440"/>
          </a:xfrm>
        </p:grpSpPr>
        <p:sp>
          <p:nvSpPr>
            <p:cNvPr id="257" name=""/>
            <p:cNvSpPr/>
            <p:nvPr/>
          </p:nvSpPr>
          <p:spPr>
            <a:xfrm>
              <a:off x="2923200" y="222084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640800">
              <a:off x="3581640" y="16603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30120" y="2630520"/>
              <a:ext cx="427320" cy="114948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69960" y="2584440"/>
              <a:ext cx="782640" cy="493560"/>
            </a:xfrm>
            <a:prstGeom prst="rect">
              <a:avLst/>
            </a:prstGeom>
            <a:noFill/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47720" y="22575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3366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637800">
              <a:off x="3811320" y="1920960"/>
              <a:ext cx="79056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76160" y="320508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11160" y="2665440"/>
              <a:ext cx="533520" cy="30492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671640" y="284004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611160" y="2535120"/>
              <a:ext cx="52884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371600" y="2057400"/>
            <a:ext cx="1017360" cy="1600200"/>
            <a:chOff x="1371600" y="2057400"/>
            <a:chExt cx="1017360" cy="1600200"/>
          </a:xfrm>
        </p:grpSpPr>
        <p:sp>
          <p:nvSpPr>
            <p:cNvPr id="268" name=""/>
            <p:cNvSpPr/>
            <p:nvPr/>
          </p:nvSpPr>
          <p:spPr>
            <a:xfrm>
              <a:off x="1371600" y="2555640"/>
              <a:ext cx="877680" cy="110196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1595160" y="3043080"/>
              <a:ext cx="246240" cy="2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1441440" y="205740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335200" y="2345400"/>
            <a:ext cx="2741760" cy="1159560"/>
            <a:chOff x="5335200" y="2345400"/>
            <a:chExt cx="2741760" cy="1159560"/>
          </a:xfrm>
        </p:grpSpPr>
        <p:grpSp>
          <p:nvGrpSpPr>
            <p:cNvPr id="272" name=""/>
            <p:cNvGrpSpPr/>
            <p:nvPr/>
          </p:nvGrpSpPr>
          <p:grpSpPr>
            <a:xfrm>
              <a:off x="5581800" y="2345400"/>
              <a:ext cx="2495160" cy="1159560"/>
              <a:chOff x="5581800" y="2345400"/>
              <a:chExt cx="2495160" cy="1159560"/>
            </a:xfrm>
          </p:grpSpPr>
          <p:sp>
            <p:nvSpPr>
              <p:cNvPr id="273" name=""/>
              <p:cNvSpPr/>
              <p:nvPr/>
            </p:nvSpPr>
            <p:spPr>
              <a:xfrm>
                <a:off x="5851440" y="2835000"/>
                <a:ext cx="7452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5400000">
                <a:off x="6195600" y="262368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6760" y="269856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70640" y="2835000"/>
                <a:ext cx="73080" cy="669960"/>
              </a:xfrm>
              <a:prstGeom prst="rect">
                <a:avLst/>
              </a:prstGeom>
              <a:noFill/>
              <a:ln cap="sq"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484320" y="2666880"/>
                <a:ext cx="67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+…+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2700000">
                <a:off x="6028920" y="2300040"/>
                <a:ext cx="7956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7795800" y="2622240"/>
                <a:ext cx="85680" cy="476280"/>
              </a:xfrm>
              <a:prstGeom prst="rect">
                <a:avLst/>
              </a:prstGeom>
              <a:noFill/>
              <a:ln cap="sq"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700000">
                <a:off x="7629120" y="2298240"/>
                <a:ext cx="79200" cy="511200"/>
              </a:xfrm>
              <a:prstGeom prst="rect">
                <a:avLst/>
              </a:prstGeom>
              <a:noFill/>
              <a:ln cap="sq"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81800" y="2628720"/>
                <a:ext cx="185760" cy="16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89840" y="2685960"/>
                <a:ext cx="222120" cy="168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3" name=""/>
            <p:cNvSpPr/>
            <p:nvPr/>
          </p:nvSpPr>
          <p:spPr>
            <a:xfrm>
              <a:off x="5335200" y="26672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5"/>
          <a:stretch/>
        </p:blipFill>
        <p:spPr>
          <a:xfrm>
            <a:off x="1824120" y="3968640"/>
            <a:ext cx="5591160" cy="596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66D-9810-499F-91ED-3E5AB9115B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ain points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 major types of tensor decompos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can be solved with ``alternating least squares’’ (AL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D60-7B98-4191-A546-F3F08BE238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5715000" y="3429000"/>
            <a:ext cx="2666880" cy="2743200"/>
            <a:chOff x="5715000" y="3429000"/>
            <a:chExt cx="2666880" cy="2743200"/>
          </a:xfrm>
        </p:grpSpPr>
        <p:sp>
          <p:nvSpPr>
            <p:cNvPr id="289" name=""/>
            <p:cNvSpPr/>
            <p:nvPr/>
          </p:nvSpPr>
          <p:spPr>
            <a:xfrm>
              <a:off x="5715000" y="3429000"/>
              <a:ext cx="2666880" cy="274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7200" y="48546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89480" y="4819680"/>
              <a:ext cx="426600" cy="11491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2200" y="4410000"/>
              <a:ext cx="64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</a:t>
              </a: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29320" y="4773600"/>
              <a:ext cx="782280" cy="49356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06360" y="4446360"/>
              <a:ext cx="62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637800">
              <a:off x="6970320" y="3957840"/>
              <a:ext cx="790560" cy="29808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W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640800">
              <a:off x="6740640" y="369720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5160" y="539424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00ff"/>
                  </a:solidFill>
                  <a:latin typeface="cmmi10"/>
                  <a:ea typeface="Arial"/>
                </a:rPr>
                <a:t>R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0520" y="4854600"/>
              <a:ext cx="532800" cy="304560"/>
            </a:xfrm>
            <a:prstGeom prst="line">
              <a:avLst/>
            </a:prstGeom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299" name="" descr=""/>
            <p:cNvPicPr/>
            <p:nvPr/>
          </p:nvPicPr>
          <p:blipFill>
            <a:blip r:embed="rId1"/>
            <a:stretch/>
          </p:blipFill>
          <p:spPr>
            <a:xfrm>
              <a:off x="6830640" y="5029200"/>
              <a:ext cx="16812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6770520" y="4724280"/>
              <a:ext cx="528120" cy="57312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pecially Structured Tens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ruskal Tens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4842000"/>
            <a:ext cx="878040" cy="110160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948200" y="5329080"/>
            <a:ext cx="246240" cy="233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61840" y="4761000"/>
            <a:ext cx="995400" cy="129384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7920" y="433692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127160" y="5384880"/>
            <a:ext cx="236520" cy="239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936080" y="4854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68360" y="4819680"/>
            <a:ext cx="427320" cy="114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61440" y="441000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8200" y="4773600"/>
            <a:ext cx="782640" cy="493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93520" y="4446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8637800">
            <a:off x="3049560" y="3957840"/>
            <a:ext cx="7905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54440" y="4761000"/>
            <a:ext cx="441360" cy="612720"/>
          </a:xfrm>
          <a:prstGeom prst="cube">
            <a:avLst>
              <a:gd name="adj" fmla="val 25000"/>
            </a:avLst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8640800">
            <a:off x="2824200" y="369792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29160" y="539424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941560" y="4987800"/>
            <a:ext cx="177840" cy="268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914400" y="2209680"/>
            <a:ext cx="3309840" cy="11559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6"/>
          <a:stretch/>
        </p:blipFill>
        <p:spPr>
          <a:xfrm>
            <a:off x="4952880" y="2363760"/>
            <a:ext cx="2513160" cy="7858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794120" y="4343400"/>
            <a:ext cx="94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mmi10"/>
                <a:ea typeface="Arial"/>
              </a:rPr>
              <a:t>I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00ff"/>
                </a:solidFill>
                <a:latin typeface="cmmi10"/>
                <a:ea typeface="Arial"/>
              </a:rPr>
              <a:t>J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x </a:t>
            </a:r>
            <a:r>
              <a:rPr b="0" lang="en-US" sz="1800" spc="-1" strike="noStrike">
                <a:solidFill>
                  <a:srgbClr val="009900"/>
                </a:solidFill>
                <a:latin typeface="cmmi10"/>
                <a:ea typeface="Arial"/>
              </a:rPr>
              <a:t>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009960" y="3041640"/>
            <a:ext cx="1073520" cy="533520"/>
            <a:chOff x="3009960" y="3041640"/>
            <a:chExt cx="1073520" cy="533520"/>
          </a:xfrm>
        </p:grpSpPr>
        <p:sp>
          <p:nvSpPr>
            <p:cNvPr id="323" name=""/>
            <p:cNvSpPr/>
            <p:nvPr/>
          </p:nvSpPr>
          <p:spPr>
            <a:xfrm>
              <a:off x="3009960" y="3041640"/>
              <a:ext cx="228600" cy="53352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38200" y="307980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53120" y="2743200"/>
            <a:ext cx="1073520" cy="533160"/>
            <a:chOff x="7053120" y="2743200"/>
            <a:chExt cx="1073520" cy="533160"/>
          </a:xfrm>
        </p:grpSpPr>
        <p:sp>
          <p:nvSpPr>
            <p:cNvPr id="326" name=""/>
            <p:cNvSpPr/>
            <p:nvPr/>
          </p:nvSpPr>
          <p:spPr>
            <a:xfrm>
              <a:off x="7053120" y="2743200"/>
              <a:ext cx="228600" cy="533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3680 h 533160"/>
                <a:gd name="textAreaBottom" fmla="*/ 5194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81360" y="2781360"/>
              <a:ext cx="84528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Our </a:t>
              </a:r>
              <a:br>
                <a:rPr sz="1400"/>
              </a:br>
              <a:r>
                <a:rPr b="0" lang="en-US" sz="1400" spc="-1" strike="noStrike">
                  <a:solidFill>
                    <a:srgbClr val="b2b2b2"/>
                  </a:solidFill>
                  <a:latin typeface="Arial"/>
                </a:rPr>
                <a:t>Notation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63800" y="3352680"/>
            <a:ext cx="2818080" cy="2667240"/>
            <a:chOff x="5563800" y="3352680"/>
            <a:chExt cx="2818080" cy="2667240"/>
          </a:xfrm>
        </p:grpSpPr>
        <p:sp>
          <p:nvSpPr>
            <p:cNvPr id="329" name=""/>
            <p:cNvSpPr/>
            <p:nvPr/>
          </p:nvSpPr>
          <p:spPr>
            <a:xfrm>
              <a:off x="5791320" y="3352680"/>
              <a:ext cx="2590560" cy="266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563800" y="4402080"/>
              <a:ext cx="2741760" cy="1472400"/>
              <a:chOff x="5563800" y="4402080"/>
              <a:chExt cx="2741760" cy="147240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563800" y="4551840"/>
                <a:ext cx="2741760" cy="1105920"/>
                <a:chOff x="5563800" y="4551840"/>
                <a:chExt cx="2741760" cy="11059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880320" y="4591080"/>
                  <a:ext cx="1839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5810400" y="4551840"/>
                  <a:ext cx="2495160" cy="1105920"/>
                  <a:chOff x="5810400" y="4551840"/>
                  <a:chExt cx="2495160" cy="11059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6080040" y="5024880"/>
                    <a:ext cx="7452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5400000">
                    <a:off x="6426720" y="48117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75360" y="4895640"/>
                    <a:ext cx="184320" cy="36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599240" y="5024880"/>
                    <a:ext cx="73080" cy="6328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712920" y="4865400"/>
                    <a:ext cx="67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66"/>
                        </a:solidFill>
                        <a:latin typeface="Arial"/>
                        <a:ea typeface="Arial"/>
                      </a:rPr>
                      <a:t>+…+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700000">
                    <a:off x="6260040" y="4504320"/>
                    <a:ext cx="7488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5400000">
                    <a:off x="8026920" y="4809960"/>
                    <a:ext cx="80640" cy="47628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700000">
                    <a:off x="7860240" y="4503240"/>
                    <a:ext cx="74520" cy="511200"/>
                  </a:xfrm>
                  <a:prstGeom prst="rect">
                    <a:avLst/>
                  </a:prstGeom>
                  <a:noFill/>
                  <a:ln cap="sq" w="1908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66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10400" y="4829760"/>
                    <a:ext cx="185760" cy="1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8440" y="4883400"/>
                    <a:ext cx="222120" cy="1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344" name=""/>
                <p:cNvSpPr/>
                <p:nvPr/>
              </p:nvSpPr>
              <p:spPr>
                <a:xfrm>
                  <a:off x="5563800" y="486576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66"/>
                      </a:solidFill>
                      <a:latin typeface="Arial"/>
                      <a:ea typeface="Arial"/>
                    </a:rPr>
                    <a:t>=</a:t>
                  </a:r>
                  <a:endParaRPr b="0" lang="en-US" sz="18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6100200" y="5586840"/>
                <a:ext cx="337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625520" y="5586840"/>
                <a:ext cx="354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252480" y="5082120"/>
                <a:ext cx="32868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24600" y="4433400"/>
                <a:ext cx="3668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929720" y="5082120"/>
                <a:ext cx="3452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73240" y="4402080"/>
                <a:ext cx="3834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r>
                  <a:rPr b="0" lang="en-US" sz="1400" spc="-1" strike="noStrike" baseline="-25000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51" name=""/>
          <p:cNvSpPr/>
          <p:nvPr/>
        </p:nvSpPr>
        <p:spPr>
          <a:xfrm>
            <a:off x="2357280" y="3962520"/>
            <a:ext cx="609840" cy="761760"/>
          </a:xfrm>
          <a:prstGeom prst="line">
            <a:avLst/>
          </a:prstGeom>
          <a:ln w="19080">
            <a:solidFill>
              <a:srgbClr val="b2b2b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62560" y="36576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b2b2b2"/>
                </a:solidFill>
                <a:latin typeface="Comic Sans MS"/>
              </a:rPr>
              <a:t>cor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2C4-387A-4452-8937-63C6C8808A19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6576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DA7-073B-4B34-B58D-4BF640768B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47760" y="1143000"/>
            <a:ext cx="3916440" cy="2746440"/>
          </a:xfrm>
          <a:prstGeom prst="rect">
            <a:avLst/>
          </a:prstGeom>
          <a:solidFill>
            <a:srgbClr val="ffffff">
              <a:alpha val="68000"/>
            </a:srgbClr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Times New Roman"/>
              </a:rPr>
              <a:t>Tucker Decomposition - intuition</a:t>
            </a:r>
            <a:endParaRPr b="1" lang="en-US" sz="41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633240" y="1137960"/>
            <a:ext cx="3429000" cy="2554560"/>
            <a:chOff x="633240" y="1137960"/>
            <a:chExt cx="3429000" cy="2554560"/>
          </a:xfrm>
        </p:grpSpPr>
        <p:sp>
          <p:nvSpPr>
            <p:cNvPr id="357" name=""/>
            <p:cNvSpPr/>
            <p:nvPr/>
          </p:nvSpPr>
          <p:spPr>
            <a:xfrm>
              <a:off x="633240" y="2398680"/>
              <a:ext cx="995400" cy="1293840"/>
            </a:xfrm>
            <a:prstGeom prst="cube">
              <a:avLst>
                <a:gd name="adj" fmla="val 25000"/>
              </a:avLst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9320" y="1974960"/>
              <a:ext cx="94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mmi10"/>
                  <a:ea typeface="Arial"/>
                </a:rPr>
                <a:t>I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3366ff"/>
                  </a:solidFill>
                  <a:latin typeface="cmmi10"/>
                  <a:ea typeface="Arial"/>
                </a:rPr>
                <a:t>J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 x </a:t>
              </a:r>
              <a:r>
                <a:rPr b="0" lang="en-US" sz="1800" spc="-1" strike="noStrike">
                  <a:solidFill>
                    <a:srgbClr val="009900"/>
                  </a:solidFill>
                  <a:latin typeface="cmmi10"/>
                  <a:ea typeface="Arial"/>
                </a:rPr>
                <a:t>K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898200" y="302256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0" name=""/>
            <p:cNvGrpSpPr/>
            <p:nvPr/>
          </p:nvGrpSpPr>
          <p:grpSpPr>
            <a:xfrm>
              <a:off x="1668960" y="1137960"/>
              <a:ext cx="2393280" cy="2468880"/>
              <a:chOff x="1668960" y="1137960"/>
              <a:chExt cx="2393280" cy="2468880"/>
            </a:xfrm>
          </p:grpSpPr>
          <p:sp>
            <p:nvSpPr>
              <p:cNvPr id="361" name=""/>
              <p:cNvSpPr/>
              <p:nvPr/>
            </p:nvSpPr>
            <p:spPr>
              <a:xfrm>
                <a:off x="1668960" y="2484720"/>
                <a:ext cx="392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msy10"/>
                    <a:ea typeface="Arial"/>
                  </a:rPr>
                  <a:t>¼</a:t>
                </a:r>
                <a:endParaRPr b="0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39760" y="2457720"/>
                <a:ext cx="426960" cy="1149120"/>
              </a:xfrm>
              <a:prstGeom prst="rect">
                <a:avLst/>
              </a:prstGeom>
              <a:noFill/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932480" y="2048040"/>
                <a:ext cx="64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I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x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279600" y="2411640"/>
                <a:ext cx="782640" cy="493560"/>
              </a:xfrm>
              <a:prstGeom prst="rect">
                <a:avLst/>
              </a:prstGeom>
              <a:noFill/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64560" y="2084400"/>
                <a:ext cx="61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J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8637800">
                <a:off x="2820600" y="1595880"/>
                <a:ext cx="79056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25480" y="2398680"/>
                <a:ext cx="441360" cy="613080"/>
              </a:xfrm>
              <a:prstGeom prst="cube">
                <a:avLst>
                  <a:gd name="adj" fmla="val 25000"/>
                </a:avLst>
              </a:prstGeom>
              <a:noFill/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8640800">
                <a:off x="2595240" y="1335600"/>
                <a:ext cx="69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K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00200" y="3032280"/>
                <a:ext cx="105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mmi10"/>
                    <a:ea typeface="Arial"/>
                  </a:rPr>
                  <a:t>R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3366ff"/>
                    </a:solidFill>
                    <a:latin typeface="cmmi10"/>
                    <a:ea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  <a:ea typeface="Arial"/>
                  </a:rPr>
                  <a:t> x </a:t>
                </a:r>
                <a:r>
                  <a:rPr b="0" lang="en-US" sz="1800" spc="-1" strike="noStrike">
                    <a:solidFill>
                      <a:srgbClr val="009900"/>
                    </a:solidFill>
                    <a:latin typeface="cmmi10"/>
                    <a:ea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pic>
            <p:nvPicPr>
              <p:cNvPr id="3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12960" y="2625840"/>
                <a:ext cx="177480" cy="268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3847680"/>
            <a:ext cx="777240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 x keyword x confe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author x author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: keyword x keyword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: conf. x conf-grou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French Script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French Script MT"/>
              </a:rPr>
              <a:t>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how groups relate to each oth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9BF2-ACCD-47A0-B3E8-B35EAC5670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ntuition behind core tenso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-d case: co-clus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[Dhillon et al. Information-Theoretic Co-clustering, KDD’03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380880"/>
            <a:ext cx="533520" cy="6096240"/>
          </a:xfrm>
          <a:custGeom>
            <a:avLst/>
            <a:gdLst>
              <a:gd name="textAreaLeft" fmla="*/ 156600 w 533520"/>
              <a:gd name="textAreaRight" fmla="*/ 533880 w 53352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160-9640-44CF-9D92-A18F62063F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81952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9272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715-ADFD-48BF-B46B-622D73DB8DDA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05280" y="5410080"/>
            <a:ext cx="1799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ff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076600" y="380880"/>
            <a:ext cx="533160" cy="6096240"/>
          </a:xfrm>
          <a:custGeom>
            <a:avLst/>
            <a:gdLst>
              <a:gd name="textAreaLeft" fmla="*/ 156600 w 533160"/>
              <a:gd name="textAreaRight" fmla="*/ 533520 w 533160"/>
              <a:gd name="textAreaTop" fmla="*/ 253800 h 6096240"/>
              <a:gd name="textAreaBottom" fmla="*/ 5842440 h 609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BA4-4CFA-4E04-80A5-356A57DEC0E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summar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wo main too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uck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oth find row-, column-, tube-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ut in PARAFAC the three groups are identic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 To solve: Alternating Least Squares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410-7E3A-447F-B77C-E6E6B4D87A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26668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5025-F8B4-43D6-A82A-AB2A38659B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eb graph min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order the importance of web pag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Ran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ensor extension on HITS (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OPHI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591080" y="3505320"/>
            <a:ext cx="4324320" cy="27972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4276800" cy="27561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352680" y="6324480"/>
            <a:ext cx="23623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DFA-7CC7-478E-8FD1-095CDA7CDB5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160" y="122400"/>
            <a:ext cx="84582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Kleinberg’s Hubs and Authorities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(the HITS method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2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278000"/>
            <a:ext cx="4608360" cy="24400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60240" y="3983040"/>
            <a:ext cx="3149640" cy="21891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5257800" y="2044800"/>
            <a:ext cx="3375000" cy="6080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956480" y="160020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rse adjacency matrix and its SVD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45120" y="40021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4952880" y="4616280"/>
            <a:ext cx="3649680" cy="7970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 flipV="1">
            <a:off x="6067440" y="538452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299200" y="553896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97520" y="56149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7182000" y="5422680"/>
            <a:ext cx="11556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27880" y="438624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642080" y="438624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73840" y="38098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488808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23960" y="46544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29200" y="464832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667400"/>
            <a:ext cx="6094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5715000" y="2971800"/>
            <a:ext cx="2057400" cy="469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82520" y="6492960"/>
            <a:ext cx="22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leinberg, JACM, 1999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C6F-1CB5-47B9-A73C-7ABFD2345F9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6324480"/>
            <a:ext cx="23619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96800" y="458784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04920" y="5202360"/>
            <a:ext cx="3649680" cy="796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 flipV="1">
            <a:off x="1419120" y="597024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60958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49560" y="620064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2533680" y="6008400"/>
            <a:ext cx="115920" cy="2300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79560" y="4971960"/>
            <a:ext cx="15408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994120" y="4971960"/>
            <a:ext cx="115920" cy="19224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057400" y="441972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239760" y="5538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5640" y="52401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5234040"/>
            <a:ext cx="0" cy="68580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0880" y="5253120"/>
            <a:ext cx="60984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ITS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67" name="Rectangle 3"/>
          <p:cNvGraphicFramePr/>
          <p:nvPr/>
        </p:nvGraphicFramePr>
        <p:xfrm>
          <a:off x="647640" y="1066680"/>
          <a:ext cx="2470320" cy="171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8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640" y="1066680"/>
                    <a:ext cx="24703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954080" y="1566720"/>
          <a:ext cx="2571840" cy="23860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1566720"/>
                    <a:ext cx="257184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"/>
          <p:cNvSpPr/>
          <p:nvPr/>
        </p:nvSpPr>
        <p:spPr>
          <a:xfrm>
            <a:off x="5838840" y="1700280"/>
            <a:ext cx="3133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We started our crawl from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http://www-neos.mcs.anl.gov/neos,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and crawled 4700 pages,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resulting in 560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cross-linked host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3306600" y="2111400"/>
          <a:ext cx="2586240" cy="23814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06600" y="2111400"/>
                    <a:ext cx="25862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873680" y="2833560"/>
          <a:ext cx="2585880" cy="237348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3680" y="2833560"/>
                    <a:ext cx="2585880" cy="23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6102360" y="3678120"/>
          <a:ext cx="2584440" cy="23814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02360" y="3678120"/>
                    <a:ext cx="25844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010E-91E8-4608-B1E9-32D89E450A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81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82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BF3-EDFD-41F9-B3E3-F23E0F1BCEB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anks to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mara Kolda (Sandia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 the foils on tensor definitions, and on TOPHI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2" name="Picture 7" descr="kolda"/>
          <p:cNvPicPr/>
          <p:nvPr/>
        </p:nvPicPr>
        <p:blipFill>
          <a:blip r:embed="rId1"/>
          <a:stretch/>
        </p:blipFill>
        <p:spPr>
          <a:xfrm>
            <a:off x="6324480" y="1371600"/>
            <a:ext cx="115884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BE5-4D28-40EF-9217-23ABAEA3BF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93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494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ACB2-EBD4-4352-8392-F2C0967A61DE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hree-Dimensional View of the Web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09" name="Rectangl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143000"/>
            <a:ext cx="4684680" cy="222876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09480" y="3505320"/>
            <a:ext cx="3810240" cy="2835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5072040" y="3467160"/>
            <a:ext cx="3776760" cy="29145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726080" y="31608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Observe that this tensor is very sparse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38840" y="3889440"/>
            <a:ext cx="231840" cy="654120"/>
          </a:xfrm>
          <a:prstGeom prst="line">
            <a:avLst/>
          </a:prstGeom>
          <a:ln cap="sq"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4876920" y="1755720"/>
            <a:ext cx="4038480" cy="10875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7800" y="5334120"/>
            <a:ext cx="0" cy="76176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257800" y="5334120"/>
            <a:ext cx="83808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57800" y="3580920"/>
            <a:ext cx="2438280" cy="175284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62000" y="1800360"/>
            <a:ext cx="914400" cy="0"/>
          </a:xfrm>
          <a:prstGeom prst="line">
            <a:avLst/>
          </a:prstGeom>
          <a:ln w="28440">
            <a:solidFill>
              <a:srgbClr val="9966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542960" y="1733400"/>
            <a:ext cx="381240" cy="15264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38098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288"/>
                </a:moveTo>
                <a:cubicBezTo>
                  <a:pt x="320" y="192"/>
                  <a:pt x="640" y="96"/>
                  <a:pt x="816" y="48"/>
                </a:cubicBezTo>
                <a:cubicBezTo>
                  <a:pt x="992" y="0"/>
                  <a:pt x="976" y="0"/>
                  <a:pt x="1056" y="0"/>
                </a:cubicBezTo>
                <a:cubicBezTo>
                  <a:pt x="1136" y="0"/>
                  <a:pt x="1216" y="16"/>
                  <a:pt x="1296" y="48"/>
                </a:cubicBezTo>
                <a:cubicBezTo>
                  <a:pt x="1376" y="80"/>
                  <a:pt x="1464" y="152"/>
                  <a:pt x="1536" y="192"/>
                </a:cubicBezTo>
                <a:cubicBezTo>
                  <a:pt x="1608" y="232"/>
                  <a:pt x="1668" y="260"/>
                  <a:pt x="1728" y="288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57400" y="1282680"/>
            <a:ext cx="1523880" cy="165240"/>
          </a:xfrm>
          <a:custGeom>
            <a:avLst/>
            <a:gdLst/>
            <a:ahLst/>
            <a:rect l="l" t="t" r="r" b="b"/>
            <a:pathLst>
              <a:path w="960" h="104">
                <a:moveTo>
                  <a:pt x="960" y="104"/>
                </a:moveTo>
                <a:cubicBezTo>
                  <a:pt x="820" y="88"/>
                  <a:pt x="680" y="72"/>
                  <a:pt x="576" y="56"/>
                </a:cubicBezTo>
                <a:cubicBezTo>
                  <a:pt x="472" y="40"/>
                  <a:pt x="400" y="16"/>
                  <a:pt x="336" y="8"/>
                </a:cubicBezTo>
                <a:cubicBezTo>
                  <a:pt x="272" y="0"/>
                  <a:pt x="232" y="8"/>
                  <a:pt x="192" y="8"/>
                </a:cubicBezTo>
                <a:cubicBezTo>
                  <a:pt x="152" y="8"/>
                  <a:pt x="128" y="0"/>
                  <a:pt x="96" y="8"/>
                </a:cubicBezTo>
                <a:cubicBezTo>
                  <a:pt x="64" y="16"/>
                  <a:pt x="32" y="36"/>
                  <a:pt x="0" y="56"/>
                </a:cubicBezTo>
              </a:path>
            </a:pathLst>
          </a:custGeom>
          <a:noFill/>
          <a:ln w="28440">
            <a:solidFill>
              <a:srgbClr val="9933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1219320" y="4276440"/>
            <a:ext cx="2666880" cy="28440"/>
          </a:xfrm>
          <a:prstGeom prst="line">
            <a:avLst/>
          </a:prstGeom>
          <a:ln w="2844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85920" y="4286160"/>
            <a:ext cx="2590920" cy="571680"/>
          </a:xfrm>
          <a:custGeom>
            <a:avLst/>
            <a:gdLst/>
            <a:ahLst/>
            <a:rect l="l" t="t" r="r" b="b"/>
            <a:pathLst>
              <a:path w="1632" h="360">
                <a:moveTo>
                  <a:pt x="1632" y="0"/>
                </a:moveTo>
                <a:cubicBezTo>
                  <a:pt x="1432" y="72"/>
                  <a:pt x="1232" y="144"/>
                  <a:pt x="1104" y="192"/>
                </a:cubicBezTo>
                <a:cubicBezTo>
                  <a:pt x="976" y="240"/>
                  <a:pt x="952" y="264"/>
                  <a:pt x="864" y="288"/>
                </a:cubicBezTo>
                <a:cubicBezTo>
                  <a:pt x="776" y="312"/>
                  <a:pt x="640" y="328"/>
                  <a:pt x="576" y="336"/>
                </a:cubicBezTo>
                <a:cubicBezTo>
                  <a:pt x="512" y="344"/>
                  <a:pt x="544" y="360"/>
                  <a:pt x="480" y="336"/>
                </a:cubicBezTo>
                <a:cubicBezTo>
                  <a:pt x="416" y="312"/>
                  <a:pt x="272" y="240"/>
                  <a:pt x="192" y="192"/>
                </a:cubicBezTo>
                <a:cubicBezTo>
                  <a:pt x="112" y="144"/>
                  <a:pt x="56" y="96"/>
                  <a:pt x="0" y="48"/>
                </a:cubicBezTo>
              </a:path>
            </a:pathLst>
          </a:custGeom>
          <a:noFill/>
          <a:ln w="2844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96000" y="4486320"/>
            <a:ext cx="228600" cy="228600"/>
          </a:xfrm>
          <a:prstGeom prst="ellipse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76880" y="55530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86360" y="5095800"/>
            <a:ext cx="228600" cy="2286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581280" y="1467000"/>
            <a:ext cx="914400" cy="15228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17480" y="640080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Kolda, Bader, Kenny, ICDM05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24A-E40F-4C22-9B39-DE8A1FC5274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334120" y="243828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14400" y="3657600"/>
            <a:ext cx="1905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305080" y="3657600"/>
            <a:ext cx="7621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3457440"/>
            <a:ext cx="2286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C05-19B2-4A97-993D-5A33D53D1A1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ical HITS (TOPHIT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5800" y="152388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Main Ide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Extend the idea behind the HITS model to incorporate term (i.e., topical) informatio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770040" y="3467160"/>
            <a:ext cx="8218440" cy="23731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226040" y="4925880"/>
            <a:ext cx="16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497400" y="5310000"/>
            <a:ext cx="193680" cy="38412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151080" y="56545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492960" y="554040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1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flipV="1">
            <a:off x="6414840" y="5348160"/>
            <a:ext cx="191880" cy="26856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4725720" y="4541400"/>
            <a:ext cx="191880" cy="42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6953040" y="4581360"/>
            <a:ext cx="191880" cy="30672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99320" y="488808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781200" y="4917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61600" y="43117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8843600">
            <a:off x="1144080" y="39164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495680" y="3813120"/>
            <a:ext cx="26856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5640" y="3543480"/>
            <a:ext cx="134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1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722640" y="3851280"/>
            <a:ext cx="26820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914400" y="3771720"/>
            <a:ext cx="685800" cy="533160"/>
          </a:xfrm>
          <a:prstGeom prst="line">
            <a:avLst/>
          </a:prstGeom>
          <a:ln cap="sq"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914400" y="4343400"/>
            <a:ext cx="0" cy="13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14400" y="4295880"/>
            <a:ext cx="1371600" cy="0"/>
          </a:xfrm>
          <a:prstGeom prst="line">
            <a:avLst/>
          </a:prstGeom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2476440" y="2274840"/>
            <a:ext cx="3395880" cy="92556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C8E-51F3-4E2F-8283-603DB511BAC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352680" y="6248520"/>
            <a:ext cx="23623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4771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OPHITS Terms &amp; Authorities on Sample Data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152280" y="1290600"/>
          <a:ext cx="3637080" cy="17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060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822240" y="1685880"/>
          <a:ext cx="3637080" cy="12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2240" y="1685880"/>
                    <a:ext cx="36370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1492200" y="2052720"/>
          <a:ext cx="3637080" cy="17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2200" y="205272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2160720" y="2509920"/>
          <a:ext cx="3636720" cy="17571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0720" y="2509920"/>
                    <a:ext cx="363672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2830680" y="3043080"/>
          <a:ext cx="3636720" cy="175752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0680" y="3043080"/>
                    <a:ext cx="363672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"/>
          <p:cNvGraphicFramePr/>
          <p:nvPr/>
        </p:nvGraphicFramePr>
        <p:xfrm>
          <a:off x="3500280" y="3576600"/>
          <a:ext cx="3637080" cy="17575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3576600"/>
                    <a:ext cx="3637080" cy="1757520"/>
                  </a:xfrm>
                  <a:prstGeom prst="rect">
                    <a:avLst/>
                  </a:prstGeom>
                  <a:ln w="57240">
                    <a:solidFill>
                      <a:srgbClr val="99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4168800" y="4038480"/>
          <a:ext cx="3637080" cy="14432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8800" y="4038480"/>
                    <a:ext cx="3637080" cy="14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"/>
          <p:cNvGraphicFramePr/>
          <p:nvPr/>
        </p:nvGraphicFramePr>
        <p:xfrm>
          <a:off x="4838760" y="4508640"/>
          <a:ext cx="3637080" cy="17571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38760" y="4508640"/>
                    <a:ext cx="363708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"/>
          <p:cNvGraphicFramePr/>
          <p:nvPr/>
        </p:nvGraphicFramePr>
        <p:xfrm>
          <a:off x="5506920" y="5100480"/>
          <a:ext cx="3637080" cy="17575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506920" y="5100480"/>
                    <a:ext cx="36370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954760" y="1700280"/>
            <a:ext cx="292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TOPHITS uses 3D analysis to find the dominant groupings of web pages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 terms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9"/>
          <a:stretch/>
        </p:blipFill>
        <p:spPr>
          <a:xfrm>
            <a:off x="84240" y="5146560"/>
            <a:ext cx="3801960" cy="11858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682640" y="5877000"/>
            <a:ext cx="7653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1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346040" y="6126120"/>
            <a:ext cx="889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185840" y="6324480"/>
            <a:ext cx="6224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1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32040" y="6183360"/>
            <a:ext cx="6238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hub scores for 2</a:t>
            </a:r>
            <a:r>
              <a:rPr b="0" lang="en-US" sz="600" spc="-1" strike="noStrike" baseline="30000">
                <a:solidFill>
                  <a:srgbClr val="ff00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695320" y="6086160"/>
            <a:ext cx="88920" cy="135000"/>
          </a:xfrm>
          <a:prstGeom prst="line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1914120" y="5683320"/>
            <a:ext cx="88920" cy="21096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944440" y="5703480"/>
            <a:ext cx="88920" cy="152280"/>
          </a:xfrm>
          <a:prstGeom prst="line">
            <a:avLst/>
          </a:prstGeom>
          <a:ln cap="sq"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873520" y="5856120"/>
            <a:ext cx="763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authority scores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for 2</a:t>
            </a:r>
            <a:r>
              <a:rPr b="0" lang="en-US" sz="600" spc="-1" strike="noStrike" baseline="30000">
                <a:solidFill>
                  <a:srgbClr val="3333cc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6200000">
            <a:off x="107640" y="585072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0640" y="5618160"/>
            <a:ext cx="24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cc"/>
                </a:solidFill>
                <a:latin typeface="Arial"/>
              </a:rPr>
              <a:t>to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8843600">
            <a:off x="237600" y="5351400"/>
            <a:ext cx="334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78120" y="516564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1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808280" y="531972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08440" y="5184720"/>
            <a:ext cx="622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term scores for 2</a:t>
            </a:r>
            <a:r>
              <a:rPr b="0" lang="en-US" sz="600" spc="-1" strike="noStrike" baseline="30000">
                <a:solidFill>
                  <a:srgbClr val="009900"/>
                </a:solidFill>
                <a:latin typeface="Arial"/>
              </a:rPr>
              <a:t>nd</a:t>
            </a:r>
            <a:r>
              <a:rPr b="0" lang="en-US" sz="600" spc="-1" strike="noStrike">
                <a:solidFill>
                  <a:srgbClr val="009900"/>
                </a:solidFill>
                <a:latin typeface="Arial"/>
              </a:rPr>
              <a:t> topic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38600" y="5338800"/>
            <a:ext cx="123840" cy="0"/>
          </a:xfrm>
          <a:prstGeom prst="line">
            <a:avLst/>
          </a:prstGeom>
          <a:ln cap="sq" w="1260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419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nsor PARAFA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0"/>
          <a:stretch/>
        </p:blipFill>
        <p:spPr>
          <a:xfrm>
            <a:off x="6108840" y="2506680"/>
            <a:ext cx="2689200" cy="4208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6877080" y="3006720"/>
            <a:ext cx="199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cmmi10"/>
              </a:rPr>
              <a:t>w</a:t>
            </a:r>
            <a:r>
              <a:rPr b="0" lang="en-US" sz="1200" spc="-1" strike="noStrike" baseline="-25000">
                <a:solidFill>
                  <a:srgbClr val="000066"/>
                </a:solidFill>
                <a:latin typeface="cmmi10"/>
              </a:rPr>
              <a:t>k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= # unique links using term k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60200" y="5573880"/>
            <a:ext cx="0" cy="704520"/>
          </a:xfrm>
          <a:prstGeom prst="line">
            <a:avLst/>
          </a:prstGeom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0200" y="5573880"/>
            <a:ext cx="685800" cy="0"/>
          </a:xfrm>
          <a:prstGeom prst="line">
            <a:avLst/>
          </a:prstGeom>
          <a:ln cap="sq"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47600" y="5275440"/>
            <a:ext cx="380880" cy="304560"/>
          </a:xfrm>
          <a:prstGeom prst="line">
            <a:avLst/>
          </a:prstGeom>
          <a:ln cap="sq"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5F2-6D34-4C5E-831C-526FA77ADF1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al data are often in high dimensions with multiple aspects (mod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nsors provide elegant theory and algorith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AFAC and Tucker: discover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FE09-347B-4FBD-96C3-5D45D63EDA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. G. Kolda, B. W. Bader and J. P. Kenny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igher-Order Web Link Analysis Using Multilinear Algebr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In: ICDM 2005, Pages 242-249, November 2005.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Jimeng Su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fr-FR" sz="3200" spc="-1" strike="noStrike">
                <a:solidFill>
                  <a:srgbClr val="000066"/>
                </a:solidFill>
                <a:latin typeface="Times New Roman"/>
              </a:rPr>
              <a:t>Spiros Papadimitrio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Philip Yu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Window-based Tensor Analysis on High-dimensional and Multi-aspect Stream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roc. of the Int. Conf. on Data Mining (ICDM), Hong Kong, China, Dec 2006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812-3549-450E-A971-BBB3DDDC12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tutorial on tensors, KDD’07 (w/ Tamara Kolda and Jimeng Sun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ww.cs.cmu.edu/~christos/TALKS/KDD-07-tutori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3BD-A12C-470C-BB75-D6AC3A6BDFF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 tools - 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752120" y="1447920"/>
            <a:ext cx="72392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oolbox: from Tamara Kold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smr.ca.sandia.gov/~tgkolda/TensorToolbo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76FF224F-3E67-40D4-9E89-EE15D614B4F8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3" name="Picture 7" descr="kolda"/>
          <p:cNvPicPr/>
          <p:nvPr/>
        </p:nvPicPr>
        <p:blipFill>
          <a:blip r:embed="rId1"/>
          <a:stretch/>
        </p:blipFill>
        <p:spPr>
          <a:xfrm>
            <a:off x="304920" y="1600200"/>
            <a:ext cx="1139760" cy="1424160"/>
          </a:xfrm>
          <a:prstGeom prst="rect">
            <a:avLst/>
          </a:prstGeom>
          <a:ln w="0">
            <a:noFill/>
          </a:ln>
        </p:spPr>
      </p:pic>
      <p:sp>
        <p:nvSpPr>
          <p:cNvPr id="634" name="Slide Number Placeholder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A4C7A2D4-66E9-408E-915A-32C1D5C171E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4726080"/>
            <a:ext cx="9144000" cy="2105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G. Kolda and B. W. Bader.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Tensor Decompositions and Application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IAM Review, Volume 51, Number 3, September 2009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smr.ca.sandia.gov/~tgkolda/pubs/bibtgkfiles/TensorReview-preprint.pdf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. Kolda and J. Sun: Scalable Tensor Decomposition for Multi-Aspect Data Mining (ICDM 2008)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E9DD-0A59-4DBB-8C13-5A56580B3A7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s: PARAFAC and Tuck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web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EBF-FAF4-4FAB-9E70-A700CC1CB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108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116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2C6-9AC1-4B55-BC5F-439DEE2BE8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at is a tensor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EEE-560B-408E-BFE2-C458186EA3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26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47160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A25-5B29-41B2-9CC7-B851564CE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otivation: Why tensors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N-D generalization of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66120" y="3657600"/>
            <a:ext cx="8092080" cy="2482200"/>
            <a:chOff x="366120" y="3657600"/>
            <a:chExt cx="8092080" cy="2482200"/>
          </a:xfrm>
        </p:grpSpPr>
        <p:graphicFrame>
          <p:nvGraphicFramePr>
            <p:cNvPr id="145" name=""/>
            <p:cNvGraphicFramePr/>
            <p:nvPr/>
          </p:nvGraphicFramePr>
          <p:xfrm>
            <a:off x="1976400" y="42656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42656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7" name=""/>
            <p:cNvSpPr/>
            <p:nvPr/>
          </p:nvSpPr>
          <p:spPr>
            <a:xfrm>
              <a:off x="2211840" y="3657600"/>
              <a:ext cx="689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0080" y="3657600"/>
              <a:ext cx="1046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3657600"/>
              <a:ext cx="1038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66000" y="3657600"/>
              <a:ext cx="6393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3440" y="3774960"/>
              <a:ext cx="409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366120" y="4156200"/>
              <a:ext cx="842040" cy="1983600"/>
              <a:chOff x="366120" y="4156200"/>
              <a:chExt cx="842040" cy="1983600"/>
            </a:xfrm>
          </p:grpSpPr>
          <p:sp>
            <p:nvSpPr>
              <p:cNvPr id="153" name=""/>
              <p:cNvSpPr/>
              <p:nvPr/>
            </p:nvSpPr>
            <p:spPr>
              <a:xfrm>
                <a:off x="366840" y="41562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81240" y="44956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6120" y="4800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2320" y="51814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95440" y="5680080"/>
                <a:ext cx="4093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32004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7560" y="26668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7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4840" y="35654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KDD’09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7ED-3F7F-4360-BA2C-8F3055E545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438280" y="28954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3581280"/>
            <a:ext cx="647712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ensors are useful for 3 or more modes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erminology: ‘mode’ (or ‘aspect’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976400" y="42656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42656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2211840" y="3657600"/>
            <a:ext cx="68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10080" y="3657600"/>
            <a:ext cx="1046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70440" y="3657600"/>
            <a:ext cx="103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66000" y="3657600"/>
            <a:ext cx="63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53440" y="3774960"/>
            <a:ext cx="40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81080" y="2590920"/>
            <a:ext cx="533520" cy="167616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6477120"/>
            <a:ext cx="914400" cy="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3880" y="6172200"/>
            <a:ext cx="32364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 (== aspect) #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257800"/>
            <a:ext cx="0" cy="91440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752480" y="3047760"/>
            <a:ext cx="381240" cy="1066680"/>
          </a:xfrm>
          <a:prstGeom prst="line">
            <a:avLst/>
          </a:prstGeom>
          <a:ln w="7632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" y="556272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2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5720" y="3137040"/>
            <a:ext cx="1378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Mode#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CD4-D7C6-4DEB-AD56-E19F879217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 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34:34Z</dcterms:modified>
  <cp:revision>188</cp:revision>
  <dc:subject>tensors</dc:subject>
  <dc:title>KDD 09 tutorial</dc:title>
</cp:coreProperties>
</file>