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jpeg" ContentType="image/jpeg"/>
  <Override PartName="/ppt/media/image9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4.wmf" ContentType="image/x-wmf"/>
  <Override PartName="/ppt/media/image22.jpeg" ContentType="image/jpeg"/>
  <Override PartName="/ppt/media/image17.jpeg" ContentType="image/jpeg"/>
  <Override PartName="/ppt/media/image2.jpeg" ContentType="image/jpeg"/>
  <Override PartName="/ppt/media/image25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aloutsos, To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708463-4835-43D3-B81B-606FFA50D6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15B536-84E8-4A50-A78C-F919F0961B8B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FD199C6-9C0F-44D4-9904-32B238C4DE1C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8AF3F8-32B5-4C08-A2A7-5168471D4852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45645E-448E-4D5D-A41B-5F4184F2DB1E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D736-13A4-4383-80E9-8616228E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B04-E7D6-4703-BB3F-E2D33228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1595-4AC7-4028-B6EB-C1EF6601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9C76-7388-4F9D-88CB-0896780C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9617-D7AA-453A-990C-A7313277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F400-35A2-4A9E-B0BD-47CB66EB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C23B-0085-4311-B386-15878BB0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E546-E2EE-4C9D-B5E5-519DD06D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CAD1-5A6A-44D0-9E67-59DDD9B6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F7EE-8FF2-495A-98A2-402E6B69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12CF-7F0A-4B27-90E2-C486D740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EB7E-9447-4CAF-897A-8EB5C708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DE1A-71D0-46C6-86AE-891A0DAA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188F-B8EE-45FD-884E-2B1E6FB1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5882-5787-49B9-A4B2-87C030DA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30BE-EBB5-4E9B-98CA-90EC19E3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7A52-F892-4057-8DE5-BC002234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A6507-06DE-4FBD-9525-D79B60E7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991AB-E5CC-4AD6-B586-22253FD5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5DFA6-C9AC-43BE-825D-6E96A16F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6F72D-48C8-4BD2-AECF-70FADEE9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98D2A-B2F3-4BF4-996A-50E742FE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8C68-00D5-4F0A-BA92-593B816A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E8502-C351-4AE4-9FDC-030FB09A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5593D-1DD2-478B-861B-7AB09B81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E6844-989C-41B9-9A19-CA46EDAD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8D358-F9E1-4917-B09E-36473BC0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987F7-4D0F-4034-9CB4-1C78E0B2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54472-67A7-4EB5-A011-3F3F6142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A733-D390-4B98-B840-7D575AAB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E9049-A051-4392-A965-0E705F7F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AC08F-9122-43CC-BD09-073635DA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507B6-0B68-4C49-9D13-E6F3860B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791-B7BB-468A-AEA0-0FF0B757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A8810-4568-44C4-8C9D-AE676E79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A4D65-68E2-4BF0-9147-4CCB5600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4F1CC-D704-43EC-8046-03F9A90B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5EEFE-C9B6-4C5B-8B37-DF09356C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A0461-1821-44AF-B287-EDDEC15E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9CF9F-2831-4797-81EC-85149736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3E6F6-31D1-4C7E-B870-0CFB6D81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9009A-D090-4CA4-85BC-97EB9301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19429-782F-4753-831F-C433EC4B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7694-4DCC-4BE1-8772-B48D44A1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877-36DA-4E66-969D-929E4A09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E01-0909-4A6A-879D-54EDB195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8EAC-04B4-44D3-882A-DAFA88FF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6247-7D20-46AA-943E-7BB29CF9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5A161A8A-9C0F-444E-84E5-26F1D1046BB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2-</a:t>
            </a:r>
            <a:fld id="{1E3651D0-DFAB-4EEB-82D9-EAACC647B3B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6D4FF378-0DB9-4D69-832C-82A1A20C34E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D3D23EEA-2E20-4585-BD87-C0A2EB032EB6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s.cmu.edu/~deepay/mywww/software/CrossAssociations-01-27-2005.tgz" TargetMode="External"/><Relationship Id="rId2" Type="http://schemas.openxmlformats.org/officeDocument/2006/relationships/hyperlink" Target="http://www.cs.cmu.edu/~deepay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0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isi.edu/scan/mercator/maps.html" TargetMode="External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s.umn.edu/~metis" TargetMode="External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aloutsos, Miller, Tsourakak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E954-44E7-45A2-A549-0B6BA01725D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o-clustering –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,l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optimal #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ft clustering – matrix decomposi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2743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8B50-53E6-4ECB-80B9-FD39896628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roblem definition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bi-partite graph, 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ivide it into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ow groups 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ow group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Also applicable to uni-partite graph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AFD1-18F7-44FD-881F-E9133C3FA6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-clustering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data matrix and the number of row and column group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multaneousl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uster rows into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isjoint group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uster columns into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l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isjoint group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4" name="Group 5"/>
          <p:cNvGrpSpPr/>
          <p:nvPr/>
        </p:nvGrpSpPr>
        <p:grpSpPr>
          <a:xfrm>
            <a:off x="1828800" y="4267080"/>
            <a:ext cx="4740120" cy="2044440"/>
            <a:chOff x="1828800" y="4267080"/>
            <a:chExt cx="4740120" cy="2044440"/>
          </a:xfrm>
        </p:grpSpPr>
        <p:pic>
          <p:nvPicPr>
            <p:cNvPr id="265" name="Picture 6" descr="PZ"/>
            <p:cNvPicPr/>
            <p:nvPr/>
          </p:nvPicPr>
          <p:blipFill>
            <a:blip r:embed="rId1"/>
            <a:stretch/>
          </p:blipFill>
          <p:spPr>
            <a:xfrm>
              <a:off x="1828800" y="4419360"/>
              <a:ext cx="1903320" cy="18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" descr="cave"/>
            <p:cNvPicPr/>
            <p:nvPr/>
          </p:nvPicPr>
          <p:blipFill>
            <a:blip r:embed="rId2"/>
            <a:stretch/>
          </p:blipFill>
          <p:spPr>
            <a:xfrm>
              <a:off x="4648320" y="4267080"/>
              <a:ext cx="1920600" cy="20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AutoShape 8"/>
            <p:cNvSpPr/>
            <p:nvPr/>
          </p:nvSpPr>
          <p:spPr>
            <a:xfrm>
              <a:off x="3811680" y="5181480"/>
              <a:ext cx="760320" cy="228600"/>
            </a:xfrm>
            <a:prstGeom prst="rightArrow">
              <a:avLst>
                <a:gd name="adj1" fmla="val 50000"/>
                <a:gd name="adj2" fmla="val 83150"/>
              </a:avLst>
            </a:prstGeom>
            <a:solidFill>
              <a:srgbClr val="ff33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5105520" y="4267080"/>
              <a:ext cx="12189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3B42-EDE7-40A9-A0B8-754D1690955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-</a:t>
            </a:r>
            <a:fld id="{76678661-1FBB-4A77-B826-2F2456125BCD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-clustering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et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d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be discrete random variable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Y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ake values in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{1, 2, …, m}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{1, 2, …, n}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p(X, Y)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notes the joint probability distribution—if not known, it is often estimated based on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co-occurrenc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pplication areas: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text mining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market-basket analysis, analysis of browsing behavior, etc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ey Obstacles in Clustering Contingency Table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igh Dimensionality, Sparsity, Noi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ed for robust and scalable algorithm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Referenc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Dhillon et al. Information-Theoretic Co-clustering, KDD’0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C695-B4FF-49CB-998D-B64A00D0744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Object 2"/>
              <p:cNvSpPr txBox="1"/>
              <p:nvPr/>
            </p:nvSpPr>
            <p:spPr>
              <a:xfrm>
                <a:off x="3124080" y="1305000"/>
                <a:ext cx="194796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5486400" y="3514680"/>
                <a:ext cx="29527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5"/>
              <p:cNvSpPr txBox="1"/>
              <p:nvPr/>
            </p:nvSpPr>
            <p:spPr>
              <a:xfrm>
                <a:off x="642960" y="3514680"/>
                <a:ext cx="9828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1962000" y="3514680"/>
                <a:ext cx="6829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2800440" y="3591000"/>
                <a:ext cx="2590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Text Box 16"/>
          <p:cNvSpPr/>
          <p:nvPr/>
        </p:nvSpPr>
        <p:spPr>
          <a:xfrm>
            <a:off x="246960" y="420372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2734920" y="191772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 Box 18"/>
          <p:cNvSpPr/>
          <p:nvPr/>
        </p:nvSpPr>
        <p:spPr>
          <a:xfrm>
            <a:off x="3897000" y="8510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Text Box 19"/>
          <p:cNvSpPr/>
          <p:nvPr/>
        </p:nvSpPr>
        <p:spPr>
          <a:xfrm>
            <a:off x="3668400" y="31370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2181600" y="3137040"/>
            <a:ext cx="27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1717560" y="3746520"/>
            <a:ext cx="32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Text Box 22"/>
          <p:cNvSpPr/>
          <p:nvPr/>
        </p:nvSpPr>
        <p:spPr>
          <a:xfrm>
            <a:off x="925560" y="3060720"/>
            <a:ext cx="32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Text Box 23"/>
          <p:cNvSpPr/>
          <p:nvPr/>
        </p:nvSpPr>
        <p:spPr>
          <a:xfrm>
            <a:off x="2629080" y="3594240"/>
            <a:ext cx="27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Line 24"/>
          <p:cNvSpPr/>
          <p:nvPr/>
        </p:nvSpPr>
        <p:spPr>
          <a:xfrm>
            <a:off x="5638680" y="420048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Line 25"/>
          <p:cNvSpPr/>
          <p:nvPr/>
        </p:nvSpPr>
        <p:spPr>
          <a:xfrm>
            <a:off x="5638680" y="480996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26"/>
          <p:cNvSpPr/>
          <p:nvPr/>
        </p:nvSpPr>
        <p:spPr>
          <a:xfrm>
            <a:off x="7010280" y="366696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27"/>
          <p:cNvSpPr/>
          <p:nvPr/>
        </p:nvSpPr>
        <p:spPr>
          <a:xfrm>
            <a:off x="3276720" y="771480"/>
            <a:ext cx="7617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28"/>
          <p:cNvSpPr/>
          <p:nvPr/>
        </p:nvSpPr>
        <p:spPr>
          <a:xfrm>
            <a:off x="4267080" y="1000080"/>
            <a:ext cx="685800" cy="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Line 29"/>
          <p:cNvSpPr/>
          <p:nvPr/>
        </p:nvSpPr>
        <p:spPr>
          <a:xfrm>
            <a:off x="5486400" y="138096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30"/>
          <p:cNvSpPr/>
          <p:nvPr/>
        </p:nvSpPr>
        <p:spPr>
          <a:xfrm>
            <a:off x="5791320" y="2066760"/>
            <a:ext cx="0" cy="5335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Line 31"/>
          <p:cNvSpPr/>
          <p:nvPr/>
        </p:nvSpPr>
        <p:spPr>
          <a:xfrm>
            <a:off x="6172200" y="2676600"/>
            <a:ext cx="0" cy="3808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Text Box 32"/>
          <p:cNvSpPr/>
          <p:nvPr/>
        </p:nvSpPr>
        <p:spPr>
          <a:xfrm>
            <a:off x="5863320" y="153360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g, terms x docum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E92B-B258-4FA7-8C12-2436C44ACDD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7" name="Object 2"/>
              <p:cNvSpPr txBox="1"/>
              <p:nvPr/>
            </p:nvSpPr>
            <p:spPr>
              <a:xfrm>
                <a:off x="3124080" y="1324080"/>
                <a:ext cx="194796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5486400" y="3533760"/>
                <a:ext cx="29527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4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3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5"/>
              <p:cNvSpPr txBox="1"/>
              <p:nvPr/>
            </p:nvSpPr>
            <p:spPr>
              <a:xfrm>
                <a:off x="642960" y="3533760"/>
                <a:ext cx="98280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6"/>
              <p:cNvSpPr txBox="1"/>
              <p:nvPr/>
            </p:nvSpPr>
            <p:spPr>
              <a:xfrm>
                <a:off x="1962000" y="3533760"/>
                <a:ext cx="68292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7"/>
              <p:cNvSpPr txBox="1"/>
              <p:nvPr/>
            </p:nvSpPr>
            <p:spPr>
              <a:xfrm>
                <a:off x="2800440" y="3610080"/>
                <a:ext cx="2590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Line 22"/>
          <p:cNvSpPr/>
          <p:nvPr/>
        </p:nvSpPr>
        <p:spPr>
          <a:xfrm>
            <a:off x="5638680" y="421956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Line 23"/>
          <p:cNvSpPr/>
          <p:nvPr/>
        </p:nvSpPr>
        <p:spPr>
          <a:xfrm>
            <a:off x="5638680" y="4829040"/>
            <a:ext cx="2667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Line 24"/>
          <p:cNvSpPr/>
          <p:nvPr/>
        </p:nvSpPr>
        <p:spPr>
          <a:xfrm>
            <a:off x="7010280" y="368604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Line 25"/>
          <p:cNvSpPr/>
          <p:nvPr/>
        </p:nvSpPr>
        <p:spPr>
          <a:xfrm>
            <a:off x="3276720" y="790560"/>
            <a:ext cx="7617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Line 26"/>
          <p:cNvSpPr/>
          <p:nvPr/>
        </p:nvSpPr>
        <p:spPr>
          <a:xfrm>
            <a:off x="4267080" y="1019160"/>
            <a:ext cx="685800" cy="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Line 27"/>
          <p:cNvSpPr/>
          <p:nvPr/>
        </p:nvSpPr>
        <p:spPr>
          <a:xfrm>
            <a:off x="5486400" y="140004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Line 28"/>
          <p:cNvSpPr/>
          <p:nvPr/>
        </p:nvSpPr>
        <p:spPr>
          <a:xfrm>
            <a:off x="5791320" y="2085840"/>
            <a:ext cx="0" cy="53352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Line 29"/>
          <p:cNvSpPr/>
          <p:nvPr/>
        </p:nvSpPr>
        <p:spPr>
          <a:xfrm>
            <a:off x="6172200" y="2695680"/>
            <a:ext cx="0" cy="3808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Text Box 32"/>
          <p:cNvSpPr/>
          <p:nvPr/>
        </p:nvSpPr>
        <p:spPr>
          <a:xfrm>
            <a:off x="3277080" y="4600440"/>
            <a:ext cx="1654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oc 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oc grou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Text Box 33"/>
          <p:cNvSpPr/>
          <p:nvPr/>
        </p:nvSpPr>
        <p:spPr>
          <a:xfrm>
            <a:off x="408600" y="2238480"/>
            <a:ext cx="2038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term group 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doc. grou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Line 34"/>
          <p:cNvSpPr/>
          <p:nvPr/>
        </p:nvSpPr>
        <p:spPr>
          <a:xfrm>
            <a:off x="1905120" y="3152880"/>
            <a:ext cx="228600" cy="3045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Text Box 35"/>
          <p:cNvSpPr/>
          <p:nvPr/>
        </p:nvSpPr>
        <p:spPr>
          <a:xfrm>
            <a:off x="5715360" y="1324080"/>
            <a:ext cx="183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ed. ter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6095880" y="2009880"/>
            <a:ext cx="1432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00"/>
                </a:solidFill>
                <a:latin typeface="Arial"/>
              </a:rPr>
              <a:t>cs ter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Text Box 37"/>
          <p:cNvSpPr/>
          <p:nvPr/>
        </p:nvSpPr>
        <p:spPr>
          <a:xfrm>
            <a:off x="6323760" y="2543040"/>
            <a:ext cx="237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Arial"/>
              </a:rPr>
              <a:t>common ter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2429640" y="165240"/>
            <a:ext cx="1543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ed. doc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Text Box 39"/>
          <p:cNvSpPr/>
          <p:nvPr/>
        </p:nvSpPr>
        <p:spPr>
          <a:xfrm>
            <a:off x="4041720" y="393840"/>
            <a:ext cx="113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00"/>
                </a:solidFill>
                <a:latin typeface="Arial"/>
              </a:rPr>
              <a:t>cs doc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Text Box 31"/>
          <p:cNvSpPr/>
          <p:nvPr/>
        </p:nvSpPr>
        <p:spPr>
          <a:xfrm>
            <a:off x="305280" y="5819760"/>
            <a:ext cx="179928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erm x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erm-group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74F3-31AA-416B-AFB8-9DE4F919CCE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-clustering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es KL divergence, instead of L2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 middle matrix i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diagona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e’ll see that again in the Tucker tensor decomposi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/w a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ww.cs.utexas.edu/users/dml/Software/cocluster.htm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D423-7E38-48A4-BCC7-0C944B91473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k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o-clustering – (k,l)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optimal #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ft clustering – matrix decomposi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327672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0698-4EE0-45E1-BCFD-A5B76857883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Problem with Information Theoretic Co-clustering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umber of row and column groups must be specifi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3733920"/>
            <a:ext cx="7391520" cy="212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derata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multaneously discove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row and column grou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lly Automatic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No “magic numbers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alabl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large graph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358F-DF86-4146-A9AB-5CBF17318D2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ross-associ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889280" y="1295280"/>
            <a:ext cx="4740120" cy="2044440"/>
            <a:chOff x="1889280" y="1295280"/>
            <a:chExt cx="4740120" cy="2044440"/>
          </a:xfrm>
        </p:grpSpPr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1889280" y="1447560"/>
              <a:ext cx="1903320" cy="18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2"/>
            <a:stretch/>
          </p:blipFill>
          <p:spPr>
            <a:xfrm>
              <a:off x="4708800" y="1295280"/>
              <a:ext cx="1920600" cy="20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3872160" y="2209680"/>
              <a:ext cx="760320" cy="228600"/>
            </a:xfrm>
            <a:prstGeom prst="rightArrow">
              <a:avLst>
                <a:gd name="adj1" fmla="val 50000"/>
                <a:gd name="adj2" fmla="val 83150"/>
              </a:avLst>
            </a:prstGeom>
            <a:solidFill>
              <a:srgbClr val="ff33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66000" y="1295280"/>
              <a:ext cx="121896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304920" y="4800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3733920"/>
            <a:ext cx="7391520" cy="212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derata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multaneously discove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row and column group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lly Automatic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No “magic numbers”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alabl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large matri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Referenc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Chakrabarti et al. Fully Automatic Cross-Associations, KDD’0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BB63-9510-4E4C-80B0-93B453E86FC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2860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A58F-C7E6-499D-BEF1-EECF190405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at makes a cross-association “good”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812880" y="1905120"/>
            <a:ext cx="5335200" cy="2599920"/>
            <a:chOff x="812880" y="1905120"/>
            <a:chExt cx="5335200" cy="2599920"/>
          </a:xfrm>
        </p:grpSpPr>
        <p:pic>
          <p:nvPicPr>
            <p:cNvPr id="338" name="" descr=""/>
            <p:cNvPicPr/>
            <p:nvPr/>
          </p:nvPicPr>
          <p:blipFill>
            <a:blip r:embed="rId1"/>
            <a:stretch/>
          </p:blipFill>
          <p:spPr>
            <a:xfrm>
              <a:off x="999720" y="1967400"/>
              <a:ext cx="1946520" cy="20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4141440" y="1905120"/>
              <a:ext cx="2006640" cy="207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009240" y="2722680"/>
              <a:ext cx="9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ersu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942200" y="2156040"/>
              <a:ext cx="0" cy="16329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82120" y="2156040"/>
              <a:ext cx="0" cy="16329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1250640" y="2721240"/>
              <a:ext cx="16333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1250640" y="3223800"/>
              <a:ext cx="16333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14000" y="3852000"/>
              <a:ext cx="16333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2720" y="3862440"/>
              <a:ext cx="1633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181080" y="2721960"/>
              <a:ext cx="1631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200000">
              <a:off x="3331800" y="2721960"/>
              <a:ext cx="1631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32640" y="1905120"/>
              <a:ext cx="816840" cy="18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6705720" y="1905120"/>
            <a:ext cx="214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y is this bett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151680" y="2533680"/>
            <a:ext cx="628560" cy="376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813C-ED04-4947-B90C-7E45DDC51EA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at makes a cross-association “good”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812880" y="1905120"/>
            <a:ext cx="5335200" cy="2599920"/>
            <a:chOff x="812880" y="1905120"/>
            <a:chExt cx="5335200" cy="2599920"/>
          </a:xfrm>
        </p:grpSpPr>
        <p:pic>
          <p:nvPicPr>
            <p:cNvPr id="354" name="" descr=""/>
            <p:cNvPicPr/>
            <p:nvPr/>
          </p:nvPicPr>
          <p:blipFill>
            <a:blip r:embed="rId1"/>
            <a:stretch/>
          </p:blipFill>
          <p:spPr>
            <a:xfrm>
              <a:off x="999720" y="1967400"/>
              <a:ext cx="1946520" cy="20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4141440" y="1905120"/>
              <a:ext cx="2006640" cy="207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3009240" y="2722680"/>
              <a:ext cx="9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ersu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2200" y="2156040"/>
              <a:ext cx="0" cy="16329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82120" y="2156040"/>
              <a:ext cx="0" cy="163296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1250640" y="2721240"/>
              <a:ext cx="16333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250640" y="3223800"/>
              <a:ext cx="16333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14000" y="3852000"/>
              <a:ext cx="16333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392720" y="3862440"/>
              <a:ext cx="1633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181080" y="2721960"/>
              <a:ext cx="1631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3331800" y="2721960"/>
              <a:ext cx="1631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32640" y="1905120"/>
              <a:ext cx="816840" cy="18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6705720" y="1905120"/>
            <a:ext cx="214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y is this bett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6151680" y="2533680"/>
            <a:ext cx="628560" cy="376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653640" y="4800600"/>
            <a:ext cx="444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mpler; easier to describ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asier to compres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FE1C-83C7-4757-8DB0-6ED35D2416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at makes a cross-association “good”?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944640" y="1905120"/>
            <a:ext cx="3627360" cy="1460520"/>
            <a:chOff x="944640" y="1905120"/>
            <a:chExt cx="3627360" cy="1460520"/>
          </a:xfrm>
        </p:grpSpPr>
        <p:pic>
          <p:nvPicPr>
            <p:cNvPr id="371" name="" descr=""/>
            <p:cNvPicPr/>
            <p:nvPr/>
          </p:nvPicPr>
          <p:blipFill>
            <a:blip r:embed="rId1"/>
            <a:stretch/>
          </p:blipFill>
          <p:spPr>
            <a:xfrm>
              <a:off x="944640" y="1949400"/>
              <a:ext cx="1371600" cy="141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2"/>
            <a:stretch/>
          </p:blipFill>
          <p:spPr>
            <a:xfrm>
              <a:off x="3157560" y="1905120"/>
              <a:ext cx="1414440" cy="14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1609560" y="2081160"/>
              <a:ext cx="0" cy="115092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19160" y="2081160"/>
              <a:ext cx="0" cy="115092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120320" y="2479680"/>
              <a:ext cx="11509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120320" y="2833560"/>
              <a:ext cx="115092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609480" y="35053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blem definition: given an encoding sche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cide on the # of col. and row groups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d reorder rows and columns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o achieve best compress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4E4B-9F2E-4BA7-9324-1545750E63F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Main Idea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28600" y="2819520"/>
            <a:ext cx="8229600" cy="1755720"/>
            <a:chOff x="228600" y="2819520"/>
            <a:chExt cx="8229600" cy="1755720"/>
          </a:xfrm>
        </p:grpSpPr>
        <p:sp>
          <p:nvSpPr>
            <p:cNvPr id="380" name=""/>
            <p:cNvSpPr/>
            <p:nvPr/>
          </p:nvSpPr>
          <p:spPr>
            <a:xfrm>
              <a:off x="3962520" y="2895480"/>
              <a:ext cx="213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ze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i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* H(x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  <a:ea typeface="Arial"/>
                </a:rPr>
                <a:t>i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  +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943600" y="2819520"/>
              <a:ext cx="2514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Arial"/>
                  <a:ea typeface="Arial"/>
                </a:rPr>
                <a:t>Cost of describing cross-associations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6200000">
              <a:off x="4533840" y="2644560"/>
              <a:ext cx="380880" cy="19810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6200000">
              <a:off x="7048440" y="2568240"/>
              <a:ext cx="380880" cy="213372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9880" y="39020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Code Cos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48520" y="374976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Description Cost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81280" y="2911320"/>
              <a:ext cx="6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ff0000"/>
                  </a:solidFill>
                  <a:latin typeface="Arial"/>
                </a:rPr>
                <a:t>Σ</a:t>
              </a:r>
              <a:r>
                <a:rPr b="0" lang="en-US" sz="2800" spc="-1" strike="noStrike" baseline="-25000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0" lang="en-US" sz="2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8600" y="297180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Total Encoding Cost </a:t>
              </a:r>
              <a:r>
                <a:rPr b="0" lang="en-US" sz="2000" spc="-1" strike="noStrike">
                  <a:solidFill>
                    <a:srgbClr val="000066"/>
                  </a:solidFill>
                  <a:latin typeface="Arial"/>
                  <a:ea typeface="Arial"/>
                </a:rPr>
                <a:t>=</a:t>
              </a:r>
              <a:endParaRPr b="0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1066680" y="1727280"/>
            <a:ext cx="2286000" cy="8254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od Compress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52680" y="210816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15000" y="1727280"/>
            <a:ext cx="1981080" cy="8254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etter Cluste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52480" y="4724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nimize the total cost (# bits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lossless compress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68BA-A864-4605-922E-0FC24CA191E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5800" y="1582560"/>
            <a:ext cx="7696080" cy="4286160"/>
            <a:chOff x="685800" y="1582560"/>
            <a:chExt cx="7696080" cy="4286160"/>
          </a:xfrm>
        </p:grpSpPr>
        <p:pic>
          <p:nvPicPr>
            <p:cNvPr id="395" name="" descr=""/>
            <p:cNvPicPr/>
            <p:nvPr/>
          </p:nvPicPr>
          <p:blipFill>
            <a:blip r:embed="rId1"/>
            <a:stretch/>
          </p:blipFill>
          <p:spPr>
            <a:xfrm>
              <a:off x="5638680" y="1873080"/>
              <a:ext cx="1828800" cy="19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" descr=""/>
            <p:cNvPicPr/>
            <p:nvPr/>
          </p:nvPicPr>
          <p:blipFill>
            <a:blip r:embed="rId2"/>
            <a:stretch/>
          </p:blipFill>
          <p:spPr>
            <a:xfrm>
              <a:off x="1447920" y="1873080"/>
              <a:ext cx="1828800" cy="194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3430440" y="2711520"/>
              <a:ext cx="2132280" cy="152280"/>
            </a:xfrm>
            <a:prstGeom prst="rightArrow">
              <a:avLst>
                <a:gd name="adj1" fmla="val 50000"/>
                <a:gd name="adj2" fmla="val 350059"/>
              </a:avLst>
            </a:prstGeom>
            <a:solidFill>
              <a:srgbClr val="ff33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3468200">
              <a:off x="6972120" y="3891960"/>
              <a:ext cx="685800" cy="15228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5400000">
              <a:off x="6773400" y="2717640"/>
              <a:ext cx="1905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k = 5 row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685800" y="3618000"/>
              <a:ext cx="1149480" cy="2250720"/>
              <a:chOff x="685800" y="3618000"/>
              <a:chExt cx="1149480" cy="2250720"/>
            </a:xfrm>
          </p:grpSpPr>
          <p:pic>
            <p:nvPicPr>
              <p:cNvPr id="4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5800" y="4233960"/>
                <a:ext cx="91440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 rot="7915200">
                <a:off x="1206360" y="3847680"/>
                <a:ext cx="685800" cy="152640"/>
              </a:xfrm>
              <a:prstGeom prst="rightArrow">
                <a:avLst>
                  <a:gd name="adj1" fmla="val 50000"/>
                  <a:gd name="adj2" fmla="val 112323"/>
                </a:avLst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38080" y="522612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k=1, l=2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1600200" y="4233960"/>
              <a:ext cx="1143000" cy="1602720"/>
              <a:chOff x="1600200" y="4233960"/>
              <a:chExt cx="1143000" cy="1602720"/>
            </a:xfrm>
          </p:grpSpPr>
          <p:pic>
            <p:nvPicPr>
              <p:cNvPr id="4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828800" y="4233960"/>
                <a:ext cx="91440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>
                <a:off x="1600200" y="4616280"/>
                <a:ext cx="304920" cy="152640"/>
              </a:xfrm>
              <a:prstGeom prst="rightArrow">
                <a:avLst>
                  <a:gd name="adj1" fmla="val 50000"/>
                  <a:gd name="adj2" fmla="val 49941"/>
                </a:avLst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981080" y="519408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k=2, l=2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743200" y="4235400"/>
              <a:ext cx="1066680" cy="1601280"/>
              <a:chOff x="2743200" y="4235400"/>
              <a:chExt cx="1066680" cy="1601280"/>
            </a:xfrm>
          </p:grpSpPr>
          <p:pic>
            <p:nvPicPr>
              <p:cNvPr id="40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895480" y="4235400"/>
                <a:ext cx="91440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>
                <a:off x="2743200" y="4616280"/>
                <a:ext cx="304920" cy="152640"/>
              </a:xfrm>
              <a:prstGeom prst="rightArrow">
                <a:avLst>
                  <a:gd name="adj1" fmla="val 50000"/>
                  <a:gd name="adj2" fmla="val 49941"/>
                </a:avLst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24080" y="519408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k=2, l=3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3809880" y="4233960"/>
              <a:ext cx="1143000" cy="1634760"/>
              <a:chOff x="3809880" y="4233960"/>
              <a:chExt cx="1143000" cy="1634760"/>
            </a:xfrm>
          </p:grpSpPr>
          <p:pic>
            <p:nvPicPr>
              <p:cNvPr id="41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038480" y="4233960"/>
                <a:ext cx="914400" cy="96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>
                <a:off x="3809880" y="4616280"/>
                <a:ext cx="304920" cy="152640"/>
              </a:xfrm>
              <a:prstGeom prst="rightArrow">
                <a:avLst>
                  <a:gd name="adj1" fmla="val 50000"/>
                  <a:gd name="adj2" fmla="val 49941"/>
                </a:avLst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267080" y="522612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k=3, l=3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952880" y="4233960"/>
              <a:ext cx="1143000" cy="1634760"/>
              <a:chOff x="4952880" y="4233960"/>
              <a:chExt cx="1143000" cy="1634760"/>
            </a:xfrm>
          </p:grpSpPr>
          <p:pic>
            <p:nvPicPr>
              <p:cNvPr id="4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181480" y="4233960"/>
                <a:ext cx="91440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4952880" y="4616280"/>
                <a:ext cx="304920" cy="152640"/>
              </a:xfrm>
              <a:prstGeom prst="rightArrow">
                <a:avLst>
                  <a:gd name="adj1" fmla="val 50000"/>
                  <a:gd name="adj2" fmla="val 49941"/>
                </a:avLst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410080" y="522612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k=3, l=4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095880" y="4233960"/>
              <a:ext cx="1143000" cy="1634760"/>
              <a:chOff x="6095880" y="4233960"/>
              <a:chExt cx="1143000" cy="1634760"/>
            </a:xfrm>
          </p:grpSpPr>
          <p:pic>
            <p:nvPicPr>
              <p:cNvPr id="42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324480" y="4233960"/>
                <a:ext cx="91440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"/>
              <p:cNvSpPr/>
              <p:nvPr/>
            </p:nvSpPr>
            <p:spPr>
              <a:xfrm>
                <a:off x="6095880" y="4616280"/>
                <a:ext cx="304920" cy="152640"/>
              </a:xfrm>
              <a:prstGeom prst="rightArrow">
                <a:avLst>
                  <a:gd name="adj1" fmla="val 50000"/>
                  <a:gd name="adj2" fmla="val 49941"/>
                </a:avLst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553080" y="522612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k=4, l=4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7238880" y="4233960"/>
              <a:ext cx="1143000" cy="1634760"/>
              <a:chOff x="7238880" y="4233960"/>
              <a:chExt cx="1143000" cy="1634760"/>
            </a:xfrm>
          </p:grpSpPr>
          <p:pic>
            <p:nvPicPr>
              <p:cNvPr id="42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467480" y="4233960"/>
                <a:ext cx="914400" cy="96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"/>
              <p:cNvSpPr/>
              <p:nvPr/>
            </p:nvSpPr>
            <p:spPr>
              <a:xfrm>
                <a:off x="7238880" y="4616280"/>
                <a:ext cx="304920" cy="152640"/>
              </a:xfrm>
              <a:prstGeom prst="rightArrow">
                <a:avLst>
                  <a:gd name="adj1" fmla="val 50000"/>
                  <a:gd name="adj2" fmla="val 49941"/>
                </a:avLst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696080" y="522612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k=4, l=5</a:t>
                </a: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6019920" y="1797120"/>
              <a:ext cx="12189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715000" y="1582560"/>
              <a:ext cx="1905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l = 5 col groups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4804-537C-4CAA-B2E6-A7F932C9C16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390600" y="1366920"/>
            <a:ext cx="2962080" cy="28432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657600" y="1523880"/>
            <a:ext cx="5105520" cy="4499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ASSIC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,893 docum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,303 wor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spcAft>
                <a:spcPts val="1400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176,347 “dots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bination of 3 source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DLINE (medic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ISI (info. retriev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RANFIELD (aerodynamic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16200000">
            <a:off x="-620640" y="248256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14400" y="403848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00B1-9A64-40C5-BE60-2BF4C701CF4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390600" y="1366920"/>
            <a:ext cx="2962080" cy="28432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4038480" y="914400"/>
            <a:ext cx="4191120" cy="40194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429000" y="2590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5781600"/>
            <a:ext cx="75438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ASSIC” graph of documents &amp; words: k=15, l=19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962520" y="838080"/>
            <a:ext cx="50292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86200" y="1143000"/>
            <a:ext cx="99072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38480" y="4259160"/>
            <a:ext cx="4876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-620640" y="248256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4038480"/>
            <a:ext cx="2362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87BB-DAE2-42E3-A0D6-702CC2412F6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3124080" y="1884240"/>
            <a:ext cx="4953240" cy="43545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3276720" y="5533920"/>
            <a:ext cx="4876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5781600"/>
            <a:ext cx="75438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ASSIC” graph of documents &amp; words: k=15, l=19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76720" y="1819440"/>
            <a:ext cx="5029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2417760"/>
            <a:ext cx="99072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52480" y="25146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DLIN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edic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248112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0880" y="1143000"/>
            <a:ext cx="3581640" cy="703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sipidus, alveolar, aortic, death, prognosis, intravenou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285920"/>
            <a:ext cx="3733920" cy="703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lood, disease, clinical, cell, tissue, pati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962520" y="1895400"/>
            <a:ext cx="30456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800240" y="1895400"/>
            <a:ext cx="152280" cy="533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2428920"/>
            <a:ext cx="533520" cy="30481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648320" y="2428920"/>
            <a:ext cx="228600" cy="30481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1CB2-4BBD-4F70-B556-93E49ECABFD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3124080" y="1884240"/>
            <a:ext cx="4953240" cy="435456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3276720" y="5533920"/>
            <a:ext cx="4876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5781600"/>
            <a:ext cx="75438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ASSIC” graph of documents &amp; words: k=15, l=19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1819440"/>
            <a:ext cx="5029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124080" y="2417760"/>
            <a:ext cx="99072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886200" y="248112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8080" y="341316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ISI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(Information Retriev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86200" y="326700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2428920"/>
            <a:ext cx="914400" cy="3048120"/>
          </a:xfrm>
          <a:prstGeom prst="rect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1447920"/>
            <a:ext cx="3886200" cy="703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providing, studying, records, development, students, rul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24280" y="1895400"/>
            <a:ext cx="304920" cy="5335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105520" y="1143000"/>
            <a:ext cx="3429000" cy="703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abstract, notation, works, construct, bibliograph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486040" y="1895400"/>
            <a:ext cx="152280" cy="5335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52480" y="25146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DLIN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edic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5AA5-0BBB-4148-920D-80B7F26FA46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3124080" y="1884240"/>
            <a:ext cx="4953240" cy="43545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276720" y="5533920"/>
            <a:ext cx="4876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5781600"/>
            <a:ext cx="75438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ASSIC” graph of documents &amp; words: k=15, l=19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276720" y="1819440"/>
            <a:ext cx="5029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124080" y="2417760"/>
            <a:ext cx="99072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86200" y="248112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326700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143000" y="473076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RANFIELD (aerodynamic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86200" y="441000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2428920"/>
            <a:ext cx="609480" cy="304812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105520" y="1143000"/>
            <a:ext cx="2895480" cy="7038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hape, nasa, leading, assumed, thi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867280" y="1895400"/>
            <a:ext cx="152640" cy="53352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38080" y="341316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ISI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(Information Retriev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752480" y="25146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DLIN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edic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54A2-4D0E-4743-AEC4-14201D42159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o-clustering –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,l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optimal #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213372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83A6-1228-42A8-BA3F-B75D87CE64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3124080" y="1884240"/>
            <a:ext cx="4953240" cy="435456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276720" y="5533920"/>
            <a:ext cx="4876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5781600"/>
            <a:ext cx="75438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ASSIC” graph of documents &amp; words: k=15, l=19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276720" y="1819440"/>
            <a:ext cx="50292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2417760"/>
            <a:ext cx="99072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86200" y="2481120"/>
            <a:ext cx="152280" cy="762120"/>
          </a:xfrm>
          <a:custGeom>
            <a:avLst/>
            <a:gdLst>
              <a:gd name="textAreaLeft" fmla="*/ 97200 w 152280"/>
              <a:gd name="textAreaRight" fmla="*/ 15264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326700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86200" y="441000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1285920"/>
            <a:ext cx="2971800" cy="7038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aint, examination, fall, raise, leave, base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86600" y="1895400"/>
            <a:ext cx="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143000" y="473076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RANFIELD (aerodynamic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38080" y="341316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ISI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(Information Retriev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52480" y="25146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EDLINE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edical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1EA7-6BFF-4703-8F16-800D316B25C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de for cross-associations (matlab)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ff"/>
                </a:solidFill>
                <a:uFillTx/>
                <a:latin typeface="宋体"/>
                <a:hlinkClick r:id="rId1"/>
              </a:rPr>
              <a:t>www.cs.cmu.edu/~deepay/mywww/software/CrossAssociations-01-27-2005.tgz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ariations and extension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utopart’ [Chakrabarti, PKDD’04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3366ff"/>
                </a:solidFill>
                <a:uFillTx/>
                <a:latin typeface="宋体"/>
                <a:hlinkClick r:id="rId2"/>
              </a:rPr>
              <a:t>www.cs.cmu.edu/~deepa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05" name="Rectangle 3" descr=""/>
          <p:cNvPicPr/>
          <p:nvPr/>
        </p:nvPicPr>
        <p:blipFill>
          <a:blip r:embed="rId3"/>
          <a:stretch/>
        </p:blipFill>
        <p:spPr>
          <a:xfrm>
            <a:off x="7238880" y="3581280"/>
            <a:ext cx="101628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BD04-261B-4109-93EC-A3FDA3B8EFF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adoop implementation [ICDM’08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08" name="Rectangle 3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1182600" cy="133524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0" y="5791320"/>
            <a:ext cx="9144000" cy="10998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piros Papadimitriou, Jimeng Sun: DisCo: Distributed Co-clustering with Map-Reduce: A Case Study towards Petabyte-Scale End-to-End Mining. ICDM 2008: 512-521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0" name="Rectangle 3" descr=""/>
          <p:cNvPicPr/>
          <p:nvPr/>
        </p:nvPicPr>
        <p:blipFill>
          <a:blip r:embed="rId2"/>
          <a:stretch/>
        </p:blipFill>
        <p:spPr>
          <a:xfrm>
            <a:off x="2590920" y="3733920"/>
            <a:ext cx="1428480" cy="139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569A-BDD2-4EB8-B234-B6BE569865A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tailed outlin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o-clustering –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,l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optimal #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04920" y="3886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683F-5586-468C-B87F-8543592D74A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#1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kewed degree distributions – there are nodes with huge degree (&gt;O(10^4), in facebook/linkedIn popularity contests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7188-E4BD-4AB3-9C58-CA9FAB1AC0F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#2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aybe there are no good cuts: ``jellyfish’’ shape [Tauro+’01], [Siganos+,’06], strange behavior of cuts [Chakrabarti+’04], [Leskovec+,’08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57200" y="4038480"/>
            <a:ext cx="1447920" cy="1143000"/>
            <a:chOff x="457200" y="4038480"/>
            <a:chExt cx="1447920" cy="1143000"/>
          </a:xfrm>
        </p:grpSpPr>
        <p:sp>
          <p:nvSpPr>
            <p:cNvPr id="519" name=""/>
            <p:cNvSpPr/>
            <p:nvPr/>
          </p:nvSpPr>
          <p:spPr>
            <a:xfrm>
              <a:off x="685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2388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676520" y="457200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66680" y="49528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57200" y="464832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524" name=""/>
            <p:cNvCxnSpPr>
              <a:stCxn id="519" idx="6"/>
              <a:endCxn id="520" idx="2"/>
            </p:cNvCxnSpPr>
            <p:nvPr/>
          </p:nvCxnSpPr>
          <p:spPr>
            <a:xfrm>
              <a:off x="928800" y="4152600"/>
              <a:ext cx="581400" cy="10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25" name=""/>
            <p:cNvCxnSpPr>
              <a:stCxn id="519" idx="3"/>
              <a:endCxn id="523" idx="7"/>
            </p:cNvCxnSpPr>
            <p:nvPr/>
          </p:nvCxnSpPr>
          <p:spPr>
            <a:xfrm flipH="1">
              <a:off x="651960" y="4247640"/>
              <a:ext cx="67680" cy="4201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26" name=""/>
            <p:cNvCxnSpPr>
              <a:stCxn id="519" idx="5"/>
              <a:endCxn id="522" idx="1"/>
            </p:cNvCxnSpPr>
            <p:nvPr/>
          </p:nvCxnSpPr>
          <p:spPr>
            <a:xfrm>
              <a:off x="880560" y="4247640"/>
              <a:ext cx="219960" cy="7246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27" name=""/>
            <p:cNvCxnSpPr>
              <a:stCxn id="519" idx="6"/>
              <a:endCxn id="521" idx="2"/>
            </p:cNvCxnSpPr>
            <p:nvPr/>
          </p:nvCxnSpPr>
          <p:spPr>
            <a:xfrm>
              <a:off x="928440" y="4152960"/>
              <a:ext cx="734040" cy="5342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28" name=""/>
            <p:cNvCxnSpPr>
              <a:stCxn id="520" idx="4"/>
              <a:endCxn id="521" idx="0"/>
            </p:cNvCxnSpPr>
            <p:nvPr/>
          </p:nvCxnSpPr>
          <p:spPr>
            <a:xfrm>
              <a:off x="1638000" y="4281120"/>
              <a:ext cx="153000" cy="2768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29" name=""/>
            <p:cNvCxnSpPr>
              <a:stCxn id="520" idx="2"/>
              <a:endCxn id="522" idx="0"/>
            </p:cNvCxnSpPr>
            <p:nvPr/>
          </p:nvCxnSpPr>
          <p:spPr>
            <a:xfrm flipH="1">
              <a:off x="1180800" y="4152600"/>
              <a:ext cx="329040" cy="7866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30" name=""/>
            <p:cNvCxnSpPr>
              <a:stCxn id="523" idx="5"/>
              <a:endCxn id="522" idx="2"/>
            </p:cNvCxnSpPr>
            <p:nvPr/>
          </p:nvCxnSpPr>
          <p:spPr>
            <a:xfrm>
              <a:off x="652320" y="4857840"/>
              <a:ext cx="401040" cy="2102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31" name=""/>
            <p:cNvCxnSpPr>
              <a:stCxn id="522" idx="7"/>
              <a:endCxn id="521" idx="3"/>
            </p:cNvCxnSpPr>
            <p:nvPr/>
          </p:nvCxnSpPr>
          <p:spPr>
            <a:xfrm flipV="1">
              <a:off x="1261800" y="4780800"/>
              <a:ext cx="448200" cy="191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32" name=""/>
            <p:cNvCxnSpPr>
              <a:stCxn id="523" idx="6"/>
              <a:endCxn id="521" idx="2"/>
            </p:cNvCxnSpPr>
            <p:nvPr/>
          </p:nvCxnSpPr>
          <p:spPr>
            <a:xfrm flipV="1">
              <a:off x="700200" y="4685760"/>
              <a:ext cx="962640" cy="766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33" name=""/>
            <p:cNvCxnSpPr>
              <a:stCxn id="520" idx="2"/>
              <a:endCxn id="523" idx="6"/>
            </p:cNvCxnSpPr>
            <p:nvPr/>
          </p:nvCxnSpPr>
          <p:spPr>
            <a:xfrm flipH="1">
              <a:off x="699480" y="4152600"/>
              <a:ext cx="810360" cy="61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</p:grpSp>
      <p:sp>
        <p:nvSpPr>
          <p:cNvPr id="534" name=""/>
          <p:cNvSpPr/>
          <p:nvPr/>
        </p:nvSpPr>
        <p:spPr>
          <a:xfrm>
            <a:off x="3429000" y="38862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267080" y="38862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419720" y="44197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809880" y="48006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200400" y="44956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39" name=""/>
          <p:cNvCxnSpPr>
            <a:stCxn id="534" idx="6"/>
            <a:endCxn id="535" idx="2"/>
          </p:cNvCxnSpPr>
          <p:nvPr/>
        </p:nvCxnSpPr>
        <p:spPr>
          <a:xfrm>
            <a:off x="3672000" y="4000320"/>
            <a:ext cx="581400" cy="1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0" name=""/>
          <p:cNvCxnSpPr>
            <a:stCxn id="534" idx="3"/>
            <a:endCxn id="538" idx="7"/>
          </p:cNvCxnSpPr>
          <p:nvPr/>
        </p:nvCxnSpPr>
        <p:spPr>
          <a:xfrm flipH="1">
            <a:off x="3395160" y="4095720"/>
            <a:ext cx="67680" cy="4197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1" name=""/>
          <p:cNvCxnSpPr>
            <a:stCxn id="534" idx="5"/>
            <a:endCxn id="537" idx="1"/>
          </p:cNvCxnSpPr>
          <p:nvPr/>
        </p:nvCxnSpPr>
        <p:spPr>
          <a:xfrm>
            <a:off x="3623760" y="4095360"/>
            <a:ext cx="219960" cy="7246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2" name=""/>
          <p:cNvCxnSpPr>
            <a:stCxn id="534" idx="6"/>
            <a:endCxn id="536" idx="2"/>
          </p:cNvCxnSpPr>
          <p:nvPr/>
        </p:nvCxnSpPr>
        <p:spPr>
          <a:xfrm>
            <a:off x="3671640" y="4000320"/>
            <a:ext cx="734040" cy="5338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3" name=""/>
          <p:cNvCxnSpPr>
            <a:stCxn id="535" idx="4"/>
            <a:endCxn id="536" idx="0"/>
          </p:cNvCxnSpPr>
          <p:nvPr/>
        </p:nvCxnSpPr>
        <p:spPr>
          <a:xfrm>
            <a:off x="4381200" y="4128840"/>
            <a:ext cx="153000" cy="2768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4" name=""/>
          <p:cNvCxnSpPr>
            <a:stCxn id="535" idx="2"/>
            <a:endCxn id="537" idx="0"/>
          </p:cNvCxnSpPr>
          <p:nvPr/>
        </p:nvCxnSpPr>
        <p:spPr>
          <a:xfrm flipH="1">
            <a:off x="3924000" y="4000680"/>
            <a:ext cx="329040" cy="7862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5" name=""/>
          <p:cNvCxnSpPr>
            <a:stCxn id="538" idx="5"/>
            <a:endCxn id="537" idx="2"/>
          </p:cNvCxnSpPr>
          <p:nvPr/>
        </p:nvCxnSpPr>
        <p:spPr>
          <a:xfrm>
            <a:off x="3395520" y="4704840"/>
            <a:ext cx="401040" cy="2106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6" name=""/>
          <p:cNvCxnSpPr>
            <a:stCxn id="537" idx="7"/>
            <a:endCxn id="536" idx="3"/>
          </p:cNvCxnSpPr>
          <p:nvPr/>
        </p:nvCxnSpPr>
        <p:spPr>
          <a:xfrm flipV="1">
            <a:off x="4005000" y="4628520"/>
            <a:ext cx="448200" cy="1911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7" name=""/>
          <p:cNvCxnSpPr>
            <a:stCxn id="538" idx="6"/>
            <a:endCxn id="536" idx="2"/>
          </p:cNvCxnSpPr>
          <p:nvPr/>
        </p:nvCxnSpPr>
        <p:spPr>
          <a:xfrm flipV="1">
            <a:off x="3443400" y="4533840"/>
            <a:ext cx="962640" cy="766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48" name=""/>
          <p:cNvCxnSpPr>
            <a:stCxn id="535" idx="2"/>
            <a:endCxn id="538" idx="6"/>
          </p:cNvCxnSpPr>
          <p:nvPr/>
        </p:nvCxnSpPr>
        <p:spPr>
          <a:xfrm flipH="1">
            <a:off x="3442680" y="4000320"/>
            <a:ext cx="810360" cy="6102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549" name=""/>
          <p:cNvSpPr/>
          <p:nvPr/>
        </p:nvSpPr>
        <p:spPr>
          <a:xfrm>
            <a:off x="3581280" y="54864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886200" y="55627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191120" y="54100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105520" y="41911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105520" y="48769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257800" y="44956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55" name=""/>
          <p:cNvCxnSpPr>
            <a:stCxn id="537" idx="3"/>
            <a:endCxn id="549" idx="0"/>
          </p:cNvCxnSpPr>
          <p:nvPr/>
        </p:nvCxnSpPr>
        <p:spPr>
          <a:xfrm flipH="1">
            <a:off x="3695400" y="5009760"/>
            <a:ext cx="148320" cy="4626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56" name=""/>
          <p:cNvCxnSpPr>
            <a:stCxn id="537" idx="4"/>
            <a:endCxn id="550" idx="0"/>
          </p:cNvCxnSpPr>
          <p:nvPr/>
        </p:nvCxnSpPr>
        <p:spPr>
          <a:xfrm>
            <a:off x="3924360" y="5043600"/>
            <a:ext cx="76680" cy="5054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57" name=""/>
          <p:cNvCxnSpPr>
            <a:stCxn id="537" idx="5"/>
            <a:endCxn id="551" idx="1"/>
          </p:cNvCxnSpPr>
          <p:nvPr/>
        </p:nvCxnSpPr>
        <p:spPr>
          <a:xfrm>
            <a:off x="4005360" y="5010120"/>
            <a:ext cx="219600" cy="4197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58" name=""/>
          <p:cNvCxnSpPr>
            <a:stCxn id="536" idx="5"/>
            <a:endCxn id="553" idx="2"/>
          </p:cNvCxnSpPr>
          <p:nvPr/>
        </p:nvCxnSpPr>
        <p:spPr>
          <a:xfrm>
            <a:off x="4614480" y="4628880"/>
            <a:ext cx="477000" cy="36252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59" name=""/>
          <p:cNvCxnSpPr>
            <a:stCxn id="536" idx="6"/>
            <a:endCxn id="554" idx="2"/>
          </p:cNvCxnSpPr>
          <p:nvPr/>
        </p:nvCxnSpPr>
        <p:spPr>
          <a:xfrm>
            <a:off x="4662360" y="4533840"/>
            <a:ext cx="581400" cy="766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60" name=""/>
          <p:cNvCxnSpPr>
            <a:stCxn id="536" idx="7"/>
            <a:endCxn id="552" idx="2"/>
          </p:cNvCxnSpPr>
          <p:nvPr/>
        </p:nvCxnSpPr>
        <p:spPr>
          <a:xfrm flipV="1">
            <a:off x="4614480" y="4304520"/>
            <a:ext cx="477000" cy="1342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407F-4279-44FB-B7C6-5E1DD824048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Observation #2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aybe there are no good cuts: ``jellyfish’’ shape [Tauro+’01], [Siganos+,’06], strange behavior of cuts [Chakrabarti+,’04], [Leskovec+,’08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57200" y="4038480"/>
            <a:ext cx="1447920" cy="1143000"/>
            <a:chOff x="457200" y="4038480"/>
            <a:chExt cx="1447920" cy="1143000"/>
          </a:xfrm>
        </p:grpSpPr>
        <p:sp>
          <p:nvSpPr>
            <p:cNvPr id="564" name=""/>
            <p:cNvSpPr/>
            <p:nvPr/>
          </p:nvSpPr>
          <p:spPr>
            <a:xfrm>
              <a:off x="68580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23880" y="40384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676520" y="457200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66680" y="495288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7200" y="4648320"/>
              <a:ext cx="228600" cy="22860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569" name=""/>
            <p:cNvCxnSpPr>
              <a:stCxn id="564" idx="6"/>
              <a:endCxn id="565" idx="2"/>
            </p:cNvCxnSpPr>
            <p:nvPr/>
          </p:nvCxnSpPr>
          <p:spPr>
            <a:xfrm>
              <a:off x="928800" y="4152600"/>
              <a:ext cx="581400" cy="10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0" name=""/>
            <p:cNvCxnSpPr>
              <a:stCxn id="564" idx="3"/>
              <a:endCxn id="568" idx="7"/>
            </p:cNvCxnSpPr>
            <p:nvPr/>
          </p:nvCxnSpPr>
          <p:spPr>
            <a:xfrm flipH="1">
              <a:off x="651960" y="4247640"/>
              <a:ext cx="67680" cy="4201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1" name=""/>
            <p:cNvCxnSpPr>
              <a:stCxn id="564" idx="5"/>
              <a:endCxn id="567" idx="1"/>
            </p:cNvCxnSpPr>
            <p:nvPr/>
          </p:nvCxnSpPr>
          <p:spPr>
            <a:xfrm>
              <a:off x="880560" y="4247640"/>
              <a:ext cx="219960" cy="7246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2" name=""/>
            <p:cNvCxnSpPr>
              <a:stCxn id="564" idx="6"/>
              <a:endCxn id="566" idx="2"/>
            </p:cNvCxnSpPr>
            <p:nvPr/>
          </p:nvCxnSpPr>
          <p:spPr>
            <a:xfrm>
              <a:off x="928440" y="4152960"/>
              <a:ext cx="734040" cy="5342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3" name=""/>
            <p:cNvCxnSpPr>
              <a:stCxn id="565" idx="4"/>
              <a:endCxn id="566" idx="0"/>
            </p:cNvCxnSpPr>
            <p:nvPr/>
          </p:nvCxnSpPr>
          <p:spPr>
            <a:xfrm>
              <a:off x="1638000" y="4281120"/>
              <a:ext cx="153000" cy="2768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4" name=""/>
            <p:cNvCxnSpPr>
              <a:stCxn id="565" idx="2"/>
              <a:endCxn id="567" idx="0"/>
            </p:cNvCxnSpPr>
            <p:nvPr/>
          </p:nvCxnSpPr>
          <p:spPr>
            <a:xfrm flipH="1">
              <a:off x="1180800" y="4152600"/>
              <a:ext cx="329040" cy="7866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5" name=""/>
            <p:cNvCxnSpPr>
              <a:stCxn id="568" idx="5"/>
              <a:endCxn id="567" idx="2"/>
            </p:cNvCxnSpPr>
            <p:nvPr/>
          </p:nvCxnSpPr>
          <p:spPr>
            <a:xfrm>
              <a:off x="652320" y="4857840"/>
              <a:ext cx="401040" cy="2102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6" name=""/>
            <p:cNvCxnSpPr>
              <a:stCxn id="567" idx="7"/>
              <a:endCxn id="566" idx="3"/>
            </p:cNvCxnSpPr>
            <p:nvPr/>
          </p:nvCxnSpPr>
          <p:spPr>
            <a:xfrm flipV="1">
              <a:off x="1261800" y="4780800"/>
              <a:ext cx="448200" cy="191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7" name=""/>
            <p:cNvCxnSpPr>
              <a:stCxn id="568" idx="6"/>
              <a:endCxn id="566" idx="2"/>
            </p:cNvCxnSpPr>
            <p:nvPr/>
          </p:nvCxnSpPr>
          <p:spPr>
            <a:xfrm flipV="1">
              <a:off x="700200" y="4685760"/>
              <a:ext cx="962640" cy="766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578" name=""/>
            <p:cNvCxnSpPr>
              <a:stCxn id="565" idx="2"/>
              <a:endCxn id="568" idx="6"/>
            </p:cNvCxnSpPr>
            <p:nvPr/>
          </p:nvCxnSpPr>
          <p:spPr>
            <a:xfrm flipH="1">
              <a:off x="699480" y="4152600"/>
              <a:ext cx="810360" cy="61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</p:grpSp>
      <p:sp>
        <p:nvSpPr>
          <p:cNvPr id="579" name=""/>
          <p:cNvSpPr/>
          <p:nvPr/>
        </p:nvSpPr>
        <p:spPr>
          <a:xfrm>
            <a:off x="3429000" y="38862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67080" y="38862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19720" y="44197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809880" y="48006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00400" y="44956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584" name=""/>
          <p:cNvCxnSpPr>
            <a:stCxn id="579" idx="6"/>
            <a:endCxn id="580" idx="2"/>
          </p:cNvCxnSpPr>
          <p:nvPr/>
        </p:nvCxnSpPr>
        <p:spPr>
          <a:xfrm>
            <a:off x="3672000" y="4000320"/>
            <a:ext cx="581400" cy="1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85" name=""/>
          <p:cNvCxnSpPr>
            <a:stCxn id="579" idx="3"/>
            <a:endCxn id="583" idx="7"/>
          </p:cNvCxnSpPr>
          <p:nvPr/>
        </p:nvCxnSpPr>
        <p:spPr>
          <a:xfrm flipH="1">
            <a:off x="3395160" y="4095720"/>
            <a:ext cx="67680" cy="4197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86" name=""/>
          <p:cNvCxnSpPr>
            <a:stCxn id="579" idx="5"/>
            <a:endCxn id="582" idx="1"/>
          </p:cNvCxnSpPr>
          <p:nvPr/>
        </p:nvCxnSpPr>
        <p:spPr>
          <a:xfrm>
            <a:off x="3623760" y="4095360"/>
            <a:ext cx="219960" cy="7246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87" name=""/>
          <p:cNvCxnSpPr>
            <a:stCxn id="579" idx="6"/>
            <a:endCxn id="581" idx="2"/>
          </p:cNvCxnSpPr>
          <p:nvPr/>
        </p:nvCxnSpPr>
        <p:spPr>
          <a:xfrm>
            <a:off x="3671640" y="4000320"/>
            <a:ext cx="734040" cy="5338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88" name=""/>
          <p:cNvCxnSpPr>
            <a:stCxn id="580" idx="4"/>
            <a:endCxn id="581" idx="0"/>
          </p:cNvCxnSpPr>
          <p:nvPr/>
        </p:nvCxnSpPr>
        <p:spPr>
          <a:xfrm>
            <a:off x="4381200" y="4128840"/>
            <a:ext cx="153000" cy="2768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89" name=""/>
          <p:cNvCxnSpPr>
            <a:stCxn id="580" idx="2"/>
            <a:endCxn id="582" idx="0"/>
          </p:cNvCxnSpPr>
          <p:nvPr/>
        </p:nvCxnSpPr>
        <p:spPr>
          <a:xfrm flipH="1">
            <a:off x="3924000" y="4000680"/>
            <a:ext cx="329040" cy="7862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90" name=""/>
          <p:cNvCxnSpPr>
            <a:stCxn id="583" idx="5"/>
            <a:endCxn id="582" idx="2"/>
          </p:cNvCxnSpPr>
          <p:nvPr/>
        </p:nvCxnSpPr>
        <p:spPr>
          <a:xfrm>
            <a:off x="3395520" y="4704840"/>
            <a:ext cx="401040" cy="2106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91" name=""/>
          <p:cNvCxnSpPr>
            <a:stCxn id="582" idx="7"/>
            <a:endCxn id="581" idx="3"/>
          </p:cNvCxnSpPr>
          <p:nvPr/>
        </p:nvCxnSpPr>
        <p:spPr>
          <a:xfrm flipV="1">
            <a:off x="4005000" y="4628520"/>
            <a:ext cx="448200" cy="1911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92" name=""/>
          <p:cNvCxnSpPr>
            <a:stCxn id="583" idx="6"/>
            <a:endCxn id="581" idx="2"/>
          </p:cNvCxnSpPr>
          <p:nvPr/>
        </p:nvCxnSpPr>
        <p:spPr>
          <a:xfrm flipV="1">
            <a:off x="3443400" y="4533840"/>
            <a:ext cx="962640" cy="766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593" name=""/>
          <p:cNvCxnSpPr>
            <a:stCxn id="580" idx="2"/>
            <a:endCxn id="583" idx="6"/>
          </p:cNvCxnSpPr>
          <p:nvPr/>
        </p:nvCxnSpPr>
        <p:spPr>
          <a:xfrm flipH="1">
            <a:off x="3442680" y="4000320"/>
            <a:ext cx="810360" cy="6102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594" name=""/>
          <p:cNvSpPr/>
          <p:nvPr/>
        </p:nvSpPr>
        <p:spPr>
          <a:xfrm>
            <a:off x="3581280" y="548640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86200" y="55627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191120" y="54100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105520" y="41911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105520" y="487692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257800" y="4495680"/>
            <a:ext cx="228600" cy="2286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600" name=""/>
          <p:cNvCxnSpPr>
            <a:stCxn id="582" idx="3"/>
            <a:endCxn id="594" idx="0"/>
          </p:cNvCxnSpPr>
          <p:nvPr/>
        </p:nvCxnSpPr>
        <p:spPr>
          <a:xfrm flipH="1">
            <a:off x="3695400" y="5009760"/>
            <a:ext cx="148320" cy="4626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601" name=""/>
          <p:cNvCxnSpPr>
            <a:stCxn id="582" idx="4"/>
            <a:endCxn id="595" idx="0"/>
          </p:cNvCxnSpPr>
          <p:nvPr/>
        </p:nvCxnSpPr>
        <p:spPr>
          <a:xfrm>
            <a:off x="3924360" y="5043600"/>
            <a:ext cx="76680" cy="50544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602" name=""/>
          <p:cNvCxnSpPr>
            <a:stCxn id="582" idx="5"/>
            <a:endCxn id="596" idx="1"/>
          </p:cNvCxnSpPr>
          <p:nvPr/>
        </p:nvCxnSpPr>
        <p:spPr>
          <a:xfrm>
            <a:off x="4005360" y="5010120"/>
            <a:ext cx="219600" cy="4197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603" name=""/>
          <p:cNvCxnSpPr>
            <a:stCxn id="581" idx="5"/>
            <a:endCxn id="598" idx="2"/>
          </p:cNvCxnSpPr>
          <p:nvPr/>
        </p:nvCxnSpPr>
        <p:spPr>
          <a:xfrm>
            <a:off x="4614480" y="4628880"/>
            <a:ext cx="477000" cy="36252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604" name=""/>
          <p:cNvCxnSpPr>
            <a:stCxn id="581" idx="6"/>
            <a:endCxn id="599" idx="2"/>
          </p:cNvCxnSpPr>
          <p:nvPr/>
        </p:nvCxnSpPr>
        <p:spPr>
          <a:xfrm>
            <a:off x="4662360" y="4533840"/>
            <a:ext cx="581400" cy="766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605" name=""/>
          <p:cNvCxnSpPr>
            <a:stCxn id="581" idx="7"/>
            <a:endCxn id="597" idx="2"/>
          </p:cNvCxnSpPr>
          <p:nvPr/>
        </p:nvCxnSpPr>
        <p:spPr>
          <a:xfrm flipV="1">
            <a:off x="4614480" y="4304520"/>
            <a:ext cx="477000" cy="1342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606" name=""/>
          <p:cNvSpPr/>
          <p:nvPr/>
        </p:nvSpPr>
        <p:spPr>
          <a:xfrm>
            <a:off x="777960" y="3552840"/>
            <a:ext cx="1203120" cy="1857240"/>
          </a:xfrm>
          <a:custGeom>
            <a:avLst/>
            <a:gdLst/>
            <a:ahLst/>
            <a:rect l="l" t="t" r="r" b="b"/>
            <a:pathLst>
              <a:path w="758" h="1170">
                <a:moveTo>
                  <a:pt x="6" y="2"/>
                </a:moveTo>
                <a:cubicBezTo>
                  <a:pt x="23" y="52"/>
                  <a:pt x="0" y="0"/>
                  <a:pt x="46" y="50"/>
                </a:cubicBezTo>
                <a:cubicBezTo>
                  <a:pt x="64" y="70"/>
                  <a:pt x="94" y="114"/>
                  <a:pt x="94" y="114"/>
                </a:cubicBezTo>
                <a:cubicBezTo>
                  <a:pt x="105" y="147"/>
                  <a:pt x="124" y="165"/>
                  <a:pt x="142" y="194"/>
                </a:cubicBezTo>
                <a:cubicBezTo>
                  <a:pt x="167" y="233"/>
                  <a:pt x="162" y="273"/>
                  <a:pt x="182" y="314"/>
                </a:cubicBezTo>
                <a:cubicBezTo>
                  <a:pt x="196" y="342"/>
                  <a:pt x="198" y="343"/>
                  <a:pt x="206" y="370"/>
                </a:cubicBezTo>
                <a:cubicBezTo>
                  <a:pt x="228" y="446"/>
                  <a:pt x="218" y="544"/>
                  <a:pt x="262" y="610"/>
                </a:cubicBezTo>
                <a:cubicBezTo>
                  <a:pt x="282" y="690"/>
                  <a:pt x="316" y="816"/>
                  <a:pt x="374" y="874"/>
                </a:cubicBezTo>
                <a:cubicBezTo>
                  <a:pt x="385" y="906"/>
                  <a:pt x="394" y="919"/>
                  <a:pt x="422" y="938"/>
                </a:cubicBezTo>
                <a:cubicBezTo>
                  <a:pt x="468" y="1007"/>
                  <a:pt x="545" y="1031"/>
                  <a:pt x="622" y="1050"/>
                </a:cubicBezTo>
                <a:cubicBezTo>
                  <a:pt x="686" y="1093"/>
                  <a:pt x="609" y="1037"/>
                  <a:pt x="662" y="1090"/>
                </a:cubicBezTo>
                <a:cubicBezTo>
                  <a:pt x="671" y="1099"/>
                  <a:pt x="685" y="1105"/>
                  <a:pt x="694" y="1114"/>
                </a:cubicBezTo>
                <a:lnTo>
                  <a:pt x="758" y="1170"/>
                </a:lnTo>
              </a:path>
            </a:pathLst>
          </a:custGeom>
          <a:noFill/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340080" y="5067360"/>
            <a:ext cx="1079640" cy="181080"/>
          </a:xfrm>
          <a:custGeom>
            <a:avLst/>
            <a:gdLst/>
            <a:ahLst/>
            <a:rect l="l" t="t" r="r" b="b"/>
            <a:pathLst>
              <a:path w="680" h="114">
                <a:moveTo>
                  <a:pt x="0" y="56"/>
                </a:moveTo>
                <a:cubicBezTo>
                  <a:pt x="85" y="73"/>
                  <a:pt x="161" y="82"/>
                  <a:pt x="248" y="88"/>
                </a:cubicBezTo>
                <a:cubicBezTo>
                  <a:pt x="395" y="84"/>
                  <a:pt x="566" y="114"/>
                  <a:pt x="680" y="0"/>
                </a:cubicBezTo>
              </a:path>
            </a:pathLst>
          </a:custGeom>
          <a:noFill/>
          <a:ln w="3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950840" y="511812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909880" y="495288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AFD5-46AB-45C0-9550-B591318B63C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Jellyfish model [Tauro+]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09880" y="1752480"/>
            <a:ext cx="1600200" cy="4572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200400" y="1676520"/>
            <a:ext cx="2743200" cy="91440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1600200"/>
            <a:ext cx="4267080" cy="1447920"/>
          </a:xfrm>
          <a:prstGeom prst="ellipse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819520" y="4267080"/>
            <a:ext cx="152280" cy="15264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124080" y="4343400"/>
            <a:ext cx="152640" cy="1522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29000" y="4343400"/>
            <a:ext cx="152280" cy="15228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91120" y="3733920"/>
            <a:ext cx="152280" cy="152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724280" y="3809880"/>
            <a:ext cx="152640" cy="152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181480" y="3809880"/>
            <a:ext cx="152640" cy="152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81080" y="1523880"/>
            <a:ext cx="5334120" cy="1828800"/>
          </a:xfrm>
          <a:prstGeom prst="ellipse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267080" y="2209680"/>
            <a:ext cx="152640" cy="15242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724280" y="2209680"/>
            <a:ext cx="76320" cy="1600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029200" y="2209680"/>
            <a:ext cx="228600" cy="16002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44840" y="1994040"/>
            <a:ext cx="5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3505320" y="2514600"/>
            <a:ext cx="380880" cy="1828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3200400" y="2514600"/>
            <a:ext cx="457200" cy="17524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2971800" y="2438280"/>
            <a:ext cx="533520" cy="1828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638680" y="3733920"/>
            <a:ext cx="152640" cy="152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181480" y="2133720"/>
            <a:ext cx="533520" cy="1523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5060880"/>
            <a:ext cx="9144000" cy="7038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 Simple Conceptual Model for the Internet Topolog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L. Tauro, C. Palmer, G. Siganos, M. Faloutsos, Global Internet, November 25-29, 200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5823000"/>
            <a:ext cx="9144000" cy="1008720"/>
          </a:xfrm>
          <a:prstGeom prst="rect">
            <a:avLst/>
          </a:prstGeom>
          <a:solidFill>
            <a:srgbClr val="ffcc66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Jellyfish: A Conceptual Model for the AS Internet Topolog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G. Siganos, Sudhir L Tauro, M. Faloutsos, J. of Communications and Networks, Vol. 8, No. 3, pp 339-350, Sept. 2006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79EA-CF4E-4FE2-BB6B-ADA433D63744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trange behavior of min cut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egative dimensionality’ (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4589640"/>
            <a:ext cx="9144000" cy="1099440"/>
          </a:xfrm>
          <a:prstGeom prst="rect">
            <a:avLst/>
          </a:pr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NetMine: New Mining Tools for Large Graphs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, by D. Chakrabarti,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Y. Zhan, D. Blandford, C. Faloutsos and G. Blelloch, in the SDM 2004 Workshop on Link Analysis, Counter-terrorism and Privacy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0" y="5732640"/>
            <a:ext cx="9144000" cy="1099440"/>
          </a:xfrm>
          <a:prstGeom prst="rect">
            <a:avLst/>
          </a:prstGeom>
          <a:solidFill>
            <a:srgbClr val="ffcc66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Statistical Properties of Community Structure in Large Social and Information Networks, J.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Leskovec, K. Lang, A. Dasgupta, M. Mahoney. </a:t>
            </a:r>
            <a:br>
              <a:rPr sz="2200"/>
            </a:b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WWW 2008.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8D3C-A5FD-4286-A7D4-65E2FE7C258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Min-cut” plo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 min-cuts recursively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3352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828800" y="3352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286000" y="3352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743200" y="3352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523880" y="3429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438280" y="3429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981080" y="3429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895480" y="3429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066680" y="3429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71600" y="3733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828800" y="3733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3733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3733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3809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3809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981080" y="3809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895480" y="3809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66680" y="38098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447920" y="3505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47920" y="3124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905120" y="3505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05120" y="3124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362320" y="3505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362320" y="3124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819520" y="3505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819520" y="3124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71600" y="4114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828800" y="4114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286000" y="4114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743200" y="41148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523880" y="41911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438280" y="41911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81080" y="41911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895480" y="41911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066680" y="41911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371600" y="4495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28800" y="4495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286000" y="4495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743200" y="44956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523880" y="4572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981080" y="4572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95480" y="4572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066680" y="45720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447920" y="4267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447920" y="38862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905120" y="4267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05120" y="38862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4267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362320" y="38862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19520" y="42670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819520" y="38862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905120" y="4648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362320" y="4648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46483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410080" y="4724280"/>
            <a:ext cx="2819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5410080" y="2895480"/>
            <a:ext cx="0" cy="1828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0" y="4876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038480" y="25290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62120" y="3984480"/>
            <a:ext cx="2971800" cy="0"/>
          </a:xfrm>
          <a:prstGeom prst="line">
            <a:avLst/>
          </a:prstGeom>
          <a:ln w="255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447920" y="5486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 nod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352680" y="39466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ncut size = sqrt(N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543800" y="42670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D1B3-9CA3-44BB-8DAC-718420BD26F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roblem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graph, 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reak it into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disjoint) communi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365760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4191120"/>
            <a:ext cx="15264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411480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57200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87692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3809880"/>
            <a:ext cx="152280" cy="15264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4800600"/>
            <a:ext cx="15264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4191120"/>
            <a:ext cx="15264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2" idx="1"/>
            <a:endCxn id="192" idx="1"/>
          </p:cNvCxnSpPr>
          <p:nvPr/>
        </p:nvCxnSpPr>
        <p:spPr>
          <a:xfrm>
            <a:off x="685440" y="3771720"/>
            <a:ext cx="1080" cy="1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2" name=""/>
          <p:cNvCxnSpPr>
            <a:stCxn id="194" idx="7"/>
            <a:endCxn id="198" idx="3"/>
          </p:cNvCxnSpPr>
          <p:nvPr/>
        </p:nvCxnSpPr>
        <p:spPr>
          <a:xfrm flipV="1">
            <a:off x="3025440" y="3954240"/>
            <a:ext cx="197640" cy="2448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3" name=""/>
          <p:cNvCxnSpPr>
            <a:stCxn id="194" idx="6"/>
            <a:endCxn id="200" idx="2"/>
          </p:cNvCxnSpPr>
          <p:nvPr/>
        </p:nvCxnSpPr>
        <p:spPr>
          <a:xfrm>
            <a:off x="3062160" y="4266720"/>
            <a:ext cx="734400" cy="1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4" name=""/>
          <p:cNvCxnSpPr>
            <a:stCxn id="198" idx="5"/>
            <a:endCxn id="200" idx="1"/>
          </p:cNvCxnSpPr>
          <p:nvPr/>
        </p:nvCxnSpPr>
        <p:spPr>
          <a:xfrm>
            <a:off x="3330360" y="3954240"/>
            <a:ext cx="501840" cy="2448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5" name=""/>
          <p:cNvCxnSpPr>
            <a:endCxn id="199" idx="0"/>
          </p:cNvCxnSpPr>
          <p:nvPr/>
        </p:nvCxnSpPr>
        <p:spPr>
          <a:xfrm>
            <a:off x="3885840" y="4343400"/>
            <a:ext cx="1080" cy="44352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6" name=""/>
          <p:cNvCxnSpPr>
            <a:stCxn id="196" idx="6"/>
            <a:endCxn id="194" idx="2"/>
          </p:cNvCxnSpPr>
          <p:nvPr/>
        </p:nvCxnSpPr>
        <p:spPr>
          <a:xfrm flipV="1">
            <a:off x="2224080" y="4266360"/>
            <a:ext cx="658080" cy="3819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7" name=""/>
          <p:cNvCxnSpPr>
            <a:stCxn id="193" idx="5"/>
            <a:endCxn id="196" idx="0"/>
          </p:cNvCxnSpPr>
          <p:nvPr/>
        </p:nvCxnSpPr>
        <p:spPr>
          <a:xfrm>
            <a:off x="1806120" y="3801600"/>
            <a:ext cx="327960" cy="7563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8" name=""/>
          <p:cNvCxnSpPr>
            <a:stCxn id="193" idx="3"/>
            <a:endCxn id="195" idx="7"/>
          </p:cNvCxnSpPr>
          <p:nvPr/>
        </p:nvCxnSpPr>
        <p:spPr>
          <a:xfrm flipH="1">
            <a:off x="1348920" y="3801600"/>
            <a:ext cx="349920" cy="3214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09" name=""/>
          <p:cNvCxnSpPr>
            <a:stCxn id="196" idx="2"/>
            <a:endCxn id="197" idx="6"/>
          </p:cNvCxnSpPr>
          <p:nvPr/>
        </p:nvCxnSpPr>
        <p:spPr>
          <a:xfrm flipH="1">
            <a:off x="1537920" y="4648320"/>
            <a:ext cx="505440" cy="3052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10" name=""/>
          <p:cNvCxnSpPr>
            <a:stCxn id="197" idx="0"/>
            <a:endCxn id="195" idx="4"/>
          </p:cNvCxnSpPr>
          <p:nvPr/>
        </p:nvCxnSpPr>
        <p:spPr>
          <a:xfrm flipH="1" flipV="1">
            <a:off x="1294920" y="4281480"/>
            <a:ext cx="153360" cy="5814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1CE3-0AF1-4F8A-97CF-1BAF608CDA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Min-cut” plo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 min-cuts recursively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3716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288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7432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5238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4382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8954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666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716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8288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2860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7432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5238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4382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810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8954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0666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4479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4479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051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9051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3623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623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8195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8195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3716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8288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2860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7432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5238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4382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9810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954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666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3716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288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2860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5238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4382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9810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8954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0666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4479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9051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3623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8195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4479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9051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3623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195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410080" y="4724280"/>
            <a:ext cx="2819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5410080" y="2895480"/>
            <a:ext cx="0" cy="1828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0" y="4876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038480" y="25290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42670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5486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 nod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3984480"/>
            <a:ext cx="2971800" cy="0"/>
          </a:xfrm>
          <a:prstGeom prst="line">
            <a:avLst/>
          </a:prstGeom>
          <a:ln w="255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133720" y="2666880"/>
            <a:ext cx="0" cy="1067040"/>
          </a:xfrm>
          <a:prstGeom prst="line">
            <a:avLst/>
          </a:prstGeom>
          <a:ln w="255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600200" y="2286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w min-cu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33720" y="4191120"/>
            <a:ext cx="0" cy="1066680"/>
          </a:xfrm>
          <a:prstGeom prst="line">
            <a:avLst/>
          </a:prstGeom>
          <a:ln w="255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086600" y="396252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086600" y="388620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553080" y="365760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553080" y="342900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248520" y="33526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791320" y="31240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867280" y="297180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69C5-1C13-4CF8-A1D8-549DACFC7E9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Min-cut” plo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 min-cuts recursively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3716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8288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743200" y="3048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5238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4382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9810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8954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066680" y="312408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3716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8288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2860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7432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5238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4382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9810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8954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066680" y="35053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4479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4479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9051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9051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3623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3623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819520" y="320040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819520" y="28195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3716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8288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2860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743200" y="4343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5238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4382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9810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8954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066680" y="441972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3716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8288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860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5238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4382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9810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8954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6680" y="480060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479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9051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3623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819520" y="449568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4479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9051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3623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19520" y="487692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410080" y="4724280"/>
            <a:ext cx="2819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5410080" y="2895480"/>
            <a:ext cx="0" cy="1828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0" y="4876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25290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543800" y="42670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47920" y="5486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 nod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62120" y="3984480"/>
            <a:ext cx="2971800" cy="0"/>
          </a:xfrm>
          <a:prstGeom prst="line">
            <a:avLst/>
          </a:prstGeom>
          <a:ln w="255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133720" y="2666880"/>
            <a:ext cx="0" cy="1067040"/>
          </a:xfrm>
          <a:prstGeom prst="line">
            <a:avLst/>
          </a:prstGeom>
          <a:ln w="255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00200" y="2286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ew min-cu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133720" y="4191120"/>
            <a:ext cx="0" cy="1066680"/>
          </a:xfrm>
          <a:prstGeom prst="line">
            <a:avLst/>
          </a:prstGeom>
          <a:ln w="255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086600" y="396252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086600" y="388620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553080" y="365760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553080" y="342900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248520" y="33526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791320" y="31240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867280" y="297180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715000" y="3048120"/>
            <a:ext cx="2209680" cy="15238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715000" y="3048120"/>
            <a:ext cx="16765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781680" y="3048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pe = -0.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876920" y="52578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a d-dimensional grid, the slope is -1/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DAE3-2DFA-4369-9F6F-E4413FD33AF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Min-cut” plo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371600" y="3490920"/>
            <a:ext cx="2819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1371600" y="1662120"/>
            <a:ext cx="0" cy="1828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19520" y="3643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0" y="12952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505320" y="303372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048120" y="272880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048120" y="265284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514600" y="242424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514600" y="219564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209680" y="211932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752480" y="189072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828800" y="173844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676520" y="1814400"/>
            <a:ext cx="2209680" cy="15242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676520" y="1814400"/>
            <a:ext cx="167616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743200" y="1814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pe = -1/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838080" y="402444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a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d-dimensional grid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the slope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/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715000" y="3473280"/>
            <a:ext cx="2819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5715000" y="1644480"/>
            <a:ext cx="0" cy="1828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162920" y="3625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648320" y="12193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8229600" y="213372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848720" y="228600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67480" y="213372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010280" y="2209680"/>
            <a:ext cx="15264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934320" y="2133720"/>
            <a:ext cx="15228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477120" y="22096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019920" y="2209680"/>
            <a:ext cx="152280" cy="15264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095880" y="2057400"/>
            <a:ext cx="152640" cy="152280"/>
          </a:xfrm>
          <a:prstGeom prst="diamond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019920" y="2286000"/>
            <a:ext cx="24382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181480" y="40068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a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random graph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the slope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EE0B-2EC9-42C0-8617-15506C0EE7E5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Min-cut” plo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hat does it look like for a real-world graph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4997520"/>
            <a:ext cx="2819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3200400" y="3168720"/>
            <a:ext cx="0" cy="1828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648320" y="5149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133720" y="274320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352680" y="3505320"/>
            <a:ext cx="2286000" cy="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3352680" y="3657600"/>
            <a:ext cx="2133720" cy="38088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352680" y="3809880"/>
            <a:ext cx="1295640" cy="106704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172200" y="335268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6A74-3923-4392-BFA0-A6ED9CDF295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ataset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69960" indent="-3254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ogle Web Graph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916,428 nodes and 5,105,039 edg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9960" indent="-3254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ucent Router Graph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Undirected graph of network routers from </a:t>
            </a:r>
            <a:r>
              <a:rPr b="0" lang="en-US" sz="28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www.isi.edu/scan/mercator/maps.html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; 112,969 nodes and 181,639 edg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69960" indent="-3254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r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Website Clickstream Graph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222,704 nodes and 952,580 edg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5732640"/>
            <a:ext cx="9144000" cy="1099440"/>
          </a:xfrm>
          <a:prstGeom prst="rect">
            <a:avLst/>
          </a:prstGeom>
          <a:solidFill>
            <a:srgbClr val="ffff99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66"/>
                </a:solidFill>
                <a:latin typeface="Arial"/>
              </a:rPr>
              <a:t>NetMine: New Mining Tools for Large Graphs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, by D. Chakrabarti,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Y. Zhan, D. Blandford, C. Faloutsos and G. Blelloch, in the SDM 2004 Workshop on Link Analysis, Counter-terrorism and Privacy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FD92-983E-4417-A739-8A818A66131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ed the METIS algorithm [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Karypis, Kumar, 1995]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4419720" cy="309420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2438280" y="5181480"/>
            <a:ext cx="17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rot="16200000">
            <a:off x="-501120" y="3320640"/>
            <a:ext cx="2895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410080" y="2666880"/>
            <a:ext cx="3429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ogle Web grap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alues along the y-axis are average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 observe a “lip” for large edg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ope of -0.4, corresponds to a 2.5-dimensional grid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371600" y="2438280"/>
            <a:ext cx="2666880" cy="221004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676520" y="2666880"/>
            <a:ext cx="1447560" cy="0"/>
          </a:xfrm>
          <a:prstGeom prst="line">
            <a:avLst/>
          </a:prstGeom>
          <a:ln w="381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62320" y="2743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lope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~ -0.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4038480" y="4343400"/>
            <a:ext cx="76212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144B-523F-42BF-B77F-3F73DEFFF92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perime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ame results for other graphs too…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3962520" cy="277344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114800" cy="287964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1981080" y="4952880"/>
            <a:ext cx="17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019920" y="50292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# 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rot="16200000">
            <a:off x="-806040" y="3320640"/>
            <a:ext cx="2895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rot="16200000">
            <a:off x="3308400" y="3396960"/>
            <a:ext cx="2895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og (mincut-size / #edg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143000" y="5410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ucent Router grap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486400" y="5410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stream grap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66680" y="2438280"/>
            <a:ext cx="2286000" cy="20574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371600" y="2666880"/>
            <a:ext cx="1447920" cy="0"/>
          </a:xfrm>
          <a:prstGeom prst="line">
            <a:avLst/>
          </a:prstGeom>
          <a:ln w="381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905120" y="2743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lope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~ -0.5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181480" y="2514600"/>
            <a:ext cx="1524240" cy="213372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334120" y="2743200"/>
            <a:ext cx="1447560" cy="0"/>
          </a:xfrm>
          <a:prstGeom prst="line">
            <a:avLst/>
          </a:prstGeom>
          <a:ln w="381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63868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lope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Arial"/>
              </a:rPr>
              <a:t>~ -0.4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3276720" y="4190760"/>
            <a:ext cx="1218960" cy="609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7010280" y="3809520"/>
            <a:ext cx="762120" cy="838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7772400" y="3809880"/>
            <a:ext cx="5335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A32A-938C-40B9-836D-518607430CB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onclusions –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o-clustering –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,l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ard clustering – optimal # piec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441560" y="1450800"/>
            <a:ext cx="124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METI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7018560" y="2025720"/>
            <a:ext cx="2090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Co-clustering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774840" y="2666880"/>
            <a:ext cx="2367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</a:rPr>
              <a:t>Cross-association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247440" y="3276720"/>
            <a:ext cx="25948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‘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jellyfish’: 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Maybe, there are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50021"/>
                </a:solidFill>
                <a:latin typeface="Times New Roman"/>
              </a:rPr>
              <a:t>no good cut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AF96-4BAD-4A20-A4C4-2235FEF1149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38080" y="3429000"/>
            <a:ext cx="1600200" cy="19810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3200400"/>
            <a:ext cx="1676520" cy="2057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roblem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graph, 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reak it into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disjoint) communi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365760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95480" y="4191120"/>
            <a:ext cx="15264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11480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457200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4876920"/>
            <a:ext cx="15228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00400" y="3809880"/>
            <a:ext cx="152280" cy="15264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9880" y="4800600"/>
            <a:ext cx="15264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9880" y="4191120"/>
            <a:ext cx="152640" cy="15228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cxnSp>
        <p:nvCxnSpPr>
          <p:cNvPr id="223" name=""/>
          <p:cNvCxnSpPr>
            <a:stCxn id="214" idx="1"/>
            <a:endCxn id="214" idx="1"/>
          </p:cNvCxnSpPr>
          <p:nvPr/>
        </p:nvCxnSpPr>
        <p:spPr>
          <a:xfrm>
            <a:off x="685440" y="3771720"/>
            <a:ext cx="1080" cy="1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24" name=""/>
          <p:cNvCxnSpPr>
            <a:stCxn id="216" idx="7"/>
            <a:endCxn id="220" idx="3"/>
          </p:cNvCxnSpPr>
          <p:nvPr/>
        </p:nvCxnSpPr>
        <p:spPr>
          <a:xfrm flipV="1">
            <a:off x="3025440" y="3954240"/>
            <a:ext cx="197640" cy="2448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25" name=""/>
          <p:cNvCxnSpPr>
            <a:stCxn id="216" idx="6"/>
            <a:endCxn id="222" idx="2"/>
          </p:cNvCxnSpPr>
          <p:nvPr/>
        </p:nvCxnSpPr>
        <p:spPr>
          <a:xfrm>
            <a:off x="3062160" y="4266720"/>
            <a:ext cx="734400" cy="10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26" name=""/>
          <p:cNvCxnSpPr>
            <a:stCxn id="220" idx="5"/>
            <a:endCxn id="222" idx="1"/>
          </p:cNvCxnSpPr>
          <p:nvPr/>
        </p:nvCxnSpPr>
        <p:spPr>
          <a:xfrm>
            <a:off x="3330360" y="3954240"/>
            <a:ext cx="501840" cy="2448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27" name=""/>
          <p:cNvCxnSpPr>
            <a:endCxn id="221" idx="0"/>
          </p:cNvCxnSpPr>
          <p:nvPr/>
        </p:nvCxnSpPr>
        <p:spPr>
          <a:xfrm>
            <a:off x="3885840" y="4343400"/>
            <a:ext cx="1080" cy="44352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28" name=""/>
          <p:cNvCxnSpPr>
            <a:stCxn id="218" idx="6"/>
            <a:endCxn id="216" idx="2"/>
          </p:cNvCxnSpPr>
          <p:nvPr/>
        </p:nvCxnSpPr>
        <p:spPr>
          <a:xfrm flipV="1">
            <a:off x="2224080" y="4266360"/>
            <a:ext cx="658080" cy="381960"/>
          </a:xfrm>
          <a:prstGeom prst="straightConnector1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</a:ln>
        </p:spPr>
      </p:cxnSp>
      <p:cxnSp>
        <p:nvCxnSpPr>
          <p:cNvPr id="229" name=""/>
          <p:cNvCxnSpPr>
            <a:stCxn id="215" idx="5"/>
            <a:endCxn id="218" idx="0"/>
          </p:cNvCxnSpPr>
          <p:nvPr/>
        </p:nvCxnSpPr>
        <p:spPr>
          <a:xfrm>
            <a:off x="1806120" y="3801600"/>
            <a:ext cx="327960" cy="75636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30" name=""/>
          <p:cNvCxnSpPr>
            <a:stCxn id="215" idx="3"/>
            <a:endCxn id="217" idx="7"/>
          </p:cNvCxnSpPr>
          <p:nvPr/>
        </p:nvCxnSpPr>
        <p:spPr>
          <a:xfrm flipH="1">
            <a:off x="1348920" y="3801600"/>
            <a:ext cx="349920" cy="3214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31" name=""/>
          <p:cNvCxnSpPr>
            <a:stCxn id="218" idx="2"/>
            <a:endCxn id="219" idx="6"/>
          </p:cNvCxnSpPr>
          <p:nvPr/>
        </p:nvCxnSpPr>
        <p:spPr>
          <a:xfrm flipH="1">
            <a:off x="1537920" y="4648320"/>
            <a:ext cx="505440" cy="30528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cxnSp>
        <p:nvCxnSpPr>
          <p:cNvPr id="232" name=""/>
          <p:cNvCxnSpPr>
            <a:stCxn id="219" idx="0"/>
            <a:endCxn id="217" idx="4"/>
          </p:cNvCxnSpPr>
          <p:nvPr/>
        </p:nvCxnSpPr>
        <p:spPr>
          <a:xfrm flipH="1" flipV="1">
            <a:off x="1294920" y="4281480"/>
            <a:ext cx="153360" cy="581400"/>
          </a:xfrm>
          <a:prstGeom prst="straightConnector1">
            <a:avLst/>
          </a:prstGeom>
          <a:ln w="28440">
            <a:solidFill>
              <a:srgbClr val="000066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4758840" y="3524400"/>
            <a:ext cx="10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8AA1-0DA2-4C21-B06B-502ED38506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olution #1: METI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rguably, the best algorith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pen source, 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www.cs.umn.edu/~met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*many* related papers, at same ur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ain idea: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arsen the graph;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rtition;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un-coarse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4140360"/>
            <a:ext cx="623880" cy="482400"/>
          </a:xfrm>
          <a:custGeom>
            <a:avLst/>
            <a:gdLst/>
            <a:ahLst/>
            <a:rect l="l" t="t" r="r" b="b"/>
            <a:pathLst>
              <a:path w="393" h="304">
                <a:moveTo>
                  <a:pt x="208" y="0"/>
                </a:moveTo>
                <a:cubicBezTo>
                  <a:pt x="143" y="11"/>
                  <a:pt x="133" y="29"/>
                  <a:pt x="88" y="64"/>
                </a:cubicBezTo>
                <a:cubicBezTo>
                  <a:pt x="73" y="76"/>
                  <a:pt x="40" y="96"/>
                  <a:pt x="40" y="96"/>
                </a:cubicBezTo>
                <a:cubicBezTo>
                  <a:pt x="0" y="156"/>
                  <a:pt x="1" y="262"/>
                  <a:pt x="64" y="304"/>
                </a:cubicBezTo>
                <a:cubicBezTo>
                  <a:pt x="174" y="282"/>
                  <a:pt x="188" y="278"/>
                  <a:pt x="328" y="272"/>
                </a:cubicBezTo>
                <a:cubicBezTo>
                  <a:pt x="366" y="247"/>
                  <a:pt x="349" y="265"/>
                  <a:pt x="368" y="208"/>
                </a:cubicBezTo>
                <a:cubicBezTo>
                  <a:pt x="373" y="192"/>
                  <a:pt x="384" y="160"/>
                  <a:pt x="384" y="160"/>
                </a:cubicBezTo>
                <a:cubicBezTo>
                  <a:pt x="381" y="120"/>
                  <a:pt x="393" y="72"/>
                  <a:pt x="368" y="40"/>
                </a:cubicBezTo>
                <a:cubicBezTo>
                  <a:pt x="338" y="3"/>
                  <a:pt x="246" y="0"/>
                  <a:pt x="208" y="0"/>
                </a:cubicBezTo>
                <a:close/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48520" y="4165560"/>
            <a:ext cx="623880" cy="482760"/>
          </a:xfrm>
          <a:custGeom>
            <a:avLst/>
            <a:gdLst/>
            <a:ahLst/>
            <a:rect l="l" t="t" r="r" b="b"/>
            <a:pathLst>
              <a:path w="393" h="304">
                <a:moveTo>
                  <a:pt x="208" y="0"/>
                </a:moveTo>
                <a:cubicBezTo>
                  <a:pt x="143" y="11"/>
                  <a:pt x="133" y="29"/>
                  <a:pt x="88" y="64"/>
                </a:cubicBezTo>
                <a:cubicBezTo>
                  <a:pt x="73" y="76"/>
                  <a:pt x="40" y="96"/>
                  <a:pt x="40" y="96"/>
                </a:cubicBezTo>
                <a:cubicBezTo>
                  <a:pt x="0" y="156"/>
                  <a:pt x="1" y="262"/>
                  <a:pt x="64" y="304"/>
                </a:cubicBezTo>
                <a:cubicBezTo>
                  <a:pt x="174" y="282"/>
                  <a:pt x="188" y="278"/>
                  <a:pt x="328" y="272"/>
                </a:cubicBezTo>
                <a:cubicBezTo>
                  <a:pt x="366" y="247"/>
                  <a:pt x="349" y="265"/>
                  <a:pt x="368" y="208"/>
                </a:cubicBezTo>
                <a:cubicBezTo>
                  <a:pt x="373" y="192"/>
                  <a:pt x="384" y="160"/>
                  <a:pt x="384" y="160"/>
                </a:cubicBezTo>
                <a:cubicBezTo>
                  <a:pt x="381" y="120"/>
                  <a:pt x="393" y="72"/>
                  <a:pt x="368" y="40"/>
                </a:cubicBezTo>
                <a:cubicBezTo>
                  <a:pt x="338" y="3"/>
                  <a:pt x="246" y="0"/>
                  <a:pt x="208" y="0"/>
                </a:cubicBezTo>
                <a:close/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67480" y="4191120"/>
            <a:ext cx="152640" cy="380880"/>
          </a:xfrm>
          <a:custGeom>
            <a:avLst/>
            <a:gdLst/>
            <a:ahLst/>
            <a:rect l="l" t="t" r="r" b="b"/>
            <a:pathLst>
              <a:path w="72" h="240">
                <a:moveTo>
                  <a:pt x="48" y="240"/>
                </a:moveTo>
                <a:cubicBezTo>
                  <a:pt x="16" y="229"/>
                  <a:pt x="10" y="215"/>
                  <a:pt x="0" y="184"/>
                </a:cubicBezTo>
                <a:cubicBezTo>
                  <a:pt x="2" y="173"/>
                  <a:pt x="8" y="134"/>
                  <a:pt x="16" y="120"/>
                </a:cubicBezTo>
                <a:cubicBezTo>
                  <a:pt x="42" y="73"/>
                  <a:pt x="72" y="54"/>
                  <a:pt x="72" y="0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410080" y="5102280"/>
            <a:ext cx="2133360" cy="383760"/>
            <a:chOff x="5410080" y="5102280"/>
            <a:chExt cx="2133360" cy="383760"/>
          </a:xfrm>
        </p:grpSpPr>
        <p:sp>
          <p:nvSpPr>
            <p:cNvPr id="240" name=""/>
            <p:cNvSpPr/>
            <p:nvPr/>
          </p:nvSpPr>
          <p:spPr>
            <a:xfrm>
              <a:off x="5410080" y="5102280"/>
              <a:ext cx="471960" cy="364680"/>
            </a:xfrm>
            <a:custGeom>
              <a:avLst/>
              <a:gdLst/>
              <a:ahLst/>
              <a:rect l="l" t="t" r="r" b="b"/>
              <a:pathLst>
                <a:path w="393" h="304">
                  <a:moveTo>
                    <a:pt x="208" y="0"/>
                  </a:moveTo>
                  <a:cubicBezTo>
                    <a:pt x="143" y="11"/>
                    <a:pt x="133" y="29"/>
                    <a:pt x="88" y="64"/>
                  </a:cubicBezTo>
                  <a:cubicBezTo>
                    <a:pt x="73" y="76"/>
                    <a:pt x="40" y="96"/>
                    <a:pt x="40" y="96"/>
                  </a:cubicBezTo>
                  <a:cubicBezTo>
                    <a:pt x="0" y="156"/>
                    <a:pt x="1" y="262"/>
                    <a:pt x="64" y="304"/>
                  </a:cubicBezTo>
                  <a:cubicBezTo>
                    <a:pt x="174" y="282"/>
                    <a:pt x="188" y="278"/>
                    <a:pt x="328" y="272"/>
                  </a:cubicBezTo>
                  <a:cubicBezTo>
                    <a:pt x="366" y="247"/>
                    <a:pt x="349" y="265"/>
                    <a:pt x="368" y="208"/>
                  </a:cubicBezTo>
                  <a:cubicBezTo>
                    <a:pt x="373" y="192"/>
                    <a:pt x="384" y="160"/>
                    <a:pt x="384" y="160"/>
                  </a:cubicBezTo>
                  <a:cubicBezTo>
                    <a:pt x="381" y="120"/>
                    <a:pt x="393" y="72"/>
                    <a:pt x="368" y="40"/>
                  </a:cubicBezTo>
                  <a:cubicBezTo>
                    <a:pt x="338" y="3"/>
                    <a:pt x="246" y="0"/>
                    <a:pt x="208" y="0"/>
                  </a:cubicBez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71480" y="5121000"/>
              <a:ext cx="471960" cy="365040"/>
            </a:xfrm>
            <a:custGeom>
              <a:avLst/>
              <a:gdLst/>
              <a:ahLst/>
              <a:rect l="l" t="t" r="r" b="b"/>
              <a:pathLst>
                <a:path w="393" h="304">
                  <a:moveTo>
                    <a:pt x="208" y="0"/>
                  </a:moveTo>
                  <a:cubicBezTo>
                    <a:pt x="143" y="11"/>
                    <a:pt x="133" y="29"/>
                    <a:pt x="88" y="64"/>
                  </a:cubicBezTo>
                  <a:cubicBezTo>
                    <a:pt x="73" y="76"/>
                    <a:pt x="40" y="96"/>
                    <a:pt x="40" y="96"/>
                  </a:cubicBezTo>
                  <a:cubicBezTo>
                    <a:pt x="0" y="156"/>
                    <a:pt x="1" y="262"/>
                    <a:pt x="64" y="304"/>
                  </a:cubicBezTo>
                  <a:cubicBezTo>
                    <a:pt x="174" y="282"/>
                    <a:pt x="188" y="278"/>
                    <a:pt x="328" y="272"/>
                  </a:cubicBezTo>
                  <a:cubicBezTo>
                    <a:pt x="366" y="247"/>
                    <a:pt x="349" y="265"/>
                    <a:pt x="368" y="208"/>
                  </a:cubicBezTo>
                  <a:cubicBezTo>
                    <a:pt x="373" y="192"/>
                    <a:pt x="384" y="160"/>
                    <a:pt x="384" y="160"/>
                  </a:cubicBezTo>
                  <a:cubicBezTo>
                    <a:pt x="381" y="120"/>
                    <a:pt x="393" y="72"/>
                    <a:pt x="368" y="40"/>
                  </a:cubicBezTo>
                  <a:cubicBezTo>
                    <a:pt x="338" y="3"/>
                    <a:pt x="246" y="0"/>
                    <a:pt x="208" y="0"/>
                  </a:cubicBez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13040" y="5140440"/>
              <a:ext cx="115200" cy="288000"/>
            </a:xfrm>
            <a:custGeom>
              <a:avLst/>
              <a:gdLst/>
              <a:ahLst/>
              <a:rect l="l" t="t" r="r" b="b"/>
              <a:pathLst>
                <a:path w="72" h="240">
                  <a:moveTo>
                    <a:pt x="48" y="240"/>
                  </a:moveTo>
                  <a:cubicBezTo>
                    <a:pt x="16" y="229"/>
                    <a:pt x="10" y="215"/>
                    <a:pt x="0" y="184"/>
                  </a:cubicBezTo>
                  <a:cubicBezTo>
                    <a:pt x="2" y="173"/>
                    <a:pt x="8" y="134"/>
                    <a:pt x="16" y="120"/>
                  </a:cubicBezTo>
                  <a:cubicBezTo>
                    <a:pt x="42" y="73"/>
                    <a:pt x="72" y="54"/>
                    <a:pt x="72" y="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351480" y="5973840"/>
            <a:ext cx="354240" cy="274680"/>
          </a:xfrm>
          <a:custGeom>
            <a:avLst/>
            <a:gdLst/>
            <a:ahLst/>
            <a:rect l="l" t="t" r="r" b="b"/>
            <a:pathLst>
              <a:path w="393" h="304">
                <a:moveTo>
                  <a:pt x="208" y="0"/>
                </a:moveTo>
                <a:cubicBezTo>
                  <a:pt x="143" y="11"/>
                  <a:pt x="133" y="29"/>
                  <a:pt x="88" y="64"/>
                </a:cubicBezTo>
                <a:cubicBezTo>
                  <a:pt x="73" y="76"/>
                  <a:pt x="40" y="96"/>
                  <a:pt x="40" y="96"/>
                </a:cubicBezTo>
                <a:cubicBezTo>
                  <a:pt x="0" y="156"/>
                  <a:pt x="1" y="262"/>
                  <a:pt x="64" y="304"/>
                </a:cubicBezTo>
                <a:cubicBezTo>
                  <a:pt x="174" y="282"/>
                  <a:pt x="188" y="278"/>
                  <a:pt x="328" y="272"/>
                </a:cubicBezTo>
                <a:cubicBezTo>
                  <a:pt x="366" y="247"/>
                  <a:pt x="349" y="265"/>
                  <a:pt x="368" y="208"/>
                </a:cubicBezTo>
                <a:cubicBezTo>
                  <a:pt x="373" y="192"/>
                  <a:pt x="384" y="160"/>
                  <a:pt x="384" y="160"/>
                </a:cubicBezTo>
                <a:cubicBezTo>
                  <a:pt x="381" y="120"/>
                  <a:pt x="393" y="72"/>
                  <a:pt x="368" y="40"/>
                </a:cubicBezTo>
                <a:cubicBezTo>
                  <a:pt x="338" y="3"/>
                  <a:pt x="246" y="0"/>
                  <a:pt x="208" y="0"/>
                </a:cubicBezTo>
                <a:close/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32560" y="5987880"/>
            <a:ext cx="87480" cy="217800"/>
          </a:xfrm>
          <a:custGeom>
            <a:avLst/>
            <a:gdLst/>
            <a:ahLst/>
            <a:rect l="l" t="t" r="r" b="b"/>
            <a:pathLst>
              <a:path w="72" h="240">
                <a:moveTo>
                  <a:pt x="48" y="240"/>
                </a:moveTo>
                <a:cubicBezTo>
                  <a:pt x="16" y="229"/>
                  <a:pt x="10" y="215"/>
                  <a:pt x="0" y="184"/>
                </a:cubicBezTo>
                <a:cubicBezTo>
                  <a:pt x="2" y="173"/>
                  <a:pt x="8" y="134"/>
                  <a:pt x="16" y="120"/>
                </a:cubicBezTo>
                <a:cubicBezTo>
                  <a:pt x="42" y="73"/>
                  <a:pt x="72" y="54"/>
                  <a:pt x="72" y="0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4724280"/>
            <a:ext cx="152640" cy="304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5562720"/>
            <a:ext cx="381240" cy="380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010280" y="5562720"/>
            <a:ext cx="22860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391520" y="4723920"/>
            <a:ext cx="75960" cy="2286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1069-79B6-4A8B-916B-9E3BFCD7D7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olution #1: METI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0102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. Karypis and V. Kumar.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METIS 4.0: Unstructured graph partitioning and sparse matrix ordering system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 TR, Dept. of CS,  Univ. of Minnesota, 1998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&lt;and many extensions&g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1" name="Rectangle 3" descr=""/>
          <p:cNvPicPr/>
          <p:nvPr/>
        </p:nvPicPr>
        <p:blipFill>
          <a:blip r:embed="rId1"/>
          <a:stretch/>
        </p:blipFill>
        <p:spPr>
          <a:xfrm>
            <a:off x="3564000" y="4038480"/>
            <a:ext cx="1272960" cy="1828800"/>
          </a:xfrm>
          <a:prstGeom prst="rect">
            <a:avLst/>
          </a:prstGeom>
          <a:ln w="0">
            <a:noFill/>
          </a:ln>
        </p:spPr>
      </p:pic>
      <p:pic>
        <p:nvPicPr>
          <p:cNvPr id="252" name="Rectangle 3" descr=""/>
          <p:cNvPicPr/>
          <p:nvPr/>
        </p:nvPicPr>
        <p:blipFill>
          <a:blip r:embed="rId2"/>
          <a:stretch/>
        </p:blipFill>
        <p:spPr>
          <a:xfrm>
            <a:off x="1600200" y="4038480"/>
            <a:ext cx="1260360" cy="179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05F2-1B6B-4FF6-BE44-234F7713F8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olu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problem: hard clustering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piece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pectral partitioning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sider the 2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smallest eigenvector of the (normalized) Laplacia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e details in ‘Task 7’, lat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A425-11D0-4B75-A17C-E065F67911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olutions #3, …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any more idea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ustering on the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square of adjacency matrix) [Zhou, Woodruff, PODS’04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inimum cut / maximum flow [Flake+, KDD’00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F734-1C7C-4F28-88C1-55103FBFE0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13:27Z</dcterms:created>
  <dc:creator/>
  <dc:description/>
  <dc:language>en-US</dc:language>
  <cp:lastModifiedBy>christos</cp:lastModifiedBy>
  <dcterms:modified xsi:type="dcterms:W3CDTF">2009-06-05T15:27:25Z</dcterms:modified>
  <cp:revision>224</cp:revision>
  <dc:subject>community discovery</dc:subject>
  <dc:title>KDD'09</dc:title>
</cp:coreProperties>
</file>