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1.wmf" ContentType="image/x-wmf"/>
  <Override PartName="/ppt/media/image9.wmf" ContentType="image/x-wmf"/>
  <Override PartName="/ppt/media/image8.wmf" ContentType="image/x-wmf"/>
  <Override PartName="/ppt/media/image16.wmf" ContentType="image/x-wmf"/>
  <Override PartName="/ppt/media/image14.jpeg" ContentType="image/jpe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F237-CCD1-4EBE-98D6-2183427C7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8E6C-5DAB-49DF-8D58-D68DBCD0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97DB-1AC8-4BC0-86E7-E391E7094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B56C-5E6F-4370-9E75-1C6EE3354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3340-7448-4B5D-BA39-E2C3C38D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1863-FE2E-4DF5-B5A5-36A12E24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8CAC-E825-4D10-A3AF-BADF6622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C097-072A-4FC3-BC8E-B8571B1E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401D-AB6F-4425-84D0-B415EEC9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319E-1747-4DF2-BDC2-95E9A98E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D9A3-C771-45A9-9908-3794C262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698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585F-35B5-4B6D-9489-929E1DBE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9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901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901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901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P5-</a:t>
            </a:r>
            <a:fld id="{4081A458-C412-4313-8A5A-BA5D3CD4A2BD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5680" y="1784520"/>
            <a:ext cx="8570880" cy="18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Large Graph Mining: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Power Tools and a Practitioner’s guid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9520" y="3871800"/>
            <a:ext cx="73962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Task 4: Center-piece Subgraphs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66"/>
                </a:solidFill>
                <a:latin typeface="Times New Roman"/>
              </a:rPr>
              <a:t>Faloutsos, Miller and Tsourakakis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CMU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9C24-2B70-483C-907E-A08157EB8C5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K_SoftAnd: Combine Scores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41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Generalization – SoftAND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e want nodes close to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&lt;Q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query nodes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Q: How to do that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87" name="Rectangle 3"/>
          <p:cNvGraphicFramePr/>
          <p:nvPr/>
        </p:nvGraphicFramePr>
        <p:xfrm>
          <a:off x="4849920" y="1676520"/>
          <a:ext cx="3913200" cy="37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9920" y="1676520"/>
                    <a:ext cx="3913200" cy="37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FA51-7403-431A-ACD4-5407D9914E5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K_SoftAnd: Combine Scores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41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Generalization – softAND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e want nodes close to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of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&lt;Q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query nodes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Q: How to do that?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: Prob(at least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-out-of-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will meet each other at j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91" name="Rectangle 3"/>
          <p:cNvGraphicFramePr/>
          <p:nvPr/>
        </p:nvGraphicFramePr>
        <p:xfrm>
          <a:off x="4849920" y="1676520"/>
          <a:ext cx="3913200" cy="37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9920" y="1676520"/>
                    <a:ext cx="3913200" cy="37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0DBB-DC9F-4241-9988-BF5B784E432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  <a:ea typeface="宋体"/>
              </a:rPr>
              <a:t>AND query vs. 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K_SoftAnd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  <a:ea typeface="宋体"/>
              </a:rPr>
              <a:t> query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5433480"/>
            <a:ext cx="381312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nd Quer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10160" y="5410080"/>
            <a:ext cx="3924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2_SoftAnd Quer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1905120"/>
            <a:ext cx="392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1300" spc="-1" strike="noStrike">
                <a:solidFill>
                  <a:srgbClr val="000066"/>
                </a:solidFill>
                <a:latin typeface="Times New Roman"/>
              </a:rPr>
              <a:t>x 1e-4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97" name="Rectangle 3"/>
          <p:cNvGraphicFramePr/>
          <p:nvPr/>
        </p:nvGraphicFramePr>
        <p:xfrm>
          <a:off x="1117440" y="1730520"/>
          <a:ext cx="3237120" cy="36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7440" y="1730520"/>
                    <a:ext cx="323712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286000" y="3505320"/>
            <a:ext cx="838080" cy="76176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00" name="Rectangle 3"/>
          <p:cNvGraphicFramePr/>
          <p:nvPr/>
        </p:nvGraphicFramePr>
        <p:xfrm>
          <a:off x="5027760" y="1641600"/>
          <a:ext cx="3246120" cy="364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7760" y="1641600"/>
                    <a:ext cx="3246120" cy="36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5181480" y="2362320"/>
            <a:ext cx="1067040" cy="17524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2362320"/>
            <a:ext cx="990720" cy="17524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91320" y="4648320"/>
            <a:ext cx="2057400" cy="8380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290D-E171-4A57-8B49-30D854D4FC4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Rectangle 3"/>
          <p:cNvGraphicFramePr/>
          <p:nvPr/>
        </p:nvGraphicFramePr>
        <p:xfrm>
          <a:off x="2557440" y="1447920"/>
          <a:ext cx="414504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7440" y="1447920"/>
                    <a:ext cx="414504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1_SoftAnd query = OR query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2590920"/>
            <a:ext cx="3048120" cy="99036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334400">
            <a:off x="5110200" y="3506760"/>
            <a:ext cx="1139760" cy="297180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3244800">
            <a:off x="1875960" y="4370040"/>
            <a:ext cx="3200400" cy="12574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24D8-36E8-4A49-9C79-D5B5EA756E3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Detailed 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Problem definition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Solution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Results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2895480"/>
            <a:ext cx="38088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F029-D106-48AB-ACFC-46547BC3A7C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33520" y="6248520"/>
            <a:ext cx="80010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  <a:ea typeface="宋体"/>
              </a:rPr>
              <a:t>Case Study: AND query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116" name="Rectangle 3"/>
          <p:cNvGraphicFramePr/>
          <p:nvPr/>
        </p:nvGraphicFramePr>
        <p:xfrm>
          <a:off x="338040" y="1371600"/>
          <a:ext cx="7585200" cy="532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040" y="1371600"/>
                    <a:ext cx="7585200" cy="53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5088-9A5C-4F5A-9D7F-15FBB75847B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3520" y="6248520"/>
            <a:ext cx="800100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  <a:ea typeface="宋体"/>
              </a:rPr>
              <a:t>Case Study: AND query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120" name="Rectangle 3"/>
          <p:cNvGraphicFramePr/>
          <p:nvPr/>
        </p:nvGraphicFramePr>
        <p:xfrm>
          <a:off x="338040" y="1371600"/>
          <a:ext cx="7585200" cy="532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040" y="1371600"/>
                    <a:ext cx="7585200" cy="53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" descr=""/>
          <p:cNvPicPr/>
          <p:nvPr/>
        </p:nvPicPr>
        <p:blipFill>
          <a:blip r:embed="rId3"/>
          <a:srcRect l="0" t="0" r="0" b="24000"/>
          <a:stretch/>
        </p:blipFill>
        <p:spPr>
          <a:xfrm>
            <a:off x="4800600" y="4952880"/>
            <a:ext cx="1141560" cy="127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3733920" y="2133720"/>
            <a:ext cx="912600" cy="1279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rcRect l="30736" t="0" r="30736" b="0"/>
          <a:stretch/>
        </p:blipFill>
        <p:spPr>
          <a:xfrm>
            <a:off x="4952880" y="3200400"/>
            <a:ext cx="1252800" cy="127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E48B-58F5-4594-BE2C-34BCFE630CE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Rectangle 3"/>
          <p:cNvGraphicFramePr/>
          <p:nvPr/>
        </p:nvGraphicFramePr>
        <p:xfrm>
          <a:off x="304920" y="0"/>
          <a:ext cx="8016840" cy="62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016840" cy="62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457200" y="6324480"/>
            <a:ext cx="82296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2_SoftAnd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 quer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048120"/>
            <a:ext cx="8915400" cy="32004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86600" y="3124080"/>
            <a:ext cx="1752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8000"/>
                </a:solidFill>
                <a:latin typeface="Times New Roman"/>
              </a:rPr>
              <a:t>Statistic</a:t>
            </a: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8915400" cy="29718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162920" y="0"/>
            <a:ext cx="17524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9900"/>
                </a:solidFill>
                <a:latin typeface="Times New Roman"/>
              </a:rPr>
              <a:t>database</a:t>
            </a: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1B6B-EDDD-4D17-A9F6-775F575F1141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onclusion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Proximity (e.g., w/ RWR) helps answer ‘AND’ and ‘k_softAnd’ queries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99A4-24AF-4A47-8AE6-6D649F2E076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ntroduction – Motiv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ask 1: Node importance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ask 2: Community detec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ask 3: Recommendat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ask 4: Connection sub-graph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ask 5: Mining graphs over tim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327672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095F-3B37-4268-B246-A180966E602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Detailed 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Problem definition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Solution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Results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6002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943600"/>
            <a:ext cx="9144000" cy="885960"/>
          </a:xfrm>
          <a:prstGeom prst="rect">
            <a:avLst/>
          </a:prstGeom>
          <a:solidFill>
            <a:srgbClr val="ffff99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H. Tong &amp; C. Faloutsos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Center-piece subgraphs: problem definition and fast solutions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. In KDD, 404-413, 2006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6924-638E-4996-85DD-FA87723B8D9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Ce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nter-</a:t>
            </a: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P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iece </a:t>
            </a: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ubgraph(</a:t>
            </a: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Ceps</a:t>
            </a: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4572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Given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Q query nod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Find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enter-piece (       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put of </a:t>
            </a:r>
            <a:r>
              <a:rPr b="0" lang="en-US" sz="2800" spc="-1" strike="noStrike">
                <a:solidFill>
                  <a:srgbClr val="f60000"/>
                </a:solidFill>
                <a:latin typeface="Times New Roman"/>
              </a:rPr>
              <a:t>Cep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Q Query nod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udget b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k softAnd numbe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pp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ocial Networ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Law Inforcemen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Gene Networ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55" name="Rectangle 3"/>
          <p:cNvGraphicFramePr/>
          <p:nvPr/>
        </p:nvGraphicFramePr>
        <p:xfrm>
          <a:off x="5530680" y="1295280"/>
          <a:ext cx="2271960" cy="21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30680" y="1295280"/>
                    <a:ext cx="2271960" cy="21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Rectangle 3"/>
          <p:cNvGraphicFramePr/>
          <p:nvPr/>
        </p:nvGraphicFramePr>
        <p:xfrm>
          <a:off x="5635800" y="3849840"/>
          <a:ext cx="1830240" cy="224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5800" y="3849840"/>
                    <a:ext cx="1830240" cy="22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5638680" y="3838680"/>
          <a:ext cx="2038320" cy="21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3838680"/>
                    <a:ext cx="203832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3886200" y="1981080"/>
          <a:ext cx="533520" cy="36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86200" y="1981080"/>
                    <a:ext cx="53352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3CA8-A812-4E84-9DAB-783F532F439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Challenges in Ceps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24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spcBef>
                <a:spcPts val="10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Q1: How to measure importance?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marL="2332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marL="2332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marL="233280" indent="-23328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(Q2: How to extract connection subgraph?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marL="233280" indent="-23328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Q3: How to do it efficiently?)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marL="2332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6094-27C8-42A9-BE0F-C6BC3CDEB25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Challenges in Ceps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24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10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Q1: How to measure importance?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marL="291600" indent="-291600">
              <a:spcBef>
                <a:spcPts val="10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A: “proximity” – but how to combine scores?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marL="291600" indent="-29160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(Q2: How to extract connection subgraph?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marL="291600" indent="-29160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Q3: How to do it efficiently?)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marL="2916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907A-EA60-4B71-A10D-433B1FED644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AND: Combine Scores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41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Q: How to combine scores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69" name="Rectangle 3"/>
          <p:cNvGraphicFramePr/>
          <p:nvPr/>
        </p:nvGraphicFramePr>
        <p:xfrm>
          <a:off x="4849920" y="1676520"/>
          <a:ext cx="3913200" cy="37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9920" y="1676520"/>
                    <a:ext cx="3913200" cy="37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FA5A-8C74-4BBD-BD9E-91651CC98CD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AND: Combine Scores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418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Q: How to combine scores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: Multipl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= prob. 3 random particles coincide on node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73" name="Rectangle 3"/>
          <p:cNvGraphicFramePr/>
          <p:nvPr/>
        </p:nvGraphicFramePr>
        <p:xfrm>
          <a:off x="4849920" y="1676520"/>
          <a:ext cx="3913200" cy="37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9920" y="1676520"/>
                    <a:ext cx="3913200" cy="37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243A-356E-4693-B2AB-E0EE09BB9F9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K_SoftAnd: Relaxation of AND</a:t>
            </a:r>
            <a:endParaRPr b="1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54097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What if AND query</a:t>
            </a:r>
            <a:r>
              <a:rPr b="0" lang="en-US" sz="4400" spc="-1" strike="noStrike">
                <a:solidFill>
                  <a:srgbClr val="f6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60000"/>
                </a:solidFill>
                <a:latin typeface="Wingdings"/>
                <a:ea typeface="Wingdings"/>
              </a:rPr>
              <a:t></a:t>
            </a:r>
            <a:r>
              <a:rPr b="0" lang="en-US" sz="4400" spc="-1" strike="noStrike">
                <a:solidFill>
                  <a:srgbClr val="f60000"/>
                </a:solidFill>
                <a:latin typeface="Times New Roman"/>
              </a:rPr>
              <a:t> No Answer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920" y="3935520"/>
            <a:ext cx="243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isconnected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mmuniti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04400" y="4087800"/>
            <a:ext cx="10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ois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79" name="Rectangle 3"/>
          <p:cNvGraphicFramePr/>
          <p:nvPr/>
        </p:nvGraphicFramePr>
        <p:xfrm>
          <a:off x="5219640" y="1525680"/>
          <a:ext cx="2654280" cy="22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525680"/>
                    <a:ext cx="265428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457200" y="1295280"/>
            <a:ext cx="3962520" cy="3657600"/>
          </a:xfrm>
          <a:prstGeom prst="rect">
            <a:avLst/>
          </a:prstGeom>
          <a:noFill/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52880" y="1295280"/>
            <a:ext cx="3810240" cy="3657600"/>
          </a:xfrm>
          <a:prstGeom prst="rect">
            <a:avLst/>
          </a:prstGeom>
          <a:noFill/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83" name="Rectangle 3"/>
          <p:cNvGraphicFramePr/>
          <p:nvPr/>
        </p:nvGraphicFramePr>
        <p:xfrm>
          <a:off x="1019160" y="1550880"/>
          <a:ext cx="3265560" cy="224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9160" y="1550880"/>
                    <a:ext cx="3265560" cy="22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8A0A-8BE0-4DB5-A560-D1EE7995918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tos</cp:lastModifiedBy>
  <dcterms:modified xsi:type="dcterms:W3CDTF">2009-06-05T15:30:14Z</dcterms:modified>
  <cp:revision>28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