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Click to move the slide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A6CEC5-9183-4736-965F-DFA6AF700A2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"/>
          <p:cNvSpPr txBox="1"/>
          <p:nvPr/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7E028C-0F3A-4431-9AB1-8C99A304180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 txBox="1"/>
          <p:nvPr/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76320" y="455904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"/>
          <p:cNvSpPr txBox="1"/>
          <p:nvPr/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C22041-DC86-4BAA-BFBD-81586114300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 txBox="1"/>
          <p:nvPr/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976320" y="455904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09FDE-B9E0-45A3-9B97-51E0FAD20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8BD2C-C1C2-41C7-9417-E2FDCD8DF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D4B37-2DC4-4B72-9AD1-8860B7D94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60962-6135-4A3B-828E-ABEDA91EE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EC1C1-D107-4E21-8C2B-C6BE870EB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B3468-E80B-4327-8D88-F203885CA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3540A-720C-4A47-9A34-A3BF3785C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55D5C-B76A-46F0-94DE-E2810B293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F95AB-32D6-4D62-9DAA-0B68BF4B7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7FC7E-E383-409C-883D-7675AC42C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5C779-B78B-4F52-A174-D86B4F8C6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E133B-E5D3-4382-BA5A-DD2094BE8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C668A-1F06-453E-8A90-57F02002E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1A33C-4082-4849-9724-06489C22B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49D0A-CF34-460C-8F3C-1ADAB39BA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FA02E-1FDB-45E6-8C97-E983342C1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2833A-2E53-4819-86C7-35BA60E64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B1B93-5436-4BDF-AD59-3FA554C6F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FD4F1-8761-49D7-9471-B07545069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BF3E5-8654-4A0B-A3BD-A3146D2BB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6B72C-D876-4329-A8DB-F1907DAE6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F4AAF-715E-428E-887E-67413994A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140B9-C3FB-4A50-9DD9-E19842CC1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5234D-62A9-4D63-8421-D719609DD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6-</a:t>
            </a:r>
            <a:fld id="{09F66605-7E21-4202-ABB6-2FB41CF82D3A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" name="Object 7"/>
          <p:cNvGraphicFramePr/>
          <p:nvPr/>
        </p:nvGraphicFramePr>
        <p:xfrm>
          <a:off x="39600" y="0"/>
          <a:ext cx="474840" cy="495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600" y="0"/>
                    <a:ext cx="474840" cy="4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" name="Text Box 8"/>
          <p:cNvSpPr/>
          <p:nvPr/>
        </p:nvSpPr>
        <p:spPr>
          <a:xfrm>
            <a:off x="616680" y="-720"/>
            <a:ext cx="861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0000"/>
                </a:solidFill>
                <a:latin typeface="Times New Roman"/>
              </a:rPr>
              <a:t>CMU SCS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P0-</a:t>
            </a:r>
            <a:fld id="{C00FC9B3-2A44-4463-91C3-5CA7217E35FD}" type="slidenum"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" name="Object 7"/>
          <p:cNvGraphicFramePr/>
          <p:nvPr/>
        </p:nvGraphicFramePr>
        <p:xfrm>
          <a:off x="39600" y="0"/>
          <a:ext cx="474840" cy="495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0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600" y="0"/>
                    <a:ext cx="474840" cy="4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Text Box 8"/>
          <p:cNvSpPr/>
          <p:nvPr/>
        </p:nvSpPr>
        <p:spPr>
          <a:xfrm>
            <a:off x="616680" y="-720"/>
            <a:ext cx="861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0000"/>
                </a:solidFill>
                <a:latin typeface="Times New Roman"/>
              </a:rPr>
              <a:t>CMU SCS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55680" y="1784520"/>
            <a:ext cx="8570880" cy="181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Large Graph Mining:</a:t>
            </a:r>
            <a:br>
              <a:rPr sz="3600"/>
            </a:b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Power Tools and a Practitioner’s guide</a:t>
            </a:r>
            <a:endParaRPr b="1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839520" y="3871800"/>
            <a:ext cx="7396200" cy="17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Task 6: Virus/Influence Propagation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Faloutsos, Miller,Tsourakaki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CMU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14654-81CA-46D5-93CC-1E1031F59455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Beginning of proof</a:t>
            </a:r>
            <a:endParaRPr b="1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Healthy @ t+1: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- ( healthy or healed )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- and not attacked @ t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Let: p(i , t) = Prob node i is sick @ t+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1 - </a:t>
            </a:r>
            <a:r>
              <a:rPr b="0" i="1" lang="en-US" sz="2400" spc="-1" strike="noStrike">
                <a:solidFill>
                  <a:srgbClr val="000066"/>
                </a:solidFill>
                <a:latin typeface="Times New Roman"/>
              </a:rPr>
              <a:t>p(i, t+1 )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= (1 – </a:t>
            </a:r>
            <a:r>
              <a:rPr b="0" i="1" lang="en-US" sz="2400" spc="-1" strike="noStrike">
                <a:solidFill>
                  <a:srgbClr val="000066"/>
                </a:solidFill>
                <a:latin typeface="Times New Roman"/>
              </a:rPr>
              <a:t>p(i, t)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66"/>
                </a:solidFill>
                <a:latin typeface="Times New Roman"/>
              </a:rPr>
              <a:t>p(i, t)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* </a:t>
            </a:r>
            <a:r>
              <a:rPr b="0" i="1" lang="en-US" sz="2400" spc="-1" strike="noStrike">
                <a:solidFill>
                  <a:srgbClr val="000066"/>
                </a:solidFill>
                <a:latin typeface="Symbol"/>
                <a:ea typeface="Symbol"/>
              </a:rPr>
              <a:t>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) *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                       </a:t>
            </a:r>
            <a:r>
              <a:rPr b="0" lang="en-US" sz="2400" spc="-1" strike="noStrike">
                <a:solidFill>
                  <a:srgbClr val="000066"/>
                </a:solidFill>
                <a:latin typeface="Symbol"/>
                <a:ea typeface="Symbol"/>
              </a:rPr>
              <a:t></a:t>
            </a:r>
            <a:r>
              <a:rPr b="0" lang="en-US" sz="2400" spc="-1" strike="noStrike" baseline="-25000">
                <a:solidFill>
                  <a:srgbClr val="000066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(1 – </a:t>
            </a:r>
            <a:r>
              <a:rPr b="0" i="1" lang="en-US" sz="2400" spc="-1" strike="noStrike">
                <a:solidFill>
                  <a:srgbClr val="000066"/>
                </a:solidFill>
                <a:latin typeface="Symbol"/>
                <a:ea typeface="Symbol"/>
              </a:rPr>
              <a:t></a:t>
            </a:r>
            <a:r>
              <a:rPr b="0" i="1" lang="en-US" sz="2400" spc="-1" strike="noStrike">
                <a:solidFill>
                  <a:srgbClr val="000066"/>
                </a:solidFill>
                <a:latin typeface="Times New Roman"/>
              </a:rPr>
              <a:t> aji * p(j , t)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Below threshold, if the above </a:t>
            </a:r>
            <a:r>
              <a:rPr b="0" i="1" lang="en-US" sz="2400" spc="-1" strike="noStrike">
                <a:solidFill>
                  <a:srgbClr val="000066"/>
                </a:solidFill>
                <a:latin typeface="Times New Roman"/>
              </a:rPr>
              <a:t>non-linear dynamical system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above is ‘stable’ (eigenvalue of Hessian &lt; 1 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7467480" y="0"/>
            <a:ext cx="1314720" cy="12859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details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69077-8CC7-486F-AECD-1328C18F7DC6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Epidemic threshold for various networks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ormula includes older results as special cases: 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Homogeneous networks [Kephart+White]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λ</a:t>
            </a:r>
            <a:r>
              <a:rPr b="0" i="1" lang="en-US" sz="2800" spc="-1" strike="noStrike" baseline="-25000">
                <a:solidFill>
                  <a:srgbClr val="000066"/>
                </a:solidFill>
                <a:latin typeface="Times New Roman"/>
                <a:ea typeface="Times New Roman"/>
              </a:rPr>
              <a:t>1,</a:t>
            </a:r>
            <a:r>
              <a:rPr b="1" i="1" lang="en-US" sz="2800" spc="-1" strike="noStrike" baseline="-25000">
                <a:solidFill>
                  <a:srgbClr val="000066"/>
                </a:solidFill>
                <a:latin typeface="Times New Roman"/>
                <a:ea typeface="Times New Roman"/>
              </a:rPr>
              <a:t>A </a:t>
            </a:r>
            <a:r>
              <a:rPr b="0" i="1" lang="en-US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= &lt;k&gt;; τ = 1/&lt;k&gt;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(&lt;k&gt; : avg degree)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Star networks (d = degree of center)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λ</a:t>
            </a:r>
            <a:r>
              <a:rPr b="0" i="1" lang="en-US" sz="2800" spc="-1" strike="noStrike" baseline="-25000">
                <a:solidFill>
                  <a:srgbClr val="000066"/>
                </a:solidFill>
                <a:latin typeface="Times New Roman"/>
                <a:ea typeface="Times New Roman"/>
              </a:rPr>
              <a:t>1,</a:t>
            </a:r>
            <a:r>
              <a:rPr b="1" i="1" lang="en-US" sz="2800" spc="-1" strike="noStrike" baseline="-25000">
                <a:solidFill>
                  <a:srgbClr val="000066"/>
                </a:solidFill>
                <a:latin typeface="Times New Roman"/>
                <a:ea typeface="Times New Roman"/>
              </a:rPr>
              <a:t>A </a:t>
            </a:r>
            <a:r>
              <a:rPr b="0" i="1" lang="en-US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= sqrt(d); τ = 1/ sqrt(d)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Infinite power-law network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λ</a:t>
            </a:r>
            <a:r>
              <a:rPr b="0" i="1" lang="en-US" sz="2800" spc="-1" strike="noStrike" baseline="-25000">
                <a:solidFill>
                  <a:srgbClr val="000066"/>
                </a:solidFill>
                <a:latin typeface="Times New Roman"/>
                <a:ea typeface="Times New Roman"/>
              </a:rPr>
              <a:t>1,</a:t>
            </a:r>
            <a:r>
              <a:rPr b="1" i="1" lang="en-US" sz="2800" spc="-1" strike="noStrike" baseline="-25000">
                <a:solidFill>
                  <a:srgbClr val="000066"/>
                </a:solidFill>
                <a:latin typeface="Times New Roman"/>
                <a:ea typeface="Times New Roman"/>
              </a:rPr>
              <a:t>A </a:t>
            </a:r>
            <a:r>
              <a:rPr b="0" i="1" lang="en-US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= ∞; τ = 0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; [Barabasi]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C5BD1-1B1D-4A4C-B950-FE5F326BA409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Epidemic threshold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80010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[Theorem 2] Below the epidemic threshold, the epidemic dies out exponentially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F859D-15F1-4447-BCDB-4C51B94DCF33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Detailed outline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Epidemic threshold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Problem definition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Analysi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Experiment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raud detection in e-bay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33520" y="3200400"/>
            <a:ext cx="380880" cy="304920"/>
          </a:xfrm>
          <a:prstGeom prst="rightArrow">
            <a:avLst>
              <a:gd name="adj1" fmla="val 50000"/>
              <a:gd name="adj2" fmla="val 31228"/>
            </a:avLst>
          </a:prstGeom>
          <a:solidFill>
            <a:srgbClr val="a50021"/>
          </a:solidFill>
          <a:ln w="284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50F4D-0242-444F-9946-ECDCB8DC0A42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Current prediction vs. previous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4560" y="5028840"/>
            <a:ext cx="8839080" cy="16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The formula’s predictions are more accurate</a:t>
            </a: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762120" y="1219320"/>
            <a:ext cx="7800840" cy="276228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2072160" y="441972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Orego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416280" y="4419720"/>
            <a:ext cx="74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Star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1447920" y="1447920"/>
            <a:ext cx="1142280" cy="2133360"/>
            <a:chOff x="1447920" y="1447920"/>
            <a:chExt cx="1142280" cy="2133360"/>
          </a:xfrm>
        </p:grpSpPr>
        <p:sp>
          <p:nvSpPr>
            <p:cNvPr id="192" name=""/>
            <p:cNvSpPr/>
            <p:nvPr/>
          </p:nvSpPr>
          <p:spPr>
            <a:xfrm>
              <a:off x="1447920" y="1676520"/>
              <a:ext cx="0" cy="19047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551240" y="1447920"/>
              <a:ext cx="103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PL-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5257800" y="1371600"/>
            <a:ext cx="0" cy="22096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886200" y="1981080"/>
            <a:ext cx="0" cy="1600200"/>
          </a:xfrm>
          <a:prstGeom prst="line">
            <a:avLst/>
          </a:prstGeom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867280" y="1981080"/>
            <a:ext cx="0" cy="1600200"/>
          </a:xfrm>
          <a:prstGeom prst="line">
            <a:avLst/>
          </a:prstGeom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943600" y="19051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Our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048120" y="21337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Our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rot="10800000">
            <a:off x="0" y="1142640"/>
            <a:ext cx="91188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Number of infected node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3809880"/>
            <a:ext cx="13716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β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/</a:t>
            </a:r>
            <a:r>
              <a:rPr b="1" lang="el-GR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δ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095880" y="3809880"/>
            <a:ext cx="13716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β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/</a:t>
            </a:r>
            <a:r>
              <a:rPr b="1" lang="el-GR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δ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23880" y="1981080"/>
            <a:ext cx="685800" cy="2286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334120" y="1523880"/>
            <a:ext cx="685800" cy="2286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334120" y="129528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L-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54206-C81C-491D-AD72-F79EF9382A99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685800" y="5791320"/>
            <a:ext cx="8001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Experiments (Oregon)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609480" y="1219320"/>
          <a:ext cx="5867640" cy="4984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219320"/>
                    <a:ext cx="5867640" cy="498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9" name=""/>
          <p:cNvSpPr/>
          <p:nvPr/>
        </p:nvSpPr>
        <p:spPr>
          <a:xfrm flipH="1">
            <a:off x="5257440" y="2286000"/>
            <a:ext cx="1523880" cy="1828800"/>
          </a:xfrm>
          <a:prstGeom prst="line">
            <a:avLst/>
          </a:prstGeom>
          <a:ln w="2556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1828800"/>
            <a:ext cx="289548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a50021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/</a:t>
            </a:r>
            <a:r>
              <a:rPr b="1" lang="el-GR" sz="2400" spc="-1" strike="noStrike">
                <a:solidFill>
                  <a:srgbClr val="a50021"/>
                </a:solidFill>
                <a:latin typeface="Symbol"/>
                <a:ea typeface="Symbol"/>
              </a:rPr>
              <a:t></a:t>
            </a:r>
            <a:r>
              <a:rPr b="1" lang="en-US" sz="24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 &gt; </a:t>
            </a:r>
            <a:r>
              <a:rPr b="1" lang="el-GR" sz="24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τ</a:t>
            </a:r>
            <a:r>
              <a:rPr b="1" lang="en-US" sz="24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 </a:t>
            </a:r>
            <a:br>
              <a:rPr sz="2400"/>
            </a:br>
            <a:r>
              <a:rPr b="1" lang="en-US" sz="24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(above threshold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5257800" y="4218120"/>
            <a:ext cx="1309680" cy="658800"/>
          </a:xfrm>
          <a:prstGeom prst="line">
            <a:avLst/>
          </a:prstGeom>
          <a:ln w="255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567480" y="3809880"/>
            <a:ext cx="280512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8000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/</a:t>
            </a:r>
            <a:r>
              <a:rPr b="1" lang="el-GR" sz="2400" spc="-1" strike="noStrike">
                <a:solidFill>
                  <a:srgbClr val="008000"/>
                </a:solidFill>
                <a:latin typeface="Symbol"/>
                <a:ea typeface="Symbol"/>
              </a:rPr>
              <a:t>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 = </a:t>
            </a:r>
            <a:r>
              <a:rPr b="1" lang="el-GR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τ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 </a:t>
            </a:r>
            <a:br>
              <a:rPr sz="2400"/>
            </a:br>
            <a:r>
              <a:rPr b="1" lang="en-US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(at the threshold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 flipV="1">
            <a:off x="5257800" y="5181480"/>
            <a:ext cx="1447920" cy="45720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629400" y="5181480"/>
            <a:ext cx="289548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66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/</a:t>
            </a:r>
            <a:r>
              <a:rPr b="1" lang="el-GR" sz="2400" spc="-1" strike="noStrike">
                <a:solidFill>
                  <a:srgbClr val="000066"/>
                </a:solidFill>
                <a:latin typeface="Symbol"/>
                <a:ea typeface="Symbol"/>
              </a:rPr>
              <a:t>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&lt; </a:t>
            </a:r>
            <a:r>
              <a:rPr b="1" lang="el-GR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τ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(below threshold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3296E-F5B8-4BA9-9CBA-874BD9B8058F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SIS simulation - # infected nodes vs time</a:t>
            </a:r>
            <a:endParaRPr b="1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pic>
        <p:nvPicPr>
          <p:cNvPr id="216" name="Rectangle 3" descr=""/>
          <p:cNvPicPr/>
          <p:nvPr/>
        </p:nvPicPr>
        <p:blipFill>
          <a:blip r:embed="rId1"/>
          <a:stretch/>
        </p:blipFill>
        <p:spPr>
          <a:xfrm>
            <a:off x="2438280" y="1600200"/>
            <a:ext cx="4876920" cy="413244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3427920" y="5562720"/>
            <a:ext cx="2902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Time (linear scale)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04920" y="2666880"/>
            <a:ext cx="17078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#inf.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(log scale)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7162920" y="1981080"/>
            <a:ext cx="685800" cy="0"/>
          </a:xfrm>
          <a:prstGeom prst="line">
            <a:avLst/>
          </a:prstGeom>
          <a:ln w="7632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162920" y="2590920"/>
            <a:ext cx="68580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162920" y="3200400"/>
            <a:ext cx="685800" cy="0"/>
          </a:xfrm>
          <a:prstGeom prst="line">
            <a:avLst/>
          </a:prstGeom>
          <a:ln w="76320">
            <a:solidFill>
              <a:srgbClr val="00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925400" y="1676520"/>
            <a:ext cx="1084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a50021"/>
                </a:solidFill>
                <a:latin typeface="Arial"/>
              </a:rPr>
              <a:t>above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8002800" y="2330280"/>
            <a:ext cx="456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at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8001360" y="2940120"/>
            <a:ext cx="10465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cc66"/>
                </a:solidFill>
                <a:latin typeface="Arial"/>
              </a:rPr>
              <a:t>below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79280" y="1781280"/>
            <a:ext cx="180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Log - Lin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FFDA7-35CC-453D-809F-011A676BC5DF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SIS simulation - # infected nodes vs time</a:t>
            </a:r>
            <a:endParaRPr b="1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pic>
        <p:nvPicPr>
          <p:cNvPr id="227" name="Rectangle 3" descr=""/>
          <p:cNvPicPr/>
          <p:nvPr/>
        </p:nvPicPr>
        <p:blipFill>
          <a:blip r:embed="rId1"/>
          <a:stretch/>
        </p:blipFill>
        <p:spPr>
          <a:xfrm>
            <a:off x="2438280" y="1600200"/>
            <a:ext cx="4876920" cy="413244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179280" y="1781280"/>
            <a:ext cx="180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Log - Lin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427920" y="5562720"/>
            <a:ext cx="2902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Time (linear scale)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2666880"/>
            <a:ext cx="17078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#inf.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(log scale)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162920" y="1981080"/>
            <a:ext cx="685800" cy="0"/>
          </a:xfrm>
          <a:prstGeom prst="line">
            <a:avLst/>
          </a:prstGeom>
          <a:ln w="7632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162920" y="2590920"/>
            <a:ext cx="68580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162920" y="3200400"/>
            <a:ext cx="685800" cy="0"/>
          </a:xfrm>
          <a:prstGeom prst="line">
            <a:avLst/>
          </a:prstGeom>
          <a:ln w="76320">
            <a:solidFill>
              <a:srgbClr val="00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925400" y="1676520"/>
            <a:ext cx="1084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a50021"/>
                </a:solidFill>
                <a:latin typeface="Arial"/>
              </a:rPr>
              <a:t>above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8002800" y="2330280"/>
            <a:ext cx="456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at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8001360" y="2940120"/>
            <a:ext cx="10465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cc66"/>
                </a:solidFill>
                <a:latin typeface="Arial"/>
              </a:rPr>
              <a:t>below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971800" y="2743200"/>
            <a:ext cx="533520" cy="20574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219680" y="4038480"/>
            <a:ext cx="1911960" cy="885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ponential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ay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6C4A1-3771-4A67-A226-A2465359417F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SIS simulation - # infected nodes vs time</a:t>
            </a:r>
            <a:endParaRPr b="1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pic>
        <p:nvPicPr>
          <p:cNvPr id="240" name="Rectangle 3" descr=""/>
          <p:cNvPicPr/>
          <p:nvPr/>
        </p:nvPicPr>
        <p:blipFill>
          <a:blip r:embed="rId1"/>
          <a:stretch/>
        </p:blipFill>
        <p:spPr>
          <a:xfrm>
            <a:off x="1828800" y="152388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143640" y="1781280"/>
            <a:ext cx="187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Log - Log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610800" y="5562720"/>
            <a:ext cx="2535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Time (log scale)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04920" y="2666880"/>
            <a:ext cx="17078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#inf.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(log scale)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162920" y="1981080"/>
            <a:ext cx="685800" cy="0"/>
          </a:xfrm>
          <a:prstGeom prst="line">
            <a:avLst/>
          </a:prstGeom>
          <a:ln w="7632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162920" y="2590920"/>
            <a:ext cx="68580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162920" y="3200400"/>
            <a:ext cx="685800" cy="0"/>
          </a:xfrm>
          <a:prstGeom prst="line">
            <a:avLst/>
          </a:prstGeom>
          <a:ln w="76320">
            <a:solidFill>
              <a:srgbClr val="00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7925400" y="1676520"/>
            <a:ext cx="1084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a50021"/>
                </a:solidFill>
                <a:latin typeface="Arial"/>
              </a:rPr>
              <a:t>above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8002800" y="2330280"/>
            <a:ext cx="456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at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8001360" y="2940120"/>
            <a:ext cx="10465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cc66"/>
                </a:solidFill>
                <a:latin typeface="Arial"/>
              </a:rPr>
              <a:t>below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B4A96-48A1-426D-84BF-D0AD636FB9D0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SIS simulation - # infected nodes vs time</a:t>
            </a:r>
            <a:endParaRPr b="1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pic>
        <p:nvPicPr>
          <p:cNvPr id="251" name="Rectangle 3" descr=""/>
          <p:cNvPicPr/>
          <p:nvPr/>
        </p:nvPicPr>
        <p:blipFill>
          <a:blip r:embed="rId1"/>
          <a:stretch/>
        </p:blipFill>
        <p:spPr>
          <a:xfrm>
            <a:off x="1828800" y="152388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/>
          <p:nvPr/>
        </p:nvSpPr>
        <p:spPr>
          <a:xfrm>
            <a:off x="3610800" y="5562720"/>
            <a:ext cx="2535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Time (log scale)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04920" y="2666880"/>
            <a:ext cx="17078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#inf.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(log scale)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162920" y="1981080"/>
            <a:ext cx="685800" cy="0"/>
          </a:xfrm>
          <a:prstGeom prst="line">
            <a:avLst/>
          </a:prstGeom>
          <a:ln w="7632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7162920" y="2590920"/>
            <a:ext cx="68580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7162920" y="3200400"/>
            <a:ext cx="685800" cy="0"/>
          </a:xfrm>
          <a:prstGeom prst="line">
            <a:avLst/>
          </a:prstGeom>
          <a:ln w="76320">
            <a:solidFill>
              <a:srgbClr val="00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925400" y="1676520"/>
            <a:ext cx="1084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a50021"/>
                </a:solidFill>
                <a:latin typeface="Arial"/>
              </a:rPr>
              <a:t>above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002800" y="2330280"/>
            <a:ext cx="456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at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001360" y="2940120"/>
            <a:ext cx="10465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cc66"/>
                </a:solidFill>
                <a:latin typeface="Arial"/>
              </a:rPr>
              <a:t>below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895480" y="2514600"/>
            <a:ext cx="1447920" cy="45720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43640" y="1781280"/>
            <a:ext cx="187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Log - Log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599840" y="3581280"/>
            <a:ext cx="1726200" cy="885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ower-law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ay (!)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56773-6EBF-4F84-BCFC-D274E0E3461E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Outline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41440" indent="-54144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Introduction – Motivation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541440" indent="-54144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ask 1: Node importance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541440" indent="-54144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ask 2: Community detection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541440" indent="-54144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ask 3: Recommendation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541440" indent="-54144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ask 4: Connection sub-graph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541440" indent="-54144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ask 5: Mining graphs over time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541440" indent="-54144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Task 6: Virus/influence propagation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541440" indent="-54144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ask 7: Spectral graph theory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541440" indent="-54144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ask 8: Tera/peta graph mining: hadoop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541440" indent="-54144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Observations – patterns of real graph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541440" indent="-54144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onclusion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57200" y="4114800"/>
            <a:ext cx="380880" cy="304920"/>
          </a:xfrm>
          <a:prstGeom prst="rightArrow">
            <a:avLst>
              <a:gd name="adj1" fmla="val 50000"/>
              <a:gd name="adj2" fmla="val 31228"/>
            </a:avLst>
          </a:prstGeom>
          <a:solidFill>
            <a:srgbClr val="a50021"/>
          </a:solidFill>
          <a:ln w="284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2F316-33CC-44C8-84C7-FF5CD5E861B3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Detailed outline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Epidemic threshold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raud detection in e-bay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80880" y="2209680"/>
            <a:ext cx="381240" cy="304920"/>
          </a:xfrm>
          <a:prstGeom prst="rightArrow">
            <a:avLst>
              <a:gd name="adj1" fmla="val 50000"/>
              <a:gd name="adj2" fmla="val 31257"/>
            </a:avLst>
          </a:prstGeom>
          <a:solidFill>
            <a:srgbClr val="a50021"/>
          </a:solidFill>
          <a:ln w="284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7848720" y="228600"/>
            <a:ext cx="971280" cy="12859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extra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2F1AC-7246-4CF1-BC46-AC4329248C66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E-bay Fraud detection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pic>
        <p:nvPicPr>
          <p:cNvPr id="268" name="Rectangle 3" descr=""/>
          <p:cNvPicPr/>
          <p:nvPr/>
        </p:nvPicPr>
        <p:blipFill>
          <a:blip r:embed="rId1"/>
          <a:stretch/>
        </p:blipFill>
        <p:spPr>
          <a:xfrm>
            <a:off x="733320" y="1636560"/>
            <a:ext cx="912960" cy="121284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5122800" y="3063960"/>
            <a:ext cx="203400" cy="189000"/>
          </a:xfrm>
          <a:prstGeom prst="ellipse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654960" y="3068640"/>
            <a:ext cx="203040" cy="189000"/>
          </a:xfrm>
          <a:prstGeom prst="ellipse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400880" y="3062160"/>
            <a:ext cx="203400" cy="189000"/>
          </a:xfrm>
          <a:prstGeom prst="ellipse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892840" y="3062160"/>
            <a:ext cx="203040" cy="189000"/>
          </a:xfrm>
          <a:prstGeom prst="ellipse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818240" y="4059360"/>
            <a:ext cx="203040" cy="188640"/>
          </a:xfrm>
          <a:prstGeom prst="ellipse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350040" y="4064040"/>
            <a:ext cx="203040" cy="189000"/>
          </a:xfrm>
          <a:prstGeom prst="ellipse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7095960" y="4057560"/>
            <a:ext cx="203400" cy="189000"/>
          </a:xfrm>
          <a:prstGeom prst="ellipse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587920" y="4057560"/>
            <a:ext cx="203400" cy="189000"/>
          </a:xfrm>
          <a:prstGeom prst="ellipse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7962840" y="4052880"/>
            <a:ext cx="203400" cy="189000"/>
          </a:xfrm>
          <a:prstGeom prst="ellipse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556160" y="5054760"/>
            <a:ext cx="203040" cy="188640"/>
          </a:xfrm>
          <a:prstGeom prst="ellipse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087960" y="5059440"/>
            <a:ext cx="203400" cy="189000"/>
          </a:xfrm>
          <a:prstGeom prst="ellipse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834240" y="5052960"/>
            <a:ext cx="203040" cy="189000"/>
          </a:xfrm>
          <a:prstGeom prst="ellipse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326200" y="5052960"/>
            <a:ext cx="203040" cy="189000"/>
          </a:xfrm>
          <a:prstGeom prst="ellipse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7701120" y="5048280"/>
            <a:ext cx="203040" cy="189000"/>
          </a:xfrm>
          <a:prstGeom prst="ellipse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8539200" y="5043600"/>
            <a:ext cx="203040" cy="188640"/>
          </a:xfrm>
          <a:prstGeom prst="ellipse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284" name=""/>
          <p:cNvCxnSpPr>
            <a:stCxn id="269" idx="4"/>
            <a:endCxn id="273" idx="0"/>
          </p:cNvCxnSpPr>
          <p:nvPr/>
        </p:nvCxnSpPr>
        <p:spPr>
          <a:xfrm flipH="1">
            <a:off x="4919400" y="3252960"/>
            <a:ext cx="305280" cy="80712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285" name=""/>
          <p:cNvCxnSpPr>
            <a:stCxn id="269" idx="4"/>
            <a:endCxn id="276" idx="1"/>
          </p:cNvCxnSpPr>
          <p:nvPr/>
        </p:nvCxnSpPr>
        <p:spPr>
          <a:xfrm>
            <a:off x="5224320" y="3252960"/>
            <a:ext cx="394560" cy="83232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286" name=""/>
          <p:cNvCxnSpPr>
            <a:stCxn id="269" idx="5"/>
            <a:endCxn id="274" idx="1"/>
          </p:cNvCxnSpPr>
          <p:nvPr/>
        </p:nvCxnSpPr>
        <p:spPr>
          <a:xfrm>
            <a:off x="5295960" y="3225600"/>
            <a:ext cx="1085040" cy="86580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287" name=""/>
          <p:cNvCxnSpPr>
            <a:stCxn id="269" idx="6"/>
            <a:endCxn id="275" idx="2"/>
          </p:cNvCxnSpPr>
          <p:nvPr/>
        </p:nvCxnSpPr>
        <p:spPr>
          <a:xfrm>
            <a:off x="5326200" y="3158640"/>
            <a:ext cx="1770480" cy="99468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288" name=""/>
          <p:cNvCxnSpPr>
            <a:stCxn id="269" idx="6"/>
            <a:endCxn id="277" idx="2"/>
          </p:cNvCxnSpPr>
          <p:nvPr/>
        </p:nvCxnSpPr>
        <p:spPr>
          <a:xfrm>
            <a:off x="5326200" y="3159000"/>
            <a:ext cx="2637360" cy="99000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289" name=""/>
          <p:cNvCxnSpPr>
            <a:stCxn id="272" idx="4"/>
            <a:endCxn id="276" idx="7"/>
          </p:cNvCxnSpPr>
          <p:nvPr/>
        </p:nvCxnSpPr>
        <p:spPr>
          <a:xfrm flipH="1">
            <a:off x="5760720" y="3250800"/>
            <a:ext cx="234000" cy="83412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290" name=""/>
          <p:cNvCxnSpPr>
            <a:stCxn id="272" idx="3"/>
            <a:endCxn id="273" idx="7"/>
          </p:cNvCxnSpPr>
          <p:nvPr/>
        </p:nvCxnSpPr>
        <p:spPr>
          <a:xfrm flipH="1">
            <a:off x="4990320" y="3223800"/>
            <a:ext cx="932760" cy="86292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291" name=""/>
          <p:cNvCxnSpPr>
            <a:stCxn id="270" idx="3"/>
            <a:endCxn id="273" idx="7"/>
          </p:cNvCxnSpPr>
          <p:nvPr/>
        </p:nvCxnSpPr>
        <p:spPr>
          <a:xfrm flipH="1">
            <a:off x="4990320" y="3230280"/>
            <a:ext cx="1694520" cy="85644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292" name=""/>
          <p:cNvCxnSpPr>
            <a:stCxn id="271" idx="3"/>
            <a:endCxn id="273" idx="7"/>
          </p:cNvCxnSpPr>
          <p:nvPr/>
        </p:nvCxnSpPr>
        <p:spPr>
          <a:xfrm flipH="1">
            <a:off x="4990680" y="3223800"/>
            <a:ext cx="2440800" cy="86292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293" name=""/>
          <p:cNvCxnSpPr>
            <a:stCxn id="271" idx="5"/>
            <a:endCxn id="277" idx="0"/>
          </p:cNvCxnSpPr>
          <p:nvPr/>
        </p:nvCxnSpPr>
        <p:spPr>
          <a:xfrm>
            <a:off x="7574040" y="3224160"/>
            <a:ext cx="491040" cy="82944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294" name=""/>
          <p:cNvCxnSpPr>
            <a:stCxn id="271" idx="4"/>
            <a:endCxn id="275" idx="7"/>
          </p:cNvCxnSpPr>
          <p:nvPr/>
        </p:nvCxnSpPr>
        <p:spPr>
          <a:xfrm flipH="1">
            <a:off x="7268760" y="3250800"/>
            <a:ext cx="234000" cy="83412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295" name=""/>
          <p:cNvCxnSpPr>
            <a:stCxn id="271" idx="3"/>
            <a:endCxn id="274" idx="0"/>
          </p:cNvCxnSpPr>
          <p:nvPr/>
        </p:nvCxnSpPr>
        <p:spPr>
          <a:xfrm flipH="1">
            <a:off x="6450840" y="3223800"/>
            <a:ext cx="980280" cy="84060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296" name=""/>
          <p:cNvCxnSpPr>
            <a:stCxn id="270" idx="4"/>
            <a:endCxn id="276" idx="7"/>
          </p:cNvCxnSpPr>
          <p:nvPr/>
        </p:nvCxnSpPr>
        <p:spPr>
          <a:xfrm flipH="1">
            <a:off x="5760360" y="3257280"/>
            <a:ext cx="996120" cy="82764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297" name=""/>
          <p:cNvCxnSpPr>
            <a:stCxn id="270" idx="4"/>
            <a:endCxn id="274" idx="0"/>
          </p:cNvCxnSpPr>
          <p:nvPr/>
        </p:nvCxnSpPr>
        <p:spPr>
          <a:xfrm flipH="1">
            <a:off x="6450840" y="3257640"/>
            <a:ext cx="305640" cy="80712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298" name=""/>
          <p:cNvCxnSpPr>
            <a:stCxn id="270" idx="4"/>
            <a:endCxn id="275" idx="0"/>
          </p:cNvCxnSpPr>
          <p:nvPr/>
        </p:nvCxnSpPr>
        <p:spPr>
          <a:xfrm>
            <a:off x="6756480" y="3257640"/>
            <a:ext cx="442080" cy="80064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299" name=""/>
          <p:cNvCxnSpPr>
            <a:stCxn id="270" idx="5"/>
            <a:endCxn id="277" idx="1"/>
          </p:cNvCxnSpPr>
          <p:nvPr/>
        </p:nvCxnSpPr>
        <p:spPr>
          <a:xfrm>
            <a:off x="6827400" y="3230280"/>
            <a:ext cx="1166040" cy="84996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300" name=""/>
          <p:cNvCxnSpPr>
            <a:stCxn id="272" idx="5"/>
            <a:endCxn id="274" idx="0"/>
          </p:cNvCxnSpPr>
          <p:nvPr/>
        </p:nvCxnSpPr>
        <p:spPr>
          <a:xfrm>
            <a:off x="6065640" y="3223800"/>
            <a:ext cx="386280" cy="84060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301" name=""/>
          <p:cNvCxnSpPr>
            <a:stCxn id="272" idx="6"/>
            <a:endCxn id="275" idx="1"/>
          </p:cNvCxnSpPr>
          <p:nvPr/>
        </p:nvCxnSpPr>
        <p:spPr>
          <a:xfrm>
            <a:off x="6095880" y="3157200"/>
            <a:ext cx="1031040" cy="92772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302" name=""/>
          <p:cNvCxnSpPr>
            <a:stCxn id="272" idx="6"/>
            <a:endCxn id="277" idx="1"/>
          </p:cNvCxnSpPr>
          <p:nvPr/>
        </p:nvCxnSpPr>
        <p:spPr>
          <a:xfrm>
            <a:off x="6095880" y="3157560"/>
            <a:ext cx="1897920" cy="92304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303" name=""/>
          <p:cNvCxnSpPr>
            <a:stCxn id="273" idx="4"/>
            <a:endCxn id="278" idx="0"/>
          </p:cNvCxnSpPr>
          <p:nvPr/>
        </p:nvCxnSpPr>
        <p:spPr>
          <a:xfrm flipH="1">
            <a:off x="4657320" y="4247640"/>
            <a:ext cx="262800" cy="80748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304" name=""/>
          <p:cNvCxnSpPr>
            <a:stCxn id="276" idx="4"/>
            <a:endCxn id="279" idx="0"/>
          </p:cNvCxnSpPr>
          <p:nvPr/>
        </p:nvCxnSpPr>
        <p:spPr>
          <a:xfrm>
            <a:off x="5689440" y="4246560"/>
            <a:ext cx="501120" cy="81360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305" name=""/>
          <p:cNvCxnSpPr>
            <a:stCxn id="275" idx="4"/>
            <a:endCxn id="280" idx="0"/>
          </p:cNvCxnSpPr>
          <p:nvPr/>
        </p:nvCxnSpPr>
        <p:spPr>
          <a:xfrm flipH="1">
            <a:off x="6935400" y="4246560"/>
            <a:ext cx="262800" cy="80712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306" name=""/>
          <p:cNvCxnSpPr>
            <a:stCxn id="274" idx="4"/>
            <a:endCxn id="282" idx="2"/>
          </p:cNvCxnSpPr>
          <p:nvPr/>
        </p:nvCxnSpPr>
        <p:spPr>
          <a:xfrm>
            <a:off x="6451200" y="4253040"/>
            <a:ext cx="1250280" cy="89136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307" name=""/>
          <p:cNvCxnSpPr>
            <a:stCxn id="277" idx="4"/>
            <a:endCxn id="282" idx="7"/>
          </p:cNvCxnSpPr>
          <p:nvPr/>
        </p:nvCxnSpPr>
        <p:spPr>
          <a:xfrm flipH="1">
            <a:off x="7873200" y="4241520"/>
            <a:ext cx="191160" cy="83412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308" name=""/>
          <p:cNvCxnSpPr>
            <a:stCxn id="278" idx="4"/>
            <a:endCxn id="281" idx="4"/>
          </p:cNvCxnSpPr>
          <p:nvPr/>
        </p:nvCxnSpPr>
        <p:spPr>
          <a:xfrm flipH="1" flipV="1" rot="5400000">
            <a:off x="5040720" y="4857120"/>
            <a:ext cx="2160" cy="770760"/>
          </a:xfrm>
          <a:prstGeom prst="curvedConnector5">
            <a:avLst>
              <a:gd name="adj1" fmla="val -14400000"/>
              <a:gd name="adj2" fmla="val 50000"/>
              <a:gd name="adj3" fmla="val -14400000"/>
            </a:avLst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309" name=""/>
          <p:cNvCxnSpPr>
            <a:stCxn id="279" idx="5"/>
            <a:endCxn id="283" idx="4"/>
          </p:cNvCxnSpPr>
          <p:nvPr/>
        </p:nvCxnSpPr>
        <p:spPr>
          <a:xfrm flipH="1" rot="16200000">
            <a:off x="7445520" y="4037040"/>
            <a:ext cx="11520" cy="2379960"/>
          </a:xfrm>
          <a:prstGeom prst="curvedConnector5">
            <a:avLst>
              <a:gd name="adj1" fmla="val 2300000"/>
              <a:gd name="adj2" fmla="val 50000"/>
              <a:gd name="adj3" fmla="val 2300000"/>
            </a:avLst>
          </a:prstGeom>
          <a:ln w="9360">
            <a:solidFill>
              <a:srgbClr val="000066"/>
            </a:solidFill>
            <a:miter/>
          </a:ln>
        </p:spPr>
      </p:cxnSp>
      <p:sp>
        <p:nvSpPr>
          <p:cNvPr id="310" name=""/>
          <p:cNvSpPr/>
          <p:nvPr/>
        </p:nvSpPr>
        <p:spPr>
          <a:xfrm>
            <a:off x="275400" y="3205080"/>
            <a:ext cx="4018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w/ Polo Chau &amp;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hashank Pandit, CMU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311" name="Rectangle 3" descr=""/>
          <p:cNvPicPr/>
          <p:nvPr/>
        </p:nvPicPr>
        <p:blipFill>
          <a:blip r:embed="rId2"/>
          <a:srcRect l="5274" t="0" r="17580" b="0"/>
          <a:stretch/>
        </p:blipFill>
        <p:spPr>
          <a:xfrm>
            <a:off x="2035080" y="1712880"/>
            <a:ext cx="1089000" cy="1112760"/>
          </a:xfrm>
          <a:prstGeom prst="rect">
            <a:avLst/>
          </a:prstGeom>
          <a:ln w="0">
            <a:noFill/>
          </a:ln>
        </p:spPr>
      </p:pic>
      <p:sp>
        <p:nvSpPr>
          <p:cNvPr id="312" name=""/>
          <p:cNvSpPr/>
          <p:nvPr/>
        </p:nvSpPr>
        <p:spPr>
          <a:xfrm>
            <a:off x="0" y="5684760"/>
            <a:ext cx="9144000" cy="1099440"/>
          </a:xfrm>
          <a:prstGeom prst="rect">
            <a:avLst/>
          </a:prstGeom>
          <a:solidFill>
            <a:srgbClr val="ffff66"/>
          </a:solidFill>
          <a:ln w="284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NetProbe: A Fast and Scalable System for Fraud Detection in Online Auction Networks</a:t>
            </a:r>
            <a:r>
              <a:rPr b="0" lang="en-US" sz="2200" spc="-1" strike="noStrike">
                <a:solidFill>
                  <a:srgbClr val="000066"/>
                </a:solidFill>
                <a:latin typeface="Arial"/>
              </a:rPr>
              <a:t>, S. Pandit, D. H. Chau, S. Wang, and C. Faloutsos</a:t>
            </a:r>
            <a:r>
              <a:rPr b="0" i="1" lang="en-US" sz="2200" spc="-1" strike="noStrike">
                <a:solidFill>
                  <a:srgbClr val="000066"/>
                </a:solidFill>
                <a:latin typeface="Arial"/>
              </a:rPr>
              <a:t> (WWW'07),</a:t>
            </a:r>
            <a:r>
              <a:rPr b="0" lang="en-US" sz="2200" spc="-1" strike="noStrike">
                <a:solidFill>
                  <a:srgbClr val="000066"/>
                </a:solidFill>
                <a:latin typeface="Arial"/>
              </a:rPr>
              <a:t> pp. 201-210 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7848720" y="228600"/>
            <a:ext cx="971280" cy="12859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extra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C6B98-3CA3-46C6-BB7E-58757773AE64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E-bay Fraud detection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122800" y="3063960"/>
            <a:ext cx="203400" cy="189000"/>
          </a:xfrm>
          <a:prstGeom prst="ellipse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654960" y="3068640"/>
            <a:ext cx="203040" cy="189000"/>
          </a:xfrm>
          <a:prstGeom prst="ellipse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400880" y="3062160"/>
            <a:ext cx="203400" cy="189000"/>
          </a:xfrm>
          <a:prstGeom prst="ellipse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92840" y="3062160"/>
            <a:ext cx="203040" cy="189000"/>
          </a:xfrm>
          <a:prstGeom prst="ellipse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818240" y="4059360"/>
            <a:ext cx="203040" cy="188640"/>
          </a:xfrm>
          <a:prstGeom prst="ellipse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350040" y="4064040"/>
            <a:ext cx="203040" cy="189000"/>
          </a:xfrm>
          <a:prstGeom prst="ellipse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7095960" y="4057560"/>
            <a:ext cx="203400" cy="189000"/>
          </a:xfrm>
          <a:prstGeom prst="ellipse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587920" y="4057560"/>
            <a:ext cx="203400" cy="189000"/>
          </a:xfrm>
          <a:prstGeom prst="ellipse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7962840" y="4052880"/>
            <a:ext cx="203400" cy="189000"/>
          </a:xfrm>
          <a:prstGeom prst="ellipse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556160" y="5054760"/>
            <a:ext cx="203040" cy="188640"/>
          </a:xfrm>
          <a:prstGeom prst="ellipse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087960" y="5059440"/>
            <a:ext cx="203400" cy="189000"/>
          </a:xfrm>
          <a:prstGeom prst="ellipse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834240" y="5052960"/>
            <a:ext cx="203040" cy="189000"/>
          </a:xfrm>
          <a:prstGeom prst="ellipse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326200" y="5052960"/>
            <a:ext cx="203040" cy="189000"/>
          </a:xfrm>
          <a:prstGeom prst="ellipse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7701120" y="5048280"/>
            <a:ext cx="203040" cy="189000"/>
          </a:xfrm>
          <a:prstGeom prst="ellipse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8539200" y="5043600"/>
            <a:ext cx="203040" cy="188640"/>
          </a:xfrm>
          <a:prstGeom prst="ellipse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15" idx="4"/>
            <a:endCxn id="319" idx="0"/>
          </p:cNvCxnSpPr>
          <p:nvPr/>
        </p:nvCxnSpPr>
        <p:spPr>
          <a:xfrm flipH="1">
            <a:off x="4919400" y="3252960"/>
            <a:ext cx="305280" cy="80712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331" name=""/>
          <p:cNvCxnSpPr>
            <a:stCxn id="315" idx="4"/>
            <a:endCxn id="322" idx="1"/>
          </p:cNvCxnSpPr>
          <p:nvPr/>
        </p:nvCxnSpPr>
        <p:spPr>
          <a:xfrm>
            <a:off x="5224320" y="3252960"/>
            <a:ext cx="394560" cy="83232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332" name=""/>
          <p:cNvCxnSpPr>
            <a:stCxn id="315" idx="5"/>
            <a:endCxn id="320" idx="1"/>
          </p:cNvCxnSpPr>
          <p:nvPr/>
        </p:nvCxnSpPr>
        <p:spPr>
          <a:xfrm>
            <a:off x="5295960" y="3225600"/>
            <a:ext cx="1085040" cy="86580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333" name=""/>
          <p:cNvCxnSpPr>
            <a:stCxn id="315" idx="6"/>
            <a:endCxn id="321" idx="2"/>
          </p:cNvCxnSpPr>
          <p:nvPr/>
        </p:nvCxnSpPr>
        <p:spPr>
          <a:xfrm>
            <a:off x="5326200" y="3158640"/>
            <a:ext cx="1770480" cy="99468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334" name=""/>
          <p:cNvCxnSpPr>
            <a:stCxn id="315" idx="6"/>
            <a:endCxn id="323" idx="2"/>
          </p:cNvCxnSpPr>
          <p:nvPr/>
        </p:nvCxnSpPr>
        <p:spPr>
          <a:xfrm>
            <a:off x="5326200" y="3159000"/>
            <a:ext cx="2637360" cy="99000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335" name=""/>
          <p:cNvCxnSpPr>
            <a:stCxn id="318" idx="4"/>
            <a:endCxn id="322" idx="7"/>
          </p:cNvCxnSpPr>
          <p:nvPr/>
        </p:nvCxnSpPr>
        <p:spPr>
          <a:xfrm flipH="1">
            <a:off x="5760720" y="3250800"/>
            <a:ext cx="234000" cy="83412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336" name=""/>
          <p:cNvCxnSpPr>
            <a:stCxn id="318" idx="3"/>
            <a:endCxn id="319" idx="7"/>
          </p:cNvCxnSpPr>
          <p:nvPr/>
        </p:nvCxnSpPr>
        <p:spPr>
          <a:xfrm flipH="1">
            <a:off x="4990320" y="3223800"/>
            <a:ext cx="932760" cy="86292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337" name=""/>
          <p:cNvCxnSpPr>
            <a:stCxn id="316" idx="3"/>
            <a:endCxn id="319" idx="7"/>
          </p:cNvCxnSpPr>
          <p:nvPr/>
        </p:nvCxnSpPr>
        <p:spPr>
          <a:xfrm flipH="1">
            <a:off x="4990320" y="3230280"/>
            <a:ext cx="1694520" cy="85644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338" name=""/>
          <p:cNvCxnSpPr>
            <a:stCxn id="317" idx="3"/>
            <a:endCxn id="319" idx="7"/>
          </p:cNvCxnSpPr>
          <p:nvPr/>
        </p:nvCxnSpPr>
        <p:spPr>
          <a:xfrm flipH="1">
            <a:off x="4990680" y="3223800"/>
            <a:ext cx="2440800" cy="86292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339" name=""/>
          <p:cNvCxnSpPr>
            <a:stCxn id="317" idx="5"/>
            <a:endCxn id="323" idx="0"/>
          </p:cNvCxnSpPr>
          <p:nvPr/>
        </p:nvCxnSpPr>
        <p:spPr>
          <a:xfrm>
            <a:off x="7574040" y="3224160"/>
            <a:ext cx="491040" cy="82944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340" name=""/>
          <p:cNvCxnSpPr>
            <a:stCxn id="317" idx="4"/>
            <a:endCxn id="321" idx="7"/>
          </p:cNvCxnSpPr>
          <p:nvPr/>
        </p:nvCxnSpPr>
        <p:spPr>
          <a:xfrm flipH="1">
            <a:off x="7268760" y="3250800"/>
            <a:ext cx="234000" cy="83412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341" name=""/>
          <p:cNvCxnSpPr>
            <a:stCxn id="317" idx="3"/>
            <a:endCxn id="320" idx="0"/>
          </p:cNvCxnSpPr>
          <p:nvPr/>
        </p:nvCxnSpPr>
        <p:spPr>
          <a:xfrm flipH="1">
            <a:off x="6450840" y="3223800"/>
            <a:ext cx="980280" cy="84060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342" name=""/>
          <p:cNvCxnSpPr>
            <a:stCxn id="316" idx="4"/>
            <a:endCxn id="322" idx="7"/>
          </p:cNvCxnSpPr>
          <p:nvPr/>
        </p:nvCxnSpPr>
        <p:spPr>
          <a:xfrm flipH="1">
            <a:off x="5760360" y="3257280"/>
            <a:ext cx="996120" cy="82764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343" name=""/>
          <p:cNvCxnSpPr>
            <a:stCxn id="316" idx="4"/>
            <a:endCxn id="320" idx="0"/>
          </p:cNvCxnSpPr>
          <p:nvPr/>
        </p:nvCxnSpPr>
        <p:spPr>
          <a:xfrm flipH="1">
            <a:off x="6450840" y="3257640"/>
            <a:ext cx="305640" cy="80712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344" name=""/>
          <p:cNvCxnSpPr>
            <a:stCxn id="316" idx="4"/>
            <a:endCxn id="321" idx="0"/>
          </p:cNvCxnSpPr>
          <p:nvPr/>
        </p:nvCxnSpPr>
        <p:spPr>
          <a:xfrm>
            <a:off x="6756480" y="3257640"/>
            <a:ext cx="442080" cy="80064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345" name=""/>
          <p:cNvCxnSpPr>
            <a:stCxn id="316" idx="5"/>
            <a:endCxn id="323" idx="1"/>
          </p:cNvCxnSpPr>
          <p:nvPr/>
        </p:nvCxnSpPr>
        <p:spPr>
          <a:xfrm>
            <a:off x="6827400" y="3230280"/>
            <a:ext cx="1166040" cy="84996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346" name=""/>
          <p:cNvCxnSpPr>
            <a:stCxn id="318" idx="5"/>
            <a:endCxn id="320" idx="0"/>
          </p:cNvCxnSpPr>
          <p:nvPr/>
        </p:nvCxnSpPr>
        <p:spPr>
          <a:xfrm>
            <a:off x="6065640" y="3223800"/>
            <a:ext cx="386280" cy="84060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347" name=""/>
          <p:cNvCxnSpPr>
            <a:stCxn id="318" idx="6"/>
            <a:endCxn id="321" idx="1"/>
          </p:cNvCxnSpPr>
          <p:nvPr/>
        </p:nvCxnSpPr>
        <p:spPr>
          <a:xfrm>
            <a:off x="6095880" y="3157200"/>
            <a:ext cx="1031040" cy="92772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348" name=""/>
          <p:cNvCxnSpPr>
            <a:stCxn id="318" idx="6"/>
            <a:endCxn id="323" idx="1"/>
          </p:cNvCxnSpPr>
          <p:nvPr/>
        </p:nvCxnSpPr>
        <p:spPr>
          <a:xfrm>
            <a:off x="6095880" y="3157560"/>
            <a:ext cx="1897920" cy="92304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349" name=""/>
          <p:cNvCxnSpPr>
            <a:stCxn id="319" idx="4"/>
            <a:endCxn id="324" idx="0"/>
          </p:cNvCxnSpPr>
          <p:nvPr/>
        </p:nvCxnSpPr>
        <p:spPr>
          <a:xfrm flipH="1">
            <a:off x="4657320" y="4247640"/>
            <a:ext cx="262800" cy="80748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350" name=""/>
          <p:cNvCxnSpPr>
            <a:stCxn id="322" idx="4"/>
            <a:endCxn id="325" idx="0"/>
          </p:cNvCxnSpPr>
          <p:nvPr/>
        </p:nvCxnSpPr>
        <p:spPr>
          <a:xfrm>
            <a:off x="5689440" y="4246560"/>
            <a:ext cx="501120" cy="81360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351" name=""/>
          <p:cNvCxnSpPr>
            <a:stCxn id="321" idx="4"/>
            <a:endCxn id="326" idx="0"/>
          </p:cNvCxnSpPr>
          <p:nvPr/>
        </p:nvCxnSpPr>
        <p:spPr>
          <a:xfrm flipH="1">
            <a:off x="6935400" y="4246560"/>
            <a:ext cx="262800" cy="80712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352" name=""/>
          <p:cNvCxnSpPr>
            <a:stCxn id="320" idx="4"/>
            <a:endCxn id="328" idx="2"/>
          </p:cNvCxnSpPr>
          <p:nvPr/>
        </p:nvCxnSpPr>
        <p:spPr>
          <a:xfrm>
            <a:off x="6451200" y="4253040"/>
            <a:ext cx="1250280" cy="89136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353" name=""/>
          <p:cNvCxnSpPr>
            <a:stCxn id="323" idx="4"/>
            <a:endCxn id="328" idx="7"/>
          </p:cNvCxnSpPr>
          <p:nvPr/>
        </p:nvCxnSpPr>
        <p:spPr>
          <a:xfrm flipH="1">
            <a:off x="7873200" y="4241520"/>
            <a:ext cx="191160" cy="83412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354" name=""/>
          <p:cNvCxnSpPr>
            <a:stCxn id="324" idx="4"/>
            <a:endCxn id="327" idx="4"/>
          </p:cNvCxnSpPr>
          <p:nvPr/>
        </p:nvCxnSpPr>
        <p:spPr>
          <a:xfrm flipH="1" flipV="1" rot="5400000">
            <a:off x="5040720" y="4857120"/>
            <a:ext cx="2160" cy="770760"/>
          </a:xfrm>
          <a:prstGeom prst="curvedConnector5">
            <a:avLst>
              <a:gd name="adj1" fmla="val -14400000"/>
              <a:gd name="adj2" fmla="val 50000"/>
              <a:gd name="adj3" fmla="val -14400000"/>
            </a:avLst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355" name=""/>
          <p:cNvCxnSpPr>
            <a:stCxn id="325" idx="5"/>
            <a:endCxn id="329" idx="4"/>
          </p:cNvCxnSpPr>
          <p:nvPr/>
        </p:nvCxnSpPr>
        <p:spPr>
          <a:xfrm flipH="1" rot="16200000">
            <a:off x="7445520" y="4037040"/>
            <a:ext cx="11520" cy="2379960"/>
          </a:xfrm>
          <a:prstGeom prst="curvedConnector5">
            <a:avLst>
              <a:gd name="adj1" fmla="val 2300000"/>
              <a:gd name="adj2" fmla="val 50000"/>
              <a:gd name="adj3" fmla="val 2300000"/>
            </a:avLst>
          </a:prstGeom>
          <a:ln w="9360">
            <a:solidFill>
              <a:srgbClr val="000066"/>
            </a:solidFill>
            <a:miter/>
          </a:ln>
        </p:spPr>
      </p:cxnSp>
      <p:sp>
        <p:nvSpPr>
          <p:cNvPr id="356" name=""/>
          <p:cNvSpPr/>
          <p:nvPr/>
        </p:nvSpPr>
        <p:spPr>
          <a:xfrm>
            <a:off x="646920" y="1827360"/>
            <a:ext cx="443412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66"/>
                </a:solidFill>
                <a:latin typeface="Times New Roman"/>
              </a:rPr>
              <a:t>lines: positive feedbacks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66"/>
                </a:solidFill>
                <a:latin typeface="Times New Roman"/>
              </a:rPr>
              <a:t>would you buy from  him/her?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992840" y="2903400"/>
            <a:ext cx="507960" cy="525600"/>
          </a:xfrm>
          <a:prstGeom prst="ellipse">
            <a:avLst/>
          </a:prstGeom>
          <a:noFill/>
          <a:ln w="284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4021200" y="2684520"/>
            <a:ext cx="957240" cy="304920"/>
          </a:xfrm>
          <a:prstGeom prst="line">
            <a:avLst/>
          </a:prstGeom>
          <a:ln w="2844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7848720" y="228600"/>
            <a:ext cx="971280" cy="12859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extra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D580A-4E75-4D6E-BBF2-5D7925436542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E-bay Fraud detection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122800" y="3063960"/>
            <a:ext cx="203400" cy="189000"/>
          </a:xfrm>
          <a:prstGeom prst="ellipse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654960" y="3068640"/>
            <a:ext cx="203040" cy="189000"/>
          </a:xfrm>
          <a:prstGeom prst="ellipse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7400880" y="3062160"/>
            <a:ext cx="203400" cy="189000"/>
          </a:xfrm>
          <a:prstGeom prst="ellipse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892840" y="3062160"/>
            <a:ext cx="203040" cy="189000"/>
          </a:xfrm>
          <a:prstGeom prst="ellipse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818240" y="4059360"/>
            <a:ext cx="203040" cy="188640"/>
          </a:xfrm>
          <a:prstGeom prst="ellipse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6350040" y="4064040"/>
            <a:ext cx="203040" cy="189000"/>
          </a:xfrm>
          <a:prstGeom prst="ellipse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7095960" y="4057560"/>
            <a:ext cx="203400" cy="189000"/>
          </a:xfrm>
          <a:prstGeom prst="ellipse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587920" y="4057560"/>
            <a:ext cx="203400" cy="189000"/>
          </a:xfrm>
          <a:prstGeom prst="ellipse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7962840" y="4052880"/>
            <a:ext cx="203400" cy="189000"/>
          </a:xfrm>
          <a:prstGeom prst="ellipse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4556160" y="5054760"/>
            <a:ext cx="203040" cy="188640"/>
          </a:xfrm>
          <a:prstGeom prst="ellipse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087960" y="5059440"/>
            <a:ext cx="203400" cy="189000"/>
          </a:xfrm>
          <a:prstGeom prst="ellipse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6834240" y="5052960"/>
            <a:ext cx="203040" cy="189000"/>
          </a:xfrm>
          <a:prstGeom prst="ellipse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326200" y="5052960"/>
            <a:ext cx="203040" cy="189000"/>
          </a:xfrm>
          <a:prstGeom prst="ellipse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7701120" y="5048280"/>
            <a:ext cx="203040" cy="189000"/>
          </a:xfrm>
          <a:prstGeom prst="ellipse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8539200" y="5043600"/>
            <a:ext cx="203040" cy="188640"/>
          </a:xfrm>
          <a:prstGeom prst="ellipse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376" name=""/>
          <p:cNvCxnSpPr>
            <a:stCxn id="361" idx="4"/>
            <a:endCxn id="365" idx="0"/>
          </p:cNvCxnSpPr>
          <p:nvPr/>
        </p:nvCxnSpPr>
        <p:spPr>
          <a:xfrm flipH="1">
            <a:off x="4919400" y="3252960"/>
            <a:ext cx="305280" cy="80712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377" name=""/>
          <p:cNvCxnSpPr>
            <a:stCxn id="361" idx="4"/>
            <a:endCxn id="368" idx="1"/>
          </p:cNvCxnSpPr>
          <p:nvPr/>
        </p:nvCxnSpPr>
        <p:spPr>
          <a:xfrm>
            <a:off x="5224320" y="3252960"/>
            <a:ext cx="394560" cy="83232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378" name=""/>
          <p:cNvCxnSpPr>
            <a:stCxn id="361" idx="5"/>
            <a:endCxn id="366" idx="1"/>
          </p:cNvCxnSpPr>
          <p:nvPr/>
        </p:nvCxnSpPr>
        <p:spPr>
          <a:xfrm>
            <a:off x="5295960" y="3225600"/>
            <a:ext cx="1085040" cy="86580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379" name=""/>
          <p:cNvCxnSpPr>
            <a:stCxn id="361" idx="6"/>
            <a:endCxn id="367" idx="2"/>
          </p:cNvCxnSpPr>
          <p:nvPr/>
        </p:nvCxnSpPr>
        <p:spPr>
          <a:xfrm>
            <a:off x="5326200" y="3158640"/>
            <a:ext cx="1770480" cy="99468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380" name=""/>
          <p:cNvCxnSpPr>
            <a:stCxn id="361" idx="6"/>
            <a:endCxn id="369" idx="2"/>
          </p:cNvCxnSpPr>
          <p:nvPr/>
        </p:nvCxnSpPr>
        <p:spPr>
          <a:xfrm>
            <a:off x="5326200" y="3159000"/>
            <a:ext cx="2637360" cy="99000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381" name=""/>
          <p:cNvCxnSpPr>
            <a:stCxn id="364" idx="4"/>
            <a:endCxn id="368" idx="7"/>
          </p:cNvCxnSpPr>
          <p:nvPr/>
        </p:nvCxnSpPr>
        <p:spPr>
          <a:xfrm flipH="1">
            <a:off x="5760720" y="3250800"/>
            <a:ext cx="234000" cy="83412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382" name=""/>
          <p:cNvCxnSpPr>
            <a:stCxn id="364" idx="3"/>
            <a:endCxn id="365" idx="7"/>
          </p:cNvCxnSpPr>
          <p:nvPr/>
        </p:nvCxnSpPr>
        <p:spPr>
          <a:xfrm flipH="1">
            <a:off x="4990320" y="3223800"/>
            <a:ext cx="932760" cy="86292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383" name=""/>
          <p:cNvCxnSpPr>
            <a:stCxn id="362" idx="3"/>
            <a:endCxn id="365" idx="7"/>
          </p:cNvCxnSpPr>
          <p:nvPr/>
        </p:nvCxnSpPr>
        <p:spPr>
          <a:xfrm flipH="1">
            <a:off x="4990320" y="3230280"/>
            <a:ext cx="1694520" cy="85644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384" name=""/>
          <p:cNvCxnSpPr>
            <a:stCxn id="363" idx="3"/>
            <a:endCxn id="365" idx="7"/>
          </p:cNvCxnSpPr>
          <p:nvPr/>
        </p:nvCxnSpPr>
        <p:spPr>
          <a:xfrm flipH="1">
            <a:off x="4990680" y="3223800"/>
            <a:ext cx="2440800" cy="86292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385" name=""/>
          <p:cNvCxnSpPr>
            <a:stCxn id="363" idx="5"/>
            <a:endCxn id="369" idx="0"/>
          </p:cNvCxnSpPr>
          <p:nvPr/>
        </p:nvCxnSpPr>
        <p:spPr>
          <a:xfrm>
            <a:off x="7574040" y="3224160"/>
            <a:ext cx="491040" cy="82944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386" name=""/>
          <p:cNvCxnSpPr>
            <a:stCxn id="363" idx="4"/>
            <a:endCxn id="367" idx="7"/>
          </p:cNvCxnSpPr>
          <p:nvPr/>
        </p:nvCxnSpPr>
        <p:spPr>
          <a:xfrm flipH="1">
            <a:off x="7268760" y="3250800"/>
            <a:ext cx="234000" cy="83412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387" name=""/>
          <p:cNvCxnSpPr>
            <a:stCxn id="363" idx="3"/>
            <a:endCxn id="366" idx="0"/>
          </p:cNvCxnSpPr>
          <p:nvPr/>
        </p:nvCxnSpPr>
        <p:spPr>
          <a:xfrm flipH="1">
            <a:off x="6450840" y="3223800"/>
            <a:ext cx="980280" cy="84060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388" name=""/>
          <p:cNvCxnSpPr>
            <a:stCxn id="362" idx="4"/>
            <a:endCxn id="368" idx="7"/>
          </p:cNvCxnSpPr>
          <p:nvPr/>
        </p:nvCxnSpPr>
        <p:spPr>
          <a:xfrm flipH="1">
            <a:off x="5760360" y="3257280"/>
            <a:ext cx="996120" cy="82764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389" name=""/>
          <p:cNvCxnSpPr>
            <a:stCxn id="362" idx="4"/>
            <a:endCxn id="366" idx="0"/>
          </p:cNvCxnSpPr>
          <p:nvPr/>
        </p:nvCxnSpPr>
        <p:spPr>
          <a:xfrm flipH="1">
            <a:off x="6450840" y="3257640"/>
            <a:ext cx="305640" cy="80712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390" name=""/>
          <p:cNvCxnSpPr>
            <a:stCxn id="362" idx="4"/>
            <a:endCxn id="367" idx="0"/>
          </p:cNvCxnSpPr>
          <p:nvPr/>
        </p:nvCxnSpPr>
        <p:spPr>
          <a:xfrm>
            <a:off x="6756480" y="3257640"/>
            <a:ext cx="442080" cy="80064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391" name=""/>
          <p:cNvCxnSpPr>
            <a:stCxn id="362" idx="5"/>
            <a:endCxn id="369" idx="1"/>
          </p:cNvCxnSpPr>
          <p:nvPr/>
        </p:nvCxnSpPr>
        <p:spPr>
          <a:xfrm>
            <a:off x="6827400" y="3230280"/>
            <a:ext cx="1166040" cy="84996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392" name=""/>
          <p:cNvCxnSpPr>
            <a:stCxn id="364" idx="5"/>
            <a:endCxn id="366" idx="0"/>
          </p:cNvCxnSpPr>
          <p:nvPr/>
        </p:nvCxnSpPr>
        <p:spPr>
          <a:xfrm>
            <a:off x="6065640" y="3223800"/>
            <a:ext cx="386280" cy="84060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393" name=""/>
          <p:cNvCxnSpPr>
            <a:stCxn id="364" idx="6"/>
            <a:endCxn id="367" idx="1"/>
          </p:cNvCxnSpPr>
          <p:nvPr/>
        </p:nvCxnSpPr>
        <p:spPr>
          <a:xfrm>
            <a:off x="6095880" y="3157200"/>
            <a:ext cx="1031040" cy="92772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394" name=""/>
          <p:cNvCxnSpPr>
            <a:stCxn id="364" idx="6"/>
            <a:endCxn id="369" idx="1"/>
          </p:cNvCxnSpPr>
          <p:nvPr/>
        </p:nvCxnSpPr>
        <p:spPr>
          <a:xfrm>
            <a:off x="6095880" y="3157560"/>
            <a:ext cx="1897920" cy="92304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395" name=""/>
          <p:cNvCxnSpPr>
            <a:stCxn id="365" idx="4"/>
            <a:endCxn id="370" idx="0"/>
          </p:cNvCxnSpPr>
          <p:nvPr/>
        </p:nvCxnSpPr>
        <p:spPr>
          <a:xfrm flipH="1">
            <a:off x="4657320" y="4247640"/>
            <a:ext cx="262800" cy="80748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396" name=""/>
          <p:cNvCxnSpPr>
            <a:stCxn id="368" idx="4"/>
            <a:endCxn id="371" idx="0"/>
          </p:cNvCxnSpPr>
          <p:nvPr/>
        </p:nvCxnSpPr>
        <p:spPr>
          <a:xfrm>
            <a:off x="5689440" y="4246560"/>
            <a:ext cx="501120" cy="81360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397" name=""/>
          <p:cNvCxnSpPr>
            <a:stCxn id="367" idx="4"/>
            <a:endCxn id="372" idx="0"/>
          </p:cNvCxnSpPr>
          <p:nvPr/>
        </p:nvCxnSpPr>
        <p:spPr>
          <a:xfrm flipH="1">
            <a:off x="6935400" y="4246560"/>
            <a:ext cx="262800" cy="80712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398" name=""/>
          <p:cNvCxnSpPr>
            <a:stCxn id="366" idx="4"/>
            <a:endCxn id="374" idx="2"/>
          </p:cNvCxnSpPr>
          <p:nvPr/>
        </p:nvCxnSpPr>
        <p:spPr>
          <a:xfrm>
            <a:off x="6451200" y="4253040"/>
            <a:ext cx="1250280" cy="89136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399" name=""/>
          <p:cNvCxnSpPr>
            <a:stCxn id="369" idx="4"/>
            <a:endCxn id="374" idx="7"/>
          </p:cNvCxnSpPr>
          <p:nvPr/>
        </p:nvCxnSpPr>
        <p:spPr>
          <a:xfrm flipH="1">
            <a:off x="7873200" y="4241520"/>
            <a:ext cx="191160" cy="83412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400" name=""/>
          <p:cNvCxnSpPr>
            <a:stCxn id="370" idx="4"/>
            <a:endCxn id="373" idx="4"/>
          </p:cNvCxnSpPr>
          <p:nvPr/>
        </p:nvCxnSpPr>
        <p:spPr>
          <a:xfrm flipH="1" flipV="1" rot="5400000">
            <a:off x="5040720" y="4857120"/>
            <a:ext cx="2160" cy="770760"/>
          </a:xfrm>
          <a:prstGeom prst="curvedConnector5">
            <a:avLst>
              <a:gd name="adj1" fmla="val -14400000"/>
              <a:gd name="adj2" fmla="val 50000"/>
              <a:gd name="adj3" fmla="val -14400000"/>
            </a:avLst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401" name=""/>
          <p:cNvCxnSpPr>
            <a:stCxn id="371" idx="5"/>
            <a:endCxn id="375" idx="4"/>
          </p:cNvCxnSpPr>
          <p:nvPr/>
        </p:nvCxnSpPr>
        <p:spPr>
          <a:xfrm flipH="1" rot="16200000">
            <a:off x="7445520" y="4037040"/>
            <a:ext cx="11520" cy="2379960"/>
          </a:xfrm>
          <a:prstGeom prst="curvedConnector5">
            <a:avLst>
              <a:gd name="adj1" fmla="val 2300000"/>
              <a:gd name="adj2" fmla="val 50000"/>
              <a:gd name="adj3" fmla="val 2300000"/>
            </a:avLst>
          </a:prstGeom>
          <a:ln w="9360">
            <a:solidFill>
              <a:srgbClr val="000066"/>
            </a:solidFill>
            <a:miter/>
          </a:ln>
        </p:spPr>
      </p:cxnSp>
      <p:sp>
        <p:nvSpPr>
          <p:cNvPr id="402" name=""/>
          <p:cNvSpPr/>
          <p:nvPr/>
        </p:nvSpPr>
        <p:spPr>
          <a:xfrm>
            <a:off x="646920" y="1827360"/>
            <a:ext cx="443412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66"/>
                </a:solidFill>
                <a:latin typeface="Times New Roman"/>
              </a:rPr>
              <a:t>lines: positive feedbacks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66"/>
                </a:solidFill>
                <a:latin typeface="Times New Roman"/>
              </a:rPr>
              <a:t>would you buy from  him/her?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66"/>
                </a:solidFill>
                <a:latin typeface="Times New Roman"/>
              </a:rPr>
              <a:t>or him/her?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16480" y="4856040"/>
            <a:ext cx="507960" cy="525600"/>
          </a:xfrm>
          <a:prstGeom prst="ellipse">
            <a:avLst/>
          </a:prstGeom>
          <a:noFill/>
          <a:ln w="284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475000" y="3638520"/>
            <a:ext cx="1871640" cy="1278000"/>
          </a:xfrm>
          <a:prstGeom prst="line">
            <a:avLst/>
          </a:prstGeom>
          <a:ln w="2844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7848720" y="228600"/>
            <a:ext cx="971280" cy="12859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extra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B499D-4685-4146-91B8-074C736AFCD8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E-bay Fraud detection - NetProbe</a:t>
            </a:r>
            <a:endParaRPr b="1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pic>
        <p:nvPicPr>
          <p:cNvPr id="407" name="Rectangle 3" descr=""/>
          <p:cNvPicPr/>
          <p:nvPr/>
        </p:nvPicPr>
        <p:blipFill>
          <a:blip r:embed="rId1"/>
          <a:stretch/>
        </p:blipFill>
        <p:spPr>
          <a:xfrm>
            <a:off x="735120" y="1922400"/>
            <a:ext cx="3057480" cy="411480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/>
          <p:nvPr/>
        </p:nvSpPr>
        <p:spPr>
          <a:xfrm>
            <a:off x="5122800" y="3063960"/>
            <a:ext cx="203400" cy="189000"/>
          </a:xfrm>
          <a:prstGeom prst="ellipse">
            <a:avLst/>
          </a:prstGeom>
          <a:solidFill>
            <a:srgbClr val="a50021"/>
          </a:soli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654960" y="3068640"/>
            <a:ext cx="203040" cy="189000"/>
          </a:xfrm>
          <a:prstGeom prst="ellipse">
            <a:avLst/>
          </a:prstGeom>
          <a:solidFill>
            <a:srgbClr val="a50021"/>
          </a:soli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7400880" y="3062160"/>
            <a:ext cx="203400" cy="189000"/>
          </a:xfrm>
          <a:prstGeom prst="ellipse">
            <a:avLst/>
          </a:prstGeom>
          <a:solidFill>
            <a:srgbClr val="a50021"/>
          </a:soli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92840" y="3062160"/>
            <a:ext cx="203040" cy="189000"/>
          </a:xfrm>
          <a:prstGeom prst="ellipse">
            <a:avLst/>
          </a:prstGeom>
          <a:solidFill>
            <a:srgbClr val="a50021"/>
          </a:soli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4818240" y="4059360"/>
            <a:ext cx="203040" cy="188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350040" y="4064040"/>
            <a:ext cx="203040" cy="1890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7095960" y="4057560"/>
            <a:ext cx="203400" cy="1890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587920" y="4057560"/>
            <a:ext cx="203400" cy="1890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7962840" y="4052880"/>
            <a:ext cx="203400" cy="1890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556160" y="5054760"/>
            <a:ext cx="203040" cy="188640"/>
          </a:xfrm>
          <a:prstGeom prst="ellipse">
            <a:avLst/>
          </a:prstGeom>
          <a:solidFill>
            <a:srgbClr val="006600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6087960" y="5059440"/>
            <a:ext cx="203400" cy="189000"/>
          </a:xfrm>
          <a:prstGeom prst="ellipse">
            <a:avLst/>
          </a:prstGeom>
          <a:solidFill>
            <a:srgbClr val="006600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834240" y="5052960"/>
            <a:ext cx="203040" cy="189000"/>
          </a:xfrm>
          <a:prstGeom prst="ellipse">
            <a:avLst/>
          </a:prstGeom>
          <a:solidFill>
            <a:srgbClr val="006600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5326200" y="5052960"/>
            <a:ext cx="203040" cy="189000"/>
          </a:xfrm>
          <a:prstGeom prst="ellipse">
            <a:avLst/>
          </a:prstGeom>
          <a:solidFill>
            <a:srgbClr val="006600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7701120" y="5048280"/>
            <a:ext cx="203040" cy="189000"/>
          </a:xfrm>
          <a:prstGeom prst="ellipse">
            <a:avLst/>
          </a:prstGeom>
          <a:solidFill>
            <a:srgbClr val="006600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8539200" y="5043600"/>
            <a:ext cx="203040" cy="188640"/>
          </a:xfrm>
          <a:prstGeom prst="ellipse">
            <a:avLst/>
          </a:prstGeom>
          <a:solidFill>
            <a:srgbClr val="006600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08" idx="4"/>
            <a:endCxn id="412" idx="0"/>
          </p:cNvCxnSpPr>
          <p:nvPr/>
        </p:nvCxnSpPr>
        <p:spPr>
          <a:xfrm flipH="1">
            <a:off x="4919400" y="3252960"/>
            <a:ext cx="305280" cy="80712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424" name=""/>
          <p:cNvCxnSpPr>
            <a:stCxn id="408" idx="4"/>
            <a:endCxn id="415" idx="1"/>
          </p:cNvCxnSpPr>
          <p:nvPr/>
        </p:nvCxnSpPr>
        <p:spPr>
          <a:xfrm>
            <a:off x="5224320" y="3252960"/>
            <a:ext cx="394560" cy="83232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425" name=""/>
          <p:cNvCxnSpPr>
            <a:stCxn id="408" idx="5"/>
            <a:endCxn id="413" idx="1"/>
          </p:cNvCxnSpPr>
          <p:nvPr/>
        </p:nvCxnSpPr>
        <p:spPr>
          <a:xfrm>
            <a:off x="5295960" y="3225600"/>
            <a:ext cx="1085040" cy="86580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426" name=""/>
          <p:cNvCxnSpPr>
            <a:stCxn id="408" idx="6"/>
            <a:endCxn id="414" idx="2"/>
          </p:cNvCxnSpPr>
          <p:nvPr/>
        </p:nvCxnSpPr>
        <p:spPr>
          <a:xfrm>
            <a:off x="5326200" y="3158640"/>
            <a:ext cx="1770480" cy="99468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427" name=""/>
          <p:cNvCxnSpPr>
            <a:stCxn id="408" idx="6"/>
            <a:endCxn id="416" idx="2"/>
          </p:cNvCxnSpPr>
          <p:nvPr/>
        </p:nvCxnSpPr>
        <p:spPr>
          <a:xfrm>
            <a:off x="5326200" y="3159000"/>
            <a:ext cx="2637360" cy="99000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428" name=""/>
          <p:cNvCxnSpPr>
            <a:stCxn id="411" idx="4"/>
            <a:endCxn id="415" idx="7"/>
          </p:cNvCxnSpPr>
          <p:nvPr/>
        </p:nvCxnSpPr>
        <p:spPr>
          <a:xfrm flipH="1">
            <a:off x="5760720" y="3250800"/>
            <a:ext cx="234000" cy="83412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429" name=""/>
          <p:cNvCxnSpPr>
            <a:stCxn id="411" idx="3"/>
            <a:endCxn id="412" idx="7"/>
          </p:cNvCxnSpPr>
          <p:nvPr/>
        </p:nvCxnSpPr>
        <p:spPr>
          <a:xfrm flipH="1">
            <a:off x="4990320" y="3223800"/>
            <a:ext cx="932760" cy="86292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430" name=""/>
          <p:cNvCxnSpPr>
            <a:stCxn id="409" idx="3"/>
            <a:endCxn id="412" idx="7"/>
          </p:cNvCxnSpPr>
          <p:nvPr/>
        </p:nvCxnSpPr>
        <p:spPr>
          <a:xfrm flipH="1">
            <a:off x="4990320" y="3230280"/>
            <a:ext cx="1694520" cy="85644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431" name=""/>
          <p:cNvCxnSpPr>
            <a:stCxn id="410" idx="3"/>
            <a:endCxn id="412" idx="7"/>
          </p:cNvCxnSpPr>
          <p:nvPr/>
        </p:nvCxnSpPr>
        <p:spPr>
          <a:xfrm flipH="1">
            <a:off x="4990680" y="3223800"/>
            <a:ext cx="2440800" cy="86292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432" name=""/>
          <p:cNvCxnSpPr>
            <a:stCxn id="410" idx="5"/>
            <a:endCxn id="416" idx="0"/>
          </p:cNvCxnSpPr>
          <p:nvPr/>
        </p:nvCxnSpPr>
        <p:spPr>
          <a:xfrm>
            <a:off x="7574040" y="3224160"/>
            <a:ext cx="491040" cy="82944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433" name=""/>
          <p:cNvCxnSpPr>
            <a:stCxn id="410" idx="4"/>
            <a:endCxn id="414" idx="7"/>
          </p:cNvCxnSpPr>
          <p:nvPr/>
        </p:nvCxnSpPr>
        <p:spPr>
          <a:xfrm flipH="1">
            <a:off x="7268760" y="3250800"/>
            <a:ext cx="234000" cy="83412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434" name=""/>
          <p:cNvCxnSpPr>
            <a:stCxn id="410" idx="3"/>
            <a:endCxn id="413" idx="0"/>
          </p:cNvCxnSpPr>
          <p:nvPr/>
        </p:nvCxnSpPr>
        <p:spPr>
          <a:xfrm flipH="1">
            <a:off x="6450840" y="3223800"/>
            <a:ext cx="980280" cy="84060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435" name=""/>
          <p:cNvCxnSpPr>
            <a:stCxn id="409" idx="4"/>
            <a:endCxn id="415" idx="7"/>
          </p:cNvCxnSpPr>
          <p:nvPr/>
        </p:nvCxnSpPr>
        <p:spPr>
          <a:xfrm flipH="1">
            <a:off x="5760360" y="3257280"/>
            <a:ext cx="996120" cy="82764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436" name=""/>
          <p:cNvCxnSpPr>
            <a:stCxn id="409" idx="4"/>
            <a:endCxn id="413" idx="0"/>
          </p:cNvCxnSpPr>
          <p:nvPr/>
        </p:nvCxnSpPr>
        <p:spPr>
          <a:xfrm flipH="1">
            <a:off x="6450840" y="3257640"/>
            <a:ext cx="305640" cy="80712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437" name=""/>
          <p:cNvCxnSpPr>
            <a:stCxn id="409" idx="4"/>
            <a:endCxn id="414" idx="0"/>
          </p:cNvCxnSpPr>
          <p:nvPr/>
        </p:nvCxnSpPr>
        <p:spPr>
          <a:xfrm>
            <a:off x="6756480" y="3257640"/>
            <a:ext cx="442080" cy="80064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438" name=""/>
          <p:cNvCxnSpPr>
            <a:stCxn id="409" idx="5"/>
            <a:endCxn id="416" idx="1"/>
          </p:cNvCxnSpPr>
          <p:nvPr/>
        </p:nvCxnSpPr>
        <p:spPr>
          <a:xfrm>
            <a:off x="6827400" y="3230280"/>
            <a:ext cx="1166040" cy="84996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439" name=""/>
          <p:cNvCxnSpPr>
            <a:stCxn id="411" idx="5"/>
            <a:endCxn id="413" idx="0"/>
          </p:cNvCxnSpPr>
          <p:nvPr/>
        </p:nvCxnSpPr>
        <p:spPr>
          <a:xfrm>
            <a:off x="6065640" y="3223800"/>
            <a:ext cx="386280" cy="84060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440" name=""/>
          <p:cNvCxnSpPr>
            <a:stCxn id="411" idx="6"/>
            <a:endCxn id="414" idx="1"/>
          </p:cNvCxnSpPr>
          <p:nvPr/>
        </p:nvCxnSpPr>
        <p:spPr>
          <a:xfrm>
            <a:off x="6095880" y="3157200"/>
            <a:ext cx="1031040" cy="92772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441" name=""/>
          <p:cNvCxnSpPr>
            <a:stCxn id="411" idx="6"/>
            <a:endCxn id="416" idx="1"/>
          </p:cNvCxnSpPr>
          <p:nvPr/>
        </p:nvCxnSpPr>
        <p:spPr>
          <a:xfrm>
            <a:off x="6095880" y="3157560"/>
            <a:ext cx="1897920" cy="92304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442" name=""/>
          <p:cNvCxnSpPr>
            <a:stCxn id="412" idx="4"/>
            <a:endCxn id="417" idx="0"/>
          </p:cNvCxnSpPr>
          <p:nvPr/>
        </p:nvCxnSpPr>
        <p:spPr>
          <a:xfrm flipH="1">
            <a:off x="4657320" y="4247640"/>
            <a:ext cx="262800" cy="80748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443" name=""/>
          <p:cNvCxnSpPr>
            <a:stCxn id="415" idx="4"/>
            <a:endCxn id="418" idx="0"/>
          </p:cNvCxnSpPr>
          <p:nvPr/>
        </p:nvCxnSpPr>
        <p:spPr>
          <a:xfrm>
            <a:off x="5689440" y="4246560"/>
            <a:ext cx="501120" cy="81360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444" name=""/>
          <p:cNvCxnSpPr>
            <a:stCxn id="414" idx="4"/>
            <a:endCxn id="419" idx="0"/>
          </p:cNvCxnSpPr>
          <p:nvPr/>
        </p:nvCxnSpPr>
        <p:spPr>
          <a:xfrm flipH="1">
            <a:off x="6935400" y="4246560"/>
            <a:ext cx="262800" cy="80712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445" name=""/>
          <p:cNvCxnSpPr>
            <a:stCxn id="413" idx="4"/>
            <a:endCxn id="421" idx="2"/>
          </p:cNvCxnSpPr>
          <p:nvPr/>
        </p:nvCxnSpPr>
        <p:spPr>
          <a:xfrm>
            <a:off x="6451200" y="4253040"/>
            <a:ext cx="1250280" cy="89136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446" name=""/>
          <p:cNvCxnSpPr>
            <a:stCxn id="416" idx="4"/>
            <a:endCxn id="421" idx="7"/>
          </p:cNvCxnSpPr>
          <p:nvPr/>
        </p:nvCxnSpPr>
        <p:spPr>
          <a:xfrm flipH="1">
            <a:off x="7873200" y="4241520"/>
            <a:ext cx="191160" cy="83412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447" name=""/>
          <p:cNvCxnSpPr>
            <a:stCxn id="417" idx="4"/>
            <a:endCxn id="420" idx="4"/>
          </p:cNvCxnSpPr>
          <p:nvPr/>
        </p:nvCxnSpPr>
        <p:spPr>
          <a:xfrm flipH="1" flipV="1" rot="5400000">
            <a:off x="5040720" y="4857120"/>
            <a:ext cx="2160" cy="770760"/>
          </a:xfrm>
          <a:prstGeom prst="curvedConnector5">
            <a:avLst>
              <a:gd name="adj1" fmla="val -14400000"/>
              <a:gd name="adj2" fmla="val 50000"/>
              <a:gd name="adj3" fmla="val -14400000"/>
            </a:avLst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448" name=""/>
          <p:cNvCxnSpPr>
            <a:stCxn id="418" idx="5"/>
            <a:endCxn id="422" idx="4"/>
          </p:cNvCxnSpPr>
          <p:nvPr/>
        </p:nvCxnSpPr>
        <p:spPr>
          <a:xfrm flipH="1" rot="16200000">
            <a:off x="7445520" y="4037040"/>
            <a:ext cx="11520" cy="2379960"/>
          </a:xfrm>
          <a:prstGeom prst="curvedConnector5">
            <a:avLst>
              <a:gd name="adj1" fmla="val 2300000"/>
              <a:gd name="adj2" fmla="val 50000"/>
              <a:gd name="adj3" fmla="val 2300000"/>
            </a:avLst>
          </a:prstGeom>
          <a:ln w="9360">
            <a:solidFill>
              <a:srgbClr val="000066"/>
            </a:solidFill>
            <a:miter/>
          </a:ln>
        </p:spPr>
      </p:cxnSp>
      <p:sp>
        <p:nvSpPr>
          <p:cNvPr id="449" name=""/>
          <p:cNvSpPr txBox="1"/>
          <p:nvPr/>
        </p:nvSpPr>
        <p:spPr>
          <a:xfrm>
            <a:off x="7848720" y="228600"/>
            <a:ext cx="971280" cy="12859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extra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50" name=""/>
          <p:cNvSpPr/>
          <p:nvPr/>
        </p:nvSpPr>
        <p:spPr>
          <a:xfrm>
            <a:off x="4419720" y="1828800"/>
            <a:ext cx="3843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Belief Propagation gives: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8EC47-5978-4A81-A262-27B0C22FCA06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Conclusions</a:t>
            </a:r>
            <a:endParaRPr b="1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λ</a:t>
            </a:r>
            <a:r>
              <a:rPr b="0" i="1" lang="en-US" sz="3200" spc="-1" strike="noStrike" baseline="-25000">
                <a:solidFill>
                  <a:srgbClr val="000066"/>
                </a:solidFill>
                <a:latin typeface="Times New Roman"/>
                <a:ea typeface="Times New Roman"/>
              </a:rPr>
              <a:t>1,</a:t>
            </a:r>
            <a:r>
              <a:rPr b="1" i="1" lang="en-US" sz="3200" spc="-1" strike="noStrike" baseline="-25000">
                <a:solidFill>
                  <a:srgbClr val="000066"/>
                </a:solidFill>
                <a:latin typeface="Times New Roman"/>
                <a:ea typeface="Times New Roman"/>
              </a:rPr>
              <a:t>A   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: 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Eigenvalue of adjacency matrix determines the survival of a flu-like viru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It gives a measure of how well connected is the graph (~ # paths – see Task 7, later)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May guide immunization policie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[Belief Propagation: a powerful algo]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057FC-32B8-4384-898B-94A98E709D74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References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D. Chakrabarti, Y. Wang, C. Wang, J. Leskovec, and C. Faloutsos, 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Epidemic Thresholds in Real Networks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, in ACM TISSEC, 10(4), 2008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Ganesh, A., Massoulie, L., and Towsley, D., 2005. The effect of network topology on the spread of epidemics. In 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INFOCOM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5B613-7913-4B97-AB8A-EDFE93B4ED8A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References (cont’d)</a:t>
            </a:r>
            <a:endParaRPr b="1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Hethcote, H. W. 2000. The mathematics of infectious diseases. 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SIAM Review 42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, 599–653.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Hethcote, H. W. AND Yorke, J. A. 1984. 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Gonorrhea Transmission Dynamics and Control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. Vol. 56. Springer. Lecture Notes in Biomathematics.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F2AA1-0202-41FE-9EA4-B8D9C11BC3F9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References (cont’d)</a:t>
            </a:r>
            <a:endParaRPr b="1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Y. Wang, D. Chakrabarti, C. Wang and C. Faloutsos, 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Epidemic Spreading in Real Networks: An Eigenvalue Viewpoint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, in SRDS 2003 (pages 25-34), Florence, Italy 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305B9-B572-4A46-B1D9-0EA424BC75F7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Detailed outline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Epidemic threshold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Problem definition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Analysi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Experiment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raud detection in e-bay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CE5EC-B2B4-4AC2-BBE0-A6C3E90C108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Virus propagation</a:t>
            </a:r>
            <a:endParaRPr b="1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8000" indent="-37800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How do viruses/rumors  propagate?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-37800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Blog influence?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-37800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Will a flu-like virus linger, or will it become extinct soon?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038E5-D2CC-4EFE-9E01-8AA8F24CF05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9160"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The model: SIS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827360"/>
            <a:ext cx="7772400" cy="411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8000" indent="-37800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‘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lu’ like: Susceptible-Infected-Susceptible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-37800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Virus ‘strength’ s= </a:t>
            </a:r>
            <a:r>
              <a:rPr b="0" i="1" lang="en-US" sz="3200" spc="-1" strike="noStrike">
                <a:solidFill>
                  <a:srgbClr val="000066"/>
                </a:solidFill>
                <a:latin typeface="Symbol"/>
                <a:ea typeface="Symbol"/>
              </a:rPr>
              <a:t>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/</a:t>
            </a:r>
            <a:r>
              <a:rPr b="0" i="1" lang="en-US" sz="3200" spc="-1" strike="noStrike">
                <a:solidFill>
                  <a:srgbClr val="000066"/>
                </a:solidFill>
                <a:latin typeface="Symbol"/>
                <a:ea typeface="Symbol"/>
              </a:rPr>
              <a:t>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267080" y="4724280"/>
            <a:ext cx="609840" cy="533520"/>
          </a:xfrm>
          <a:prstGeom prst="ellipse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867280" y="5486400"/>
            <a:ext cx="609840" cy="533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362320" y="4724280"/>
            <a:ext cx="609480" cy="533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791320" y="3809880"/>
            <a:ext cx="609480" cy="533520"/>
          </a:xfrm>
          <a:prstGeom prst="ellipse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971800" y="5029200"/>
            <a:ext cx="129528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4800600" y="4190760"/>
            <a:ext cx="1066680" cy="60948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800600" y="5181480"/>
            <a:ext cx="1066680" cy="45720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905120" y="5334120"/>
            <a:ext cx="15238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Infected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248520" y="3429000"/>
            <a:ext cx="16761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Healthy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343400" y="4724280"/>
            <a:ext cx="304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362320" y="4724280"/>
            <a:ext cx="609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N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867280" y="5486400"/>
            <a:ext cx="6098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N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3809880"/>
            <a:ext cx="609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N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267080" y="4724280"/>
            <a:ext cx="609840" cy="533520"/>
          </a:xfrm>
          <a:prstGeom prst="ellipse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2971800" y="4267080"/>
            <a:ext cx="3381120" cy="1230120"/>
            <a:chOff x="2971800" y="4267080"/>
            <a:chExt cx="3381120" cy="1230120"/>
          </a:xfrm>
        </p:grpSpPr>
        <p:sp>
          <p:nvSpPr>
            <p:cNvPr id="121" name=""/>
            <p:cNvSpPr/>
            <p:nvPr/>
          </p:nvSpPr>
          <p:spPr>
            <a:xfrm>
              <a:off x="3276720" y="4724280"/>
              <a:ext cx="838080" cy="152280"/>
            </a:xfrm>
            <a:prstGeom prst="rightArrow">
              <a:avLst>
                <a:gd name="adj1" fmla="val 50000"/>
                <a:gd name="adj2" fmla="val 137589"/>
              </a:avLst>
            </a:prstGeom>
            <a:solidFill>
              <a:srgbClr val="ff0000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10880" rIns="110880" tIns="20880" bIns="20880" anchor="t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2187800">
              <a:off x="4952520" y="5180760"/>
              <a:ext cx="838440" cy="152280"/>
            </a:xfrm>
            <a:prstGeom prst="rightArrow">
              <a:avLst>
                <a:gd name="adj1" fmla="val 50000"/>
                <a:gd name="adj2" fmla="val 137648"/>
              </a:avLst>
            </a:prstGeom>
            <a:solidFill>
              <a:srgbClr val="ff0000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10880" rIns="110880" tIns="20880" bIns="20880" anchor="t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971800" y="4267080"/>
              <a:ext cx="129528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50400" bIns="504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Times New Roman"/>
                </a:rPr>
                <a:t>Prob. </a:t>
              </a:r>
              <a:r>
                <a:rPr b="1" lang="el-GR" sz="20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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rot="1236000">
              <a:off x="5027400" y="4875840"/>
              <a:ext cx="129528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50400" bIns="504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Times New Roman"/>
                </a:rPr>
                <a:t>Prob. </a:t>
              </a:r>
              <a:r>
                <a:rPr b="1" lang="el-GR" sz="2000" spc="-1" strike="noStrike">
                  <a:solidFill>
                    <a:srgbClr val="000066"/>
                  </a:solidFill>
                  <a:latin typeface="Times New Roman"/>
                  <a:ea typeface="Times New Roman"/>
                </a:rPr>
                <a:t>β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3809880" y="3809880"/>
            <a:ext cx="1219320" cy="838080"/>
            <a:chOff x="3809880" y="3809880"/>
            <a:chExt cx="1219320" cy="838080"/>
          </a:xfrm>
        </p:grpSpPr>
        <p:grpSp>
          <p:nvGrpSpPr>
            <p:cNvPr id="126" name=""/>
            <p:cNvGrpSpPr/>
            <p:nvPr/>
          </p:nvGrpSpPr>
          <p:grpSpPr>
            <a:xfrm>
              <a:off x="4267080" y="4267080"/>
              <a:ext cx="380880" cy="380880"/>
              <a:chOff x="4267080" y="4267080"/>
              <a:chExt cx="380880" cy="380880"/>
            </a:xfrm>
          </p:grpSpPr>
          <p:sp>
            <p:nvSpPr>
              <p:cNvPr id="127" name=""/>
              <p:cNvSpPr/>
              <p:nvPr/>
            </p:nvSpPr>
            <p:spPr>
              <a:xfrm>
                <a:off x="4419360" y="4267080"/>
                <a:ext cx="76320" cy="38088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0440" rIns="100440" tIns="50040" bIns="50040" anchor="t">
                <a:sp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267080" y="4419360"/>
                <a:ext cx="380880" cy="7632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0440" rIns="100440" tIns="26280" bIns="26280" anchor="t">
                <a:sp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267080" y="4267080"/>
                <a:ext cx="380880" cy="380880"/>
              </a:xfrm>
              <a:prstGeom prst="rect">
                <a:avLst/>
              </a:prstGeom>
              <a:noFill/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0440" rIns="100440" tIns="50040" bIns="50040" anchor="t">
                <a:sp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130" name=""/>
            <p:cNvSpPr/>
            <p:nvPr/>
          </p:nvSpPr>
          <p:spPr>
            <a:xfrm>
              <a:off x="3809880" y="3809880"/>
              <a:ext cx="121932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Times New Roman"/>
                </a:rPr>
                <a:t>Prob. </a:t>
              </a:r>
              <a:r>
                <a:rPr b="1" lang="en-US" sz="20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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E6D9C-2E30-4AFF-A589-07A03FA7CDE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Epidemic threshold </a:t>
            </a:r>
            <a:r>
              <a:rPr b="1" lang="en-US" sz="4000" spc="-1" strike="noStrike">
                <a:solidFill>
                  <a:srgbClr val="a50021"/>
                </a:solidFill>
                <a:latin typeface="Symbol"/>
                <a:ea typeface="Symbol"/>
              </a:rPr>
              <a:t>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8000" indent="0">
              <a:spcBef>
                <a:spcPts val="799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of a graph: the value of </a:t>
            </a:r>
            <a:r>
              <a:rPr b="0" lang="en-US" sz="3200" spc="-1" strike="noStrike">
                <a:solidFill>
                  <a:srgbClr val="000066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, such that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0" algn="ctr">
              <a:spcBef>
                <a:spcPts val="799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if   strength 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s = </a:t>
            </a:r>
            <a:r>
              <a:rPr b="0" i="1" lang="en-US" sz="3200" spc="-1" strike="noStrike">
                <a:solidFill>
                  <a:srgbClr val="000066"/>
                </a:solidFill>
                <a:latin typeface="Symbol"/>
                <a:ea typeface="Symbol"/>
              </a:rPr>
              <a:t>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 / </a:t>
            </a:r>
            <a:r>
              <a:rPr b="0" i="1" lang="en-US" sz="3200" spc="-1" strike="noStrike">
                <a:solidFill>
                  <a:srgbClr val="000066"/>
                </a:solidFill>
                <a:latin typeface="Symbol"/>
                <a:ea typeface="Symbol"/>
              </a:rPr>
              <a:t>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 &lt;  </a:t>
            </a:r>
            <a:r>
              <a:rPr b="0" i="1" lang="en-US" sz="3200" spc="-1" strike="noStrike">
                <a:solidFill>
                  <a:srgbClr val="000066"/>
                </a:solidFill>
                <a:latin typeface="Symbol"/>
                <a:ea typeface="Symbol"/>
              </a:rPr>
              <a:t>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an epidemic can not happen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Thus, 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-37800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given a graph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-37800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compute its epidemic threshold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699D5-D35F-485C-B4CA-6CAECDCB8FF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Epidemic threshold </a:t>
            </a:r>
            <a:r>
              <a:rPr b="1" lang="en-US" sz="4000" spc="-1" strike="noStrike">
                <a:solidFill>
                  <a:srgbClr val="a50021"/>
                </a:solidFill>
                <a:latin typeface="Symbol"/>
                <a:ea typeface="Symbol"/>
              </a:rPr>
              <a:t>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36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8000" indent="0">
              <a:spcBef>
                <a:spcPts val="799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What should </a:t>
            </a:r>
            <a:r>
              <a:rPr b="0" lang="en-US" sz="3200" spc="-1" strike="noStrike">
                <a:solidFill>
                  <a:srgbClr val="000066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depend on?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-37800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avg. degree? and/or highest degree? 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-37800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and/or variance of degree?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-37800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and/or third moment of degree?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-37800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and/or diameter?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3505320" y="4648320"/>
            <a:ext cx="1371600" cy="1295280"/>
            <a:chOff x="3505320" y="4648320"/>
            <a:chExt cx="1371600" cy="1295280"/>
          </a:xfrm>
        </p:grpSpPr>
        <p:sp>
          <p:nvSpPr>
            <p:cNvPr id="136" name=""/>
            <p:cNvSpPr/>
            <p:nvPr/>
          </p:nvSpPr>
          <p:spPr>
            <a:xfrm>
              <a:off x="3962520" y="5257800"/>
              <a:ext cx="152280" cy="152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114800" y="4876920"/>
              <a:ext cx="152280" cy="152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267080" y="5562720"/>
              <a:ext cx="152640" cy="152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419720" y="5181840"/>
              <a:ext cx="152280" cy="152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cxnSp>
          <p:nvCxnSpPr>
            <p:cNvPr id="140" name=""/>
            <p:cNvCxnSpPr>
              <a:stCxn id="139" idx="1"/>
              <a:endCxn id="137" idx="5"/>
            </p:cNvCxnSpPr>
            <p:nvPr/>
          </p:nvCxnSpPr>
          <p:spPr>
            <a:xfrm flipH="1" flipV="1">
              <a:off x="4244760" y="5019480"/>
              <a:ext cx="197280" cy="172080"/>
            </a:xfrm>
            <a:prstGeom prst="straightConnector1">
              <a:avLst/>
            </a:prstGeom>
            <a:ln w="25560">
              <a:solidFill>
                <a:srgbClr val="000066"/>
              </a:solidFill>
              <a:miter/>
            </a:ln>
          </p:spPr>
        </p:cxnSp>
        <p:cxnSp>
          <p:nvCxnSpPr>
            <p:cNvPr id="141" name=""/>
            <p:cNvCxnSpPr>
              <a:stCxn id="138" idx="0"/>
              <a:endCxn id="139" idx="3"/>
            </p:cNvCxnSpPr>
            <p:nvPr/>
          </p:nvCxnSpPr>
          <p:spPr>
            <a:xfrm flipV="1">
              <a:off x="4343040" y="5324400"/>
              <a:ext cx="99000" cy="226080"/>
            </a:xfrm>
            <a:prstGeom prst="straightConnector1">
              <a:avLst/>
            </a:prstGeom>
            <a:ln w="25560">
              <a:solidFill>
                <a:srgbClr val="000066"/>
              </a:solidFill>
              <a:miter/>
            </a:ln>
          </p:spPr>
        </p:cxnSp>
        <p:cxnSp>
          <p:nvCxnSpPr>
            <p:cNvPr id="142" name=""/>
            <p:cNvCxnSpPr>
              <a:stCxn id="136" idx="5"/>
              <a:endCxn id="138" idx="0"/>
            </p:cNvCxnSpPr>
            <p:nvPr/>
          </p:nvCxnSpPr>
          <p:spPr>
            <a:xfrm>
              <a:off x="4092120" y="5400360"/>
              <a:ext cx="251640" cy="150120"/>
            </a:xfrm>
            <a:prstGeom prst="straightConnector1">
              <a:avLst/>
            </a:prstGeom>
            <a:ln w="25560">
              <a:solidFill>
                <a:srgbClr val="000066"/>
              </a:solidFill>
              <a:miter/>
            </a:ln>
          </p:spPr>
        </p:cxnSp>
        <p:sp>
          <p:nvSpPr>
            <p:cNvPr id="143" name=""/>
            <p:cNvSpPr/>
            <p:nvPr/>
          </p:nvSpPr>
          <p:spPr>
            <a:xfrm>
              <a:off x="3505320" y="4648320"/>
              <a:ext cx="1371600" cy="1295280"/>
            </a:xfrm>
            <a:prstGeom prst="ellipse">
              <a:avLst/>
            </a:prstGeom>
            <a:noFill/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5943600" y="4572000"/>
            <a:ext cx="1371600" cy="1295280"/>
            <a:chOff x="5943600" y="4572000"/>
            <a:chExt cx="1371600" cy="1295280"/>
          </a:xfrm>
        </p:grpSpPr>
        <p:sp>
          <p:nvSpPr>
            <p:cNvPr id="145" name=""/>
            <p:cNvSpPr/>
            <p:nvPr/>
          </p:nvSpPr>
          <p:spPr>
            <a:xfrm>
              <a:off x="6172200" y="5105520"/>
              <a:ext cx="152280" cy="152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934320" y="5257800"/>
              <a:ext cx="152280" cy="152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477120" y="4876920"/>
              <a:ext cx="152280" cy="152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629400" y="5562720"/>
              <a:ext cx="152280" cy="152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cxnSp>
          <p:nvCxnSpPr>
            <p:cNvPr id="149" name=""/>
            <p:cNvCxnSpPr>
              <a:stCxn id="147" idx="1"/>
              <a:endCxn id="145" idx="7"/>
            </p:cNvCxnSpPr>
            <p:nvPr/>
          </p:nvCxnSpPr>
          <p:spPr>
            <a:xfrm flipH="1">
              <a:off x="6302160" y="4885920"/>
              <a:ext cx="197280" cy="229320"/>
            </a:xfrm>
            <a:prstGeom prst="straightConnector1">
              <a:avLst/>
            </a:prstGeom>
            <a:ln w="25560">
              <a:solidFill>
                <a:srgbClr val="000066"/>
              </a:solidFill>
              <a:miter/>
            </a:ln>
          </p:spPr>
        </p:cxnSp>
        <p:cxnSp>
          <p:nvCxnSpPr>
            <p:cNvPr id="150" name=""/>
            <p:cNvCxnSpPr>
              <a:stCxn id="147" idx="5"/>
              <a:endCxn id="146" idx="1"/>
            </p:cNvCxnSpPr>
            <p:nvPr/>
          </p:nvCxnSpPr>
          <p:spPr>
            <a:xfrm>
              <a:off x="6607080" y="5019480"/>
              <a:ext cx="349920" cy="248040"/>
            </a:xfrm>
            <a:prstGeom prst="straightConnector1">
              <a:avLst/>
            </a:prstGeom>
            <a:ln w="25560">
              <a:solidFill>
                <a:srgbClr val="000066"/>
              </a:solidFill>
              <a:miter/>
            </a:ln>
          </p:spPr>
        </p:cxnSp>
        <p:cxnSp>
          <p:nvCxnSpPr>
            <p:cNvPr id="151" name=""/>
            <p:cNvCxnSpPr>
              <a:stCxn id="147" idx="4"/>
              <a:endCxn id="148" idx="1"/>
            </p:cNvCxnSpPr>
            <p:nvPr/>
          </p:nvCxnSpPr>
          <p:spPr>
            <a:xfrm>
              <a:off x="6553080" y="5041440"/>
              <a:ext cx="99360" cy="531000"/>
            </a:xfrm>
            <a:prstGeom prst="straightConnector1">
              <a:avLst/>
            </a:prstGeom>
            <a:ln w="25560">
              <a:solidFill>
                <a:srgbClr val="000066"/>
              </a:solidFill>
              <a:miter/>
            </a:ln>
          </p:spPr>
        </p:cxnSp>
        <p:sp>
          <p:nvSpPr>
            <p:cNvPr id="152" name=""/>
            <p:cNvSpPr/>
            <p:nvPr/>
          </p:nvSpPr>
          <p:spPr>
            <a:xfrm>
              <a:off x="5943600" y="4572000"/>
              <a:ext cx="1371600" cy="1295280"/>
            </a:xfrm>
            <a:prstGeom prst="ellipse">
              <a:avLst/>
            </a:prstGeom>
            <a:noFill/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1066680" y="4724280"/>
            <a:ext cx="1371600" cy="1295280"/>
            <a:chOff x="1066680" y="4724280"/>
            <a:chExt cx="1371600" cy="1295280"/>
          </a:xfrm>
        </p:grpSpPr>
        <p:sp>
          <p:nvSpPr>
            <p:cNvPr id="154" name=""/>
            <p:cNvSpPr/>
            <p:nvPr/>
          </p:nvSpPr>
          <p:spPr>
            <a:xfrm>
              <a:off x="1295280" y="5105160"/>
              <a:ext cx="152640" cy="152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57400" y="5333760"/>
              <a:ext cx="152280" cy="152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447920" y="5486400"/>
              <a:ext cx="152280" cy="152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828800" y="5029200"/>
              <a:ext cx="152280" cy="152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066680" y="4724280"/>
              <a:ext cx="1371600" cy="1295280"/>
            </a:xfrm>
            <a:prstGeom prst="ellipse">
              <a:avLst/>
            </a:prstGeom>
            <a:noFill/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83E7F-7632-47A4-A157-97244B9DBB8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Epidemic threshold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09120" y="1904760"/>
            <a:ext cx="815364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8000" indent="-378000">
              <a:spcBef>
                <a:spcPts val="901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[Theorem 1] We have no epidemic, if </a:t>
            </a: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00400" y="3276720"/>
            <a:ext cx="3733920" cy="1143000"/>
          </a:xfrm>
          <a:prstGeom prst="rect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94880" y="3502080"/>
            <a:ext cx="3220920" cy="78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66"/>
                </a:solidFill>
                <a:latin typeface="Times New Roman"/>
              </a:rPr>
              <a:t>β/δ &lt;</a:t>
            </a:r>
            <a:r>
              <a:rPr b="0" i="1" lang="el-GR" sz="4000" spc="-1" strike="noStrike">
                <a:solidFill>
                  <a:srgbClr val="000066"/>
                </a:solidFill>
                <a:latin typeface="Times New Roman"/>
              </a:rPr>
              <a:t>τ</a:t>
            </a:r>
            <a:r>
              <a:rPr b="0" i="1" lang="en-US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4000" spc="-1" strike="noStrike">
                <a:solidFill>
                  <a:srgbClr val="000066"/>
                </a:solidFill>
                <a:latin typeface="Times New Roman"/>
              </a:rPr>
              <a:t>=</a:t>
            </a:r>
            <a:r>
              <a:rPr b="0" i="1" lang="en-US" sz="4000" spc="-1" strike="noStrike">
                <a:solidFill>
                  <a:srgbClr val="ff0000"/>
                </a:solidFill>
                <a:latin typeface="Times New Roman"/>
              </a:rPr>
              <a:t> 1/ λ</a:t>
            </a:r>
            <a:r>
              <a:rPr b="0" i="1" lang="en-US" sz="4000" spc="-1" strike="noStrike" baseline="-25000">
                <a:solidFill>
                  <a:srgbClr val="ff0000"/>
                </a:solidFill>
                <a:latin typeface="Times New Roman"/>
              </a:rPr>
              <a:t>1,</a:t>
            </a:r>
            <a:r>
              <a:rPr b="1" i="1" lang="en-US" sz="4000" spc="-1" strike="noStrike" baseline="-25000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8850E-2304-469C-825B-9B118979FDF2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Epidemic threshold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09120" y="1904760"/>
            <a:ext cx="815364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8000" indent="-378000">
              <a:spcBef>
                <a:spcPts val="901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[Theorem 1] We have no epidemic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(*)</a:t>
            </a: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, if </a:t>
            </a: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200400" y="3276720"/>
            <a:ext cx="3733920" cy="1143000"/>
          </a:xfrm>
          <a:prstGeom prst="rect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494880" y="3502080"/>
            <a:ext cx="3220920" cy="78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66"/>
                </a:solidFill>
                <a:latin typeface="Times New Roman"/>
              </a:rPr>
              <a:t>β/δ &lt;</a:t>
            </a:r>
            <a:r>
              <a:rPr b="0" i="1" lang="el-GR" sz="4000" spc="-1" strike="noStrike">
                <a:solidFill>
                  <a:srgbClr val="000066"/>
                </a:solidFill>
                <a:latin typeface="Times New Roman"/>
              </a:rPr>
              <a:t>τ</a:t>
            </a:r>
            <a:r>
              <a:rPr b="0" i="1" lang="en-US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4000" spc="-1" strike="noStrike">
                <a:solidFill>
                  <a:srgbClr val="000066"/>
                </a:solidFill>
                <a:latin typeface="Times New Roman"/>
              </a:rPr>
              <a:t>=</a:t>
            </a:r>
            <a:r>
              <a:rPr b="0" i="1" lang="en-US" sz="4000" spc="-1" strike="noStrike">
                <a:solidFill>
                  <a:srgbClr val="ff0000"/>
                </a:solidFill>
                <a:latin typeface="Times New Roman"/>
              </a:rPr>
              <a:t> 1/ λ</a:t>
            </a:r>
            <a:r>
              <a:rPr b="0" i="1" lang="en-US" sz="4000" spc="-1" strike="noStrike" baseline="-25000">
                <a:solidFill>
                  <a:srgbClr val="ff0000"/>
                </a:solidFill>
                <a:latin typeface="Times New Roman"/>
              </a:rPr>
              <a:t>1,</a:t>
            </a:r>
            <a:r>
              <a:rPr b="1" i="1" lang="en-US" sz="4000" spc="-1" strike="noStrike" baseline="-25000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802400" y="4486320"/>
            <a:ext cx="2759040" cy="9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Times New Roman"/>
              </a:rPr>
              <a:t>largest eigenvalue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Times New Roman"/>
              </a:rPr>
              <a:t>of adj. matrix 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404720" y="4597560"/>
            <a:ext cx="186156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attack prob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9480" y="2819520"/>
            <a:ext cx="243864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recovery prob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3124080" y="4190760"/>
            <a:ext cx="304920" cy="6858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124080" y="3035160"/>
            <a:ext cx="914400" cy="546120"/>
          </a:xfrm>
          <a:custGeom>
            <a:avLst/>
            <a:gdLst/>
            <a:ahLst/>
            <a:rect l="l" t="t" r="r" b="b"/>
            <a:pathLst>
              <a:path w="576" h="344">
                <a:moveTo>
                  <a:pt x="0" y="8"/>
                </a:moveTo>
                <a:cubicBezTo>
                  <a:pt x="168" y="4"/>
                  <a:pt x="336" y="0"/>
                  <a:pt x="432" y="56"/>
                </a:cubicBezTo>
                <a:cubicBezTo>
                  <a:pt x="528" y="112"/>
                  <a:pt x="552" y="228"/>
                  <a:pt x="576" y="344"/>
                </a:cubicBezTo>
              </a:path>
            </a:pathLst>
          </a:custGeom>
          <a:noFill/>
          <a:ln w="38160">
            <a:solidFill>
              <a:srgbClr val="00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5943600" y="4114800"/>
            <a:ext cx="76320" cy="457200"/>
          </a:xfrm>
          <a:prstGeom prst="line">
            <a:avLst/>
          </a:prstGeom>
          <a:ln w="3816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892320" y="2581200"/>
            <a:ext cx="289944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epidemic threshold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4800240" y="3124080"/>
            <a:ext cx="152280" cy="60984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17040" y="5353200"/>
            <a:ext cx="68418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Proof: [Wang+03]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(*) under mild, conditional-independence assumption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EC646-C398-4C7E-90AB-3F3E45D0B726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hristos</cp:lastModifiedBy>
  <dcterms:modified xsi:type="dcterms:W3CDTF">2009-06-05T15:35:50Z</dcterms:modified>
  <cp:revision>20</cp:revision>
  <dc:subject>virus propagation</dc:subject>
  <dc:title>KDD09 tutorial</dc:title>
</cp:coreProperties>
</file>