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1FA5-3A6A-4B69-93CA-34DD67D7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123D-7D9B-4AD6-B782-18CC8400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9429-DF0B-4FF6-BD8E-8A94BF41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0752-B9EB-4CA3-9A51-D24EE077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FB15-B198-413E-9400-4909436C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1E79-2614-4795-BC59-7F0D592E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1EDF-D1FF-4C1A-8F0C-4A561262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8C9E-CF98-4FE9-8DEA-1E650588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9CFE-7998-463B-AF35-54FA0495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94C6-3091-49FC-99B2-0EDF531E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F945-F34F-4259-B28D-98440669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574C-FD11-47BA-A1BD-F8FDE3B6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1155-8A44-4322-893C-6D05D18A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91C4-50F8-4705-94C7-B63FB507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365C-7A3F-4985-A79F-5A6FA3A4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8F2B-C5A4-4639-B5AE-E25F1B86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31F3-D9FE-401D-8795-FA18630A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998C2-C9C4-4455-9E4A-D60E88AD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930BD-0710-4EA4-9B39-944D55D1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D44C0-90D8-4E96-9FB9-D6C339C8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B2D08-C9B4-409A-909F-E5ED7FD4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87226-73C6-445F-9582-A4306B71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3FB-AA11-4F33-B3AC-E8CDD117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38EFC-F631-4933-915A-108702C2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A6F00-6406-459C-9C78-740408DF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F5648-9F36-414D-BDE6-96CFE796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B08B2-A9A6-43CE-B830-6B969A4B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4543E-F3B6-44E2-A969-F81A44F6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83186-3B07-4F7A-8974-159A3291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61149-2040-4C29-B583-8F8893E5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E4877-0F84-46C7-A40E-B1EF20D8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C81D4-B370-46C4-90E5-B57485F4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748EB-B59D-4B94-AF8D-419256E6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76E4-3BAC-4CBC-A850-93C275F1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A4135-1156-4760-B4F8-D13E62B1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6518F-0164-4FC5-BE41-7219B80B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E9849-6EF5-4654-BFAD-F3A45CF3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E7369-8893-4EE7-84F5-98760882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AAFFD-EF5D-42FE-A1A2-E2DF754E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11627-2FDF-4C6A-820B-A26C0CE1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E03DF-29A2-49DA-B0E5-BF0BBB1A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2F509-7175-4BF7-B25A-110D5180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85A57-C0E2-4970-AAE1-7114308D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4B93-0A7E-4EC8-ACDD-E17A6786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CF9A-D826-4691-A08B-C35C8FCC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F9F4-984B-4E01-BF43-6699310E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31E2-6460-468C-A85B-430D85A6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C30B-0E3B-4084-B3EE-1A410408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FA163EAA-E712-47EF-8B39-57F1E501DC6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9-</a:t>
            </a:r>
            <a:fld id="{0C9D0D91-C577-4818-8D42-6F8DF509493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99879892-A2FB-40A6-8371-7629AB0235A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0-</a:t>
            </a:r>
            <a:fld id="{B34DBCD5-4CCE-480B-8EE3-0AA6DD11ECA4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2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5680" y="1784520"/>
            <a:ext cx="8570880" cy="18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Large Graph Mining: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ower Tools and a Practitioner’s guid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39520" y="3871800"/>
            <a:ext cx="73962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Christos Faloutso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Gary Mill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Charalampos (Babis) Tsourakak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BDAE-5E48-451F-9EA1-E507EEA855D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 2 – degree distribution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kewed degree distribu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ost nodes have degree 1 or 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ut they probably have a neighbor with degree 100,000 or so (!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actical implication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y need to delete/ignore those high degree nod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uld probably also trim the 1-degree nodes, saving significant space and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325B-A1FA-4E6F-8E26-81FFA7E6029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 3 – power law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wer-laws / skewed distributions in everything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ost pairs: within 2-3 steps; but, some pair: ~20 or more steps awa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riangles: power laws[Tsourakakis’08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# of cliques: ditto [Du+’09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eight vs degree: ditto [McGlohon+’08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2DF0-11E0-4972-8402-664780AAE5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 4 – communiti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egative dimensionality’ paradox [Chakrabarti+’04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actical implication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raphs may have no good cu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D972-BB5E-4774-A758-032AC730644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onclusion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0) Graphs appear in numerous setting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) Singular / eigenvalue analysis: valuabl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xed points – random walks – importa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igenvalue and epidemic threshol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aplacians -&gt; communit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7881-FA30-4230-9267-447929D4491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onclusions – cont’d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2) Random walks -&gt; proxim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commendations, auto-captioning, etc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ast algo’s, through Sherman-Morris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3) Tera-byte scale graphs: hadoop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4) Beware: counter-intuitive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mall diameters; power-laws; possible lack of good cu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2150-6036-4FA1-B777-B81E1F3A486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Acknowledgement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unding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8" name="Picture 5" descr="llnl_03"/>
          <p:cNvPicPr/>
          <p:nvPr/>
        </p:nvPicPr>
        <p:blipFill>
          <a:blip r:embed="rId1"/>
          <a:stretch/>
        </p:blipFill>
        <p:spPr>
          <a:xfrm>
            <a:off x="990720" y="4224240"/>
            <a:ext cx="4647960" cy="470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ibm-logo"/>
          <p:cNvPicPr/>
          <p:nvPr/>
        </p:nvPicPr>
        <p:blipFill>
          <a:blip r:embed="rId2"/>
          <a:stretch/>
        </p:blipFill>
        <p:spPr>
          <a:xfrm>
            <a:off x="5791320" y="4243320"/>
            <a:ext cx="685800" cy="324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nsf-logo"/>
          <p:cNvPicPr/>
          <p:nvPr/>
        </p:nvPicPr>
        <p:blipFill>
          <a:blip r:embed="rId3"/>
          <a:stretch/>
        </p:blipFill>
        <p:spPr>
          <a:xfrm>
            <a:off x="838080" y="1905120"/>
            <a:ext cx="6172200" cy="11905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8"/>
          <p:cNvSpPr/>
          <p:nvPr/>
        </p:nvSpPr>
        <p:spPr>
          <a:xfrm>
            <a:off x="3897360" y="492912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ITA (PA Inf. Tech. Alliance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2" name="Picture 11" descr=""/>
          <p:cNvPicPr/>
          <p:nvPr/>
        </p:nvPicPr>
        <p:blipFill>
          <a:blip r:embed="rId4"/>
          <a:stretch/>
        </p:blipFill>
        <p:spPr>
          <a:xfrm>
            <a:off x="990720" y="4929120"/>
            <a:ext cx="1371600" cy="301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2" descr=""/>
          <p:cNvPicPr/>
          <p:nvPr/>
        </p:nvPicPr>
        <p:blipFill>
          <a:blip r:embed="rId5"/>
          <a:stretch/>
        </p:blipFill>
        <p:spPr>
          <a:xfrm>
            <a:off x="2590920" y="4929120"/>
            <a:ext cx="895320" cy="419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"/>
          <p:cNvPicPr/>
          <p:nvPr/>
        </p:nvPicPr>
        <p:blipFill>
          <a:blip r:embed="rId6"/>
          <a:stretch/>
        </p:blipFill>
        <p:spPr>
          <a:xfrm>
            <a:off x="1828800" y="5767560"/>
            <a:ext cx="762120" cy="46656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3"/>
          <p:cNvSpPr/>
          <p:nvPr/>
        </p:nvSpPr>
        <p:spPr>
          <a:xfrm>
            <a:off x="685800" y="3048120"/>
            <a:ext cx="805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IS-0705359, IIS-0534205, DBI-0640543, CNS-0721736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6" name="Picture 14" descr=""/>
          <p:cNvPicPr/>
          <p:nvPr/>
        </p:nvPicPr>
        <p:blipFill>
          <a:blip r:embed="rId7"/>
          <a:stretch/>
        </p:blipFill>
        <p:spPr>
          <a:xfrm>
            <a:off x="1066680" y="5843520"/>
            <a:ext cx="533520" cy="405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8"/>
          <a:srcRect l="0" t="36001" r="0" b="36001"/>
          <a:stretch/>
        </p:blipFill>
        <p:spPr>
          <a:xfrm>
            <a:off x="6629400" y="4243320"/>
            <a:ext cx="1143000" cy="3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4FDE-E879-4581-8A0F-B8F20608A68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Acknowledgements - foil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09680" y="1523880"/>
            <a:ext cx="4648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hakrabarti, Deepay (cross-association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Kolda, Tamara (tensor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padimitriou, Spiros (cross-association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un, Jimeng (tensor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ong, Hanghang (proximity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0" name="Rectangle 3" descr=""/>
          <p:cNvPicPr/>
          <p:nvPr/>
        </p:nvPicPr>
        <p:blipFill>
          <a:blip r:embed="rId1"/>
          <a:stretch/>
        </p:blipFill>
        <p:spPr>
          <a:xfrm>
            <a:off x="258840" y="2133720"/>
            <a:ext cx="1341360" cy="167616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3" descr=""/>
          <p:cNvPicPr/>
          <p:nvPr/>
        </p:nvPicPr>
        <p:blipFill>
          <a:blip r:embed="rId2"/>
          <a:stretch/>
        </p:blipFill>
        <p:spPr>
          <a:xfrm>
            <a:off x="7391520" y="1371600"/>
            <a:ext cx="1206360" cy="14479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7391520" y="4495680"/>
            <a:ext cx="1411200" cy="15940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152280" y="3962520"/>
            <a:ext cx="1428840" cy="13906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7391520" y="2971800"/>
            <a:ext cx="1251000" cy="1411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 flipH="1">
            <a:off x="1676520" y="2743200"/>
            <a:ext cx="304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676520" y="4191120"/>
            <a:ext cx="304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10280" y="1828800"/>
            <a:ext cx="3049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010280" y="3276720"/>
            <a:ext cx="3049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010280" y="4724280"/>
            <a:ext cx="3049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205A-58ED-4E88-AF6B-372739DA146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HANK YOU!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61" name="Rectangle 3" descr=""/>
          <p:cNvPicPr/>
          <p:nvPr/>
        </p:nvPicPr>
        <p:blipFill>
          <a:blip r:embed="rId1"/>
          <a:srcRect l="11842" t="2738" r="7105" b="0"/>
          <a:stretch/>
        </p:blipFill>
        <p:spPr>
          <a:xfrm>
            <a:off x="609480" y="3886200"/>
            <a:ext cx="881280" cy="914400"/>
          </a:xfrm>
          <a:prstGeom prst="rect">
            <a:avLst/>
          </a:prstGeom>
          <a:ln w="0">
            <a:noFill/>
          </a:ln>
        </p:spPr>
      </p:pic>
      <p:pic>
        <p:nvPicPr>
          <p:cNvPr id="262" name="Rectangle 3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812880" cy="914400"/>
          </a:xfrm>
          <a:prstGeom prst="rect">
            <a:avLst/>
          </a:prstGeom>
          <a:ln w="0">
            <a:noFill/>
          </a:ln>
        </p:spPr>
      </p:pic>
      <p:pic>
        <p:nvPicPr>
          <p:cNvPr id="263" name="Rectangle 3" descr=""/>
          <p:cNvPicPr/>
          <p:nvPr/>
        </p:nvPicPr>
        <p:blipFill>
          <a:blip r:embed="rId3"/>
          <a:srcRect l="0" t="11250" r="0" b="0"/>
          <a:stretch/>
        </p:blipFill>
        <p:spPr>
          <a:xfrm>
            <a:off x="609480" y="2590920"/>
            <a:ext cx="836640" cy="9903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053800" y="1374840"/>
            <a:ext cx="4111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Christos Faloutso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ww.cs.cmu.edu/~christo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54160" y="2670120"/>
            <a:ext cx="4016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Gary Miller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ww.cs.cmu.edu/~glmiller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55240" y="3965400"/>
            <a:ext cx="467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Charalampos (Babis) Tsourakaki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ww.cs.cmu.edu/~ctsourak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1440" y="5486400"/>
            <a:ext cx="7715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ww.cs.cmu.edu/~christos/TALKS/09-KDD-tutorial/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615A-89FD-41CA-86C9-FE260579544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1: Node importanc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3: Recommend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4: Connection sub-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5: Mining graphs over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6: Virus/influence propag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7: Spectral graph theo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8: Tera/peta graph mining: hadoo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bservations – patterns of real 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53341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B5BF-6F4A-4463-9B5A-8AFA146281D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s – ‘laws’ of real graph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 #1: small and SHRINKING diamet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 #2: power law / skewed degree distribu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 #3: power laws in several aspec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 #4: communi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7F30-5CE2-4720-9BCA-523F8D15C6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 1 – diameter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mall diameter – ‘six degrees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the diameter SHRINKS as the graph grows (!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AECE-0B08-4C5F-90D1-32F03DCD62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43440" y="1914480"/>
            <a:ext cx="5200560" cy="39783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Diameter – “Patents”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733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atent citation network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25 years of dat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2400" y="5715000"/>
            <a:ext cx="2021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time [years]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4880" y="1757520"/>
            <a:ext cx="15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amet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1FC9-7A78-4D19-BA01-30E4718584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 1 – diameter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mall diameter – ‘six degrees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the diameter SHRINKS as the graph grows (!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actical implication: BFS may di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-step-away neighbors =&gt; half of the graph!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F0C2-C669-4D39-BF10-8F70DE0B2D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s  2 – degree distribution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kewed degree distribu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st nodes have degree 1 or 2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ut they probably have a neighbor with degree 100,000 or so (!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9610-8F6B-442D-A7B8-DA0B32E564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Degree distribution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eb hit counts [w/ A. Montgomery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776680" y="2895480"/>
            <a:ext cx="3841560" cy="3345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869640" y="298512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eb Site Traffic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29440" y="573768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PMingLiU"/>
              </a:rPr>
              <a:t>log(in-degre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74440" y="342144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PMingLiU"/>
              </a:rPr>
              <a:t>log(coun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00600" y="3902040"/>
            <a:ext cx="701640" cy="117324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50520" y="408996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PMingLiU"/>
              </a:rPr>
              <a:t>Zip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6760800" y="2362320"/>
            <a:ext cx="2001600" cy="3126600"/>
            <a:chOff x="6760800" y="2362320"/>
            <a:chExt cx="2001600" cy="3126600"/>
          </a:xfrm>
        </p:grpSpPr>
        <p:sp>
          <p:nvSpPr>
            <p:cNvPr id="203" name=""/>
            <p:cNvSpPr/>
            <p:nvPr/>
          </p:nvSpPr>
          <p:spPr>
            <a:xfrm>
              <a:off x="7238880" y="32767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38880" y="441972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38880" y="3886200"/>
              <a:ext cx="152640" cy="15228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534520" y="236232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534520" y="2895480"/>
              <a:ext cx="152280" cy="15264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534520" y="34290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534520" y="4114800"/>
              <a:ext cx="152280" cy="15228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534520" y="4724280"/>
              <a:ext cx="152280" cy="15264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211" name=""/>
            <p:cNvCxnSpPr>
              <a:stCxn id="203" idx="6"/>
              <a:endCxn id="207" idx="2"/>
            </p:cNvCxnSpPr>
            <p:nvPr/>
          </p:nvCxnSpPr>
          <p:spPr>
            <a:xfrm flipV="1">
              <a:off x="7410240" y="2971440"/>
              <a:ext cx="1105560" cy="3816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stCxn id="203" idx="6"/>
              <a:endCxn id="208" idx="2"/>
            </p:cNvCxnSpPr>
            <p:nvPr/>
          </p:nvCxnSpPr>
          <p:spPr>
            <a:xfrm>
              <a:off x="7410240" y="3352680"/>
              <a:ext cx="1105560" cy="1533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213" name=""/>
            <p:cNvCxnSpPr>
              <a:stCxn id="205" idx="6"/>
              <a:endCxn id="208" idx="2"/>
            </p:cNvCxnSpPr>
            <p:nvPr/>
          </p:nvCxnSpPr>
          <p:spPr>
            <a:xfrm flipV="1">
              <a:off x="7410240" y="3504960"/>
              <a:ext cx="1105560" cy="45792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214" name=""/>
            <p:cNvCxnSpPr>
              <a:stCxn id="204" idx="6"/>
              <a:endCxn id="208" idx="2"/>
            </p:cNvCxnSpPr>
            <p:nvPr/>
          </p:nvCxnSpPr>
          <p:spPr>
            <a:xfrm flipV="1">
              <a:off x="7410240" y="3504600"/>
              <a:ext cx="1105560" cy="99108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215" name=""/>
            <p:cNvSpPr/>
            <p:nvPr/>
          </p:nvSpPr>
          <p:spPr>
            <a:xfrm>
              <a:off x="6760800" y="480060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users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37720" y="5029200"/>
              <a:ext cx="7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ites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 flipH="1">
            <a:off x="5411520" y="5051520"/>
            <a:ext cx="114120" cy="5191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59200" y="45100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``ebay’’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32C6-6389-4021-B632-12552CCD05E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pinions.co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ho-trusts-whom [Richardson + Domingos, KDD 2001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1" name="Rectangle 3" descr=""/>
          <p:cNvPicPr/>
          <p:nvPr/>
        </p:nvPicPr>
        <p:blipFill>
          <a:blip r:embed="rId1"/>
          <a:stretch/>
        </p:blipFill>
        <p:spPr>
          <a:xfrm>
            <a:off x="685800" y="2263680"/>
            <a:ext cx="3809880" cy="3016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914120" y="563760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out) deg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0840" y="19800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u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781440" y="4605480"/>
            <a:ext cx="790560" cy="2728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0200" y="433548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rusts-2000-people us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CE8C-8217-47C3-BEA4-E49A5C1646A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5:13:27Z</dcterms:created>
  <dc:creator/>
  <dc:description/>
  <dc:language>en-US</dc:language>
  <cp:lastModifiedBy>christos</cp:lastModifiedBy>
  <dcterms:modified xsi:type="dcterms:W3CDTF">2009-06-05T15:41:58Z</dcterms:modified>
  <cp:revision>192</cp:revision>
  <dc:subject/>
  <dc:title>Large graph mining</dc:title>
</cp:coreProperties>
</file>