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Faloutsos, To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dt" idx="13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Img"/>
          </p:nvPr>
        </p:nvSpPr>
        <p:spPr>
          <a:xfrm>
            <a:off x="1258560" y="720360"/>
            <a:ext cx="4799160" cy="35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Click to move the slide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ftr" idx="14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 type="sldNum" idx="15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A114C63-14B3-4171-8B5A-096057F7AA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Header Placeholder 1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300" spc="-1" strike="noStrike">
                <a:solidFill>
                  <a:srgbClr val="000066"/>
                </a:solidFill>
                <a:latin typeface="Arial"/>
              </a:rPr>
              <a:t>Faloutsos et al</a:t>
            </a:r>
            <a:endParaRPr b="0" lang="en-US" sz="1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6" name="Date Placeholder 2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FB197083-FAC2-473B-B834-208A359B8705}" type="datetime">
              <a:rPr b="0" lang="en-US" sz="1300" spc="-1" strike="noStrike">
                <a:solidFill>
                  <a:srgbClr val="000066"/>
                </a:solidFill>
                <a:latin typeface="Arial"/>
              </a:rPr>
              <a:t>07/29/26</a:t>
            </a:fld>
            <a:endParaRPr b="0" lang="en-US" sz="1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7" name="Slide Number Placeholder 6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A3D97E98-79CD-4954-88AC-73D3D9F26D69}" type="slidenum">
              <a:rPr b="0" lang="en-US" sz="13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74880" y="6114600"/>
            <a:ext cx="2574720" cy="12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Header Placeholder 1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300" spc="-1" strike="noStrike">
                <a:solidFill>
                  <a:srgbClr val="000066"/>
                </a:solidFill>
                <a:latin typeface="Arial"/>
              </a:rPr>
              <a:t>Faloutsos et al</a:t>
            </a:r>
            <a:endParaRPr b="0" lang="en-US" sz="1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1" name="Date Placeholder 2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719352A4-5DF5-4619-B2FE-CECFEC8EA898}" type="datetime">
              <a:rPr b="0" lang="en-US" sz="1300" spc="-1" strike="noStrike">
                <a:solidFill>
                  <a:srgbClr val="000066"/>
                </a:solidFill>
                <a:latin typeface="Arial"/>
              </a:rPr>
              <a:t>07/29/26</a:t>
            </a:fld>
            <a:endParaRPr b="0" lang="en-US" sz="1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2" name="Slide Number Placeholder 6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EEEF05D1-9F4C-4A60-A274-562243FD78AB}" type="slidenum">
              <a:rPr b="0" lang="en-US" sz="13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74880" y="6114600"/>
            <a:ext cx="2574720" cy="12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ACF9-92B0-414D-8673-D85F1FBE0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B302-75DF-4850-B8E1-E3A2C6E8F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B45F-3FD8-455F-BB05-36DFD0B4C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E804-982F-4A39-BA01-0022A7CA1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83685-F1E6-4FB8-911A-3FE96D09C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77FF8-3E10-4FC2-95BD-3B2B3904F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CA43C-B0B7-4FF1-A073-28540E42D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D0CD7-6F5A-4F88-810A-C533AAC33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31020-156E-435C-B2F9-BA85FF508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6C87D-B392-48DA-A310-A6DF8AA35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8A155-520A-4A44-904D-E5942CCF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CE55-7024-4936-8C96-795710D8F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CC1F5-CC83-4472-89DE-DDBDD1BE4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92976-5508-4344-91A8-5D13AA615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8A840-253B-4090-9168-176496D78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10C19-0EC1-4D76-A968-0395B904C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EFDC5-7F40-47EA-AF32-869D94873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9B2FC-138F-462A-A723-0E99A8121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993D9-AB7B-414D-A980-F33B7B898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57DA7-D9D2-4D10-98DB-02CA0F7E2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67971-ACFE-4711-B839-DE70E5D0C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03D72-F9AC-4993-B77F-44FB1F447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F906-32A1-4139-A171-EC9355165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0375E-35C1-4F2C-BA39-54948EFA6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81747-1E70-46F0-9BE4-6EAF9B3FE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4D5BB-D8DD-4276-BBC5-3F5853DCA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52375-A25D-45FF-8AA7-34E87D19B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B6ECB-8883-411D-8502-BF78CD1DA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A7AC8-AD3B-4759-A21F-F59940BF9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DD7C6-9AA8-415F-A2D2-FA7566CE4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310F3-DF85-4B76-8A21-508F5C63B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D8D72-30F8-42A6-ACE3-4F077A50A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20E93-47F5-4609-BA9E-4AD295F82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64B9-C7D4-4B53-A1D5-E7347355E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CEBE4-3897-4E87-A322-65EF39915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F889F-75B9-4FC8-913A-17EAF39B5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3E632-51EB-4717-9278-AC836527F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17073-FC64-4019-8F60-FD25059FC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E9326-D288-4327-BFE6-F754F74A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0E251-1494-482A-98D2-A42C4C1C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41356-4224-4937-8B2A-509A49EB0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41AE0-3055-42F7-A9C9-E07A045B1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0AE85-B647-458C-82A9-8F2D515F5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F991-7060-4E1A-BDE4-58B0F9A2A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8C43-C9BA-4BF2-B473-EFBE2259F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C82C-B2B6-4DBE-A10F-889C1C0C2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D2AD-88C2-4B88-88E7-C523E3958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E495-24ED-4C27-B597-DF7315A3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8-</a:t>
            </a:r>
            <a:fld id="{216DC616-0B99-4B71-B821-D85970A764AE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Object 7"/>
          <p:cNvGraphicFramePr/>
          <p:nvPr/>
        </p:nvGraphicFramePr>
        <p:xfrm>
          <a:off x="39600" y="0"/>
          <a:ext cx="474840" cy="49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00" y="0"/>
                    <a:ext cx="4748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Text Box 8"/>
          <p:cNvSpPr/>
          <p:nvPr/>
        </p:nvSpPr>
        <p:spPr>
          <a:xfrm>
            <a:off x="616680" y="-72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CMU SC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8-</a:t>
            </a:r>
            <a:fld id="{46EF78B2-1CF8-44FD-96BB-E5C1BAA67071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Object 7"/>
          <p:cNvGraphicFramePr/>
          <p:nvPr/>
        </p:nvGraphicFramePr>
        <p:xfrm>
          <a:off x="39600" y="0"/>
          <a:ext cx="474840" cy="49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00" y="0"/>
                    <a:ext cx="4748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Text Box 8"/>
          <p:cNvSpPr/>
          <p:nvPr/>
        </p:nvSpPr>
        <p:spPr>
          <a:xfrm>
            <a:off x="616680" y="-72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CMU SC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0-</a:t>
            </a:r>
            <a:fld id="{27AF523C-F823-4173-AFC5-E3552B9A4C68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Object 7"/>
          <p:cNvGraphicFramePr/>
          <p:nvPr/>
        </p:nvGraphicFramePr>
        <p:xfrm>
          <a:off x="39600" y="0"/>
          <a:ext cx="474840" cy="49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00" y="0"/>
                    <a:ext cx="4748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Text Box 8"/>
          <p:cNvSpPr/>
          <p:nvPr/>
        </p:nvSpPr>
        <p:spPr>
          <a:xfrm>
            <a:off x="616680" y="-72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CMU SC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P0-</a:t>
            </a:r>
            <a:fld id="{8D01F511-4B64-4A9B-97F8-DD417B7E50C2}" type="slidenum"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Object 7"/>
          <p:cNvGraphicFramePr/>
          <p:nvPr/>
        </p:nvGraphicFramePr>
        <p:xfrm>
          <a:off x="39600" y="0"/>
          <a:ext cx="474840" cy="49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8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00" y="0"/>
                    <a:ext cx="4748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Text Box 8"/>
          <p:cNvSpPr/>
          <p:nvPr/>
        </p:nvSpPr>
        <p:spPr>
          <a:xfrm>
            <a:off x="616680" y="-72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CMU SC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hadoop.apache.org/core/" TargetMode="External"/><Relationship Id="rId2" Type="http://schemas.openxmlformats.org/officeDocument/2006/relationships/hyperlink" Target="http://hadoop.apache.org/pig/" TargetMode="External"/><Relationship Id="rId3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labs.google.com/people/jeff/" TargetMode="External"/><Relationship Id="rId2" Type="http://schemas.openxmlformats.org/officeDocument/2006/relationships/hyperlink" Target="http://labs.google.com/people/sanjay/" TargetMode="External"/><Relationship Id="rId3" Type="http://schemas.openxmlformats.org/officeDocument/2006/relationships/hyperlink" Target="http://labs.google.com/people/sanjay/" TargetMode="External"/><Relationship Id="rId4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hadoop.apache.org/" TargetMode="External"/><Relationship Id="rId2" Type="http://schemas.openxmlformats.org/officeDocument/2006/relationships/hyperlink" Target="http://hadoop.apache.org/" TargetMode="External"/><Relationship Id="rId3" Type="http://schemas.openxmlformats.org/officeDocument/2006/relationships/hyperlink" Target="http://hadoop.apache.org/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55680" y="1784520"/>
            <a:ext cx="8570880" cy="181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Large Graph Mining:</a:t>
            </a:r>
            <a:br>
              <a:rPr sz="3600"/>
            </a:b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Power Tools and a Practitioner’s guide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839520" y="3871800"/>
            <a:ext cx="7396200" cy="17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ask 8: hadoop and Tera/Peta byte graph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Faloutsos, Miller, Tsourakaki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MU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1F2EC-3475-409C-9F5E-0F98BB58326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D.I.S.C. 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23880" y="1523520"/>
            <a:ext cx="7391520" cy="451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Data Intensive Scientific Computing’ [R. Bryant, CMU]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‘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big data’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ww.cs.cmu.edu/~bryant/pubdir/cmu-cs-07-128.pdf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64" name="Picture 4" descr="bryant-02"/>
          <p:cNvPicPr/>
          <p:nvPr/>
        </p:nvPicPr>
        <p:blipFill>
          <a:blip r:embed="rId1"/>
          <a:stretch/>
        </p:blipFill>
        <p:spPr>
          <a:xfrm>
            <a:off x="380880" y="1523880"/>
            <a:ext cx="1001880" cy="1001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BDBE3-2B1B-4808-88D8-9269D19CC5F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  <a:ea typeface="MS Mincho"/>
              </a:rPr>
              <a:t>~200Gb (Yahoo crawl) - Degree Distribution: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  <a:ea typeface="MS Mincho"/>
              </a:rPr>
              <a:t>in 12 minutes with 50 machin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  <a:ea typeface="MS Mincho"/>
              </a:rPr>
              <a:t>Many link spams at out-degree 1200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838080" y="3505320"/>
            <a:ext cx="7580520" cy="2652480"/>
            <a:chOff x="838080" y="3505320"/>
            <a:chExt cx="7580520" cy="2652480"/>
          </a:xfrm>
        </p:grpSpPr>
        <p:pic>
          <p:nvPicPr>
            <p:cNvPr id="267" name="" descr=""/>
            <p:cNvPicPr/>
            <p:nvPr/>
          </p:nvPicPr>
          <p:blipFill>
            <a:blip r:embed="rId1"/>
            <a:stretch/>
          </p:blipFill>
          <p:spPr>
            <a:xfrm>
              <a:off x="838080" y="3505320"/>
              <a:ext cx="7580520" cy="26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7390080" y="4570920"/>
              <a:ext cx="228240" cy="228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351960" y="4951800"/>
              <a:ext cx="228240" cy="228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Analysis of a large graph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B29F2-4A11-457A-A8B6-FCEFFA442B87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Conclusions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Hadoop: promising architecture for Tera/Peta scale graph mining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Resources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66ff"/>
                </a:solidFill>
                <a:uFillTx/>
                <a:latin typeface="Times New Roman"/>
                <a:hlinkClick r:id="rId1"/>
              </a:rPr>
              <a:t>http://hadoop.apache.org/core/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66ff"/>
                </a:solidFill>
                <a:uFillTx/>
                <a:latin typeface="Times New Roman"/>
                <a:hlinkClick r:id="rId2"/>
              </a:rPr>
              <a:t>http://hadoop.apache.org/pig/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Higher-level language for data processing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35486-AE62-42FE-AD19-3D4ECB26863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References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"/>
              </a:rPr>
              <a:t>Jeffrey Dean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and </a:t>
            </a: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"/>
              </a:rPr>
              <a:t>Sanjay </a:t>
            </a: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3"/>
              </a:rPr>
              <a:t>Ghemawat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MapReduce: Simplified Data Processing on Large Clusters,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OSDI'04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hristopher Olston, Benjamin Reed, Utkarsh Srivastava, Ravi Kumar, Andrew Tomkins: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Pig latin: a not-so-foreign language for data processing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. SIGMOD 2008: 1099-1110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A8C04-59A4-45AD-AF10-CC03DB48FE3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Outline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Introduction – Motiva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1: Node importance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2: Community detec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3: Recommendation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4: Connection sub-graph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5: Mining graphs over tim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6: Virus/influence propaga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7: Spectral graph theor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ask 8: Tera/peta graph mining: hadoop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Observations – patterns of real graph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onclusion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" y="487692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50021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4499B-212B-473B-B7E1-5159301C808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Scalability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How about if graph/tensor does not fit in core?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How about handling huge graphs?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20065-0F7C-4783-AC0E-C7F789C30D1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Scalability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How about if graph/tensor does not fit in core?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[‘MET’: Kolda, Sun, ICMD’08, best paper award]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How about handling huge graphs?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28679-0A65-4A22-89D0-C56FB9C3967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calability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975440" cy="43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Google: &gt; 450,000 processors in clusters of ~2000 processors each [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Barroso, Dean, Hölzle,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 “Web Search for a Planet: The Google Cluster Architecture”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IEEE Micro 2003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Yahoo: 5Pb of data [Fayyad, KDD’07]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roblem: machine failures, on a daily basi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How to parallelize data mining tasks, then?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FB260-24AE-487C-A40D-DBE4176E969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calability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975440" cy="43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Google: &gt; 450,000 processors in clusters of ~2000 processors each [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Barroso, Dean, Hölzle,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 “Web Search for a Planet: The Google Cluster Architecture”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EEE Micro 2003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Yahoo: 5Pb of data [Fayyad, KDD’07]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Problem: machine failures, on a daily basi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How to parallelize data mining tasks, then?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A: map/reduce – hadoop (open-source clone)  </a:t>
            </a:r>
            <a:r>
              <a:rPr b="0" lang="en-US" sz="2400" spc="-1" strike="noStrike" u="sng">
                <a:solidFill>
                  <a:srgbClr val="3366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3366ff"/>
                </a:solidFill>
                <a:uFillTx/>
                <a:latin typeface="Arial"/>
                <a:hlinkClick r:id="rId2"/>
              </a:rPr>
              <a:t>hadoop.apache.org</a:t>
            </a:r>
            <a:r>
              <a:rPr b="0" lang="en-US" sz="2400" spc="-1" strike="noStrike" u="sng">
                <a:solidFill>
                  <a:srgbClr val="3366ff"/>
                </a:solidFill>
                <a:uFillTx/>
                <a:latin typeface="Arial"/>
                <a:hlinkClick r:id="rId3"/>
              </a:rPr>
              <a:t>/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6" name="Picture 5" descr="hadoop-logo"/>
          <p:cNvPicPr/>
          <p:nvPr/>
        </p:nvPicPr>
        <p:blipFill>
          <a:blip r:embed="rId4"/>
          <a:stretch/>
        </p:blipFill>
        <p:spPr>
          <a:xfrm>
            <a:off x="3451320" y="5630760"/>
            <a:ext cx="1834920" cy="43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B9513-F2E8-45C1-BCBF-9C7F52A1E44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2’ intro to hadoop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master-slave architecture; n-way replication (default n=3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group by’ of SQL (in parallel, fault-tolerant way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e.g, find histogram of word frequenc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ompute local histogram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en merge into global histogram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select course-id, count(*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from ENROLLMEN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group by course-id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D2092-7FC4-416F-98AD-93208F3F219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2’ intro to hadoop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master-slave architecture; n-way replication (default n=3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group by’ of SQL (in parallel, fault-tolerant way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e.g, find histogram of word frequenc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ompute local histogram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en merge into global histogram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select course-id, count(*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from ENROLLMEN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group by course-id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6177600" y="5611680"/>
            <a:ext cx="825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cc33"/>
                </a:solidFill>
                <a:latin typeface="Arial"/>
              </a:rPr>
              <a:t>map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6210720" y="4648320"/>
            <a:ext cx="1194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Arial"/>
              </a:rPr>
              <a:t>reduce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3" name="Line 6"/>
          <p:cNvSpPr/>
          <p:nvPr/>
        </p:nvSpPr>
        <p:spPr>
          <a:xfrm>
            <a:off x="3468600" y="5105520"/>
            <a:ext cx="12780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4" name="Line 7"/>
          <p:cNvSpPr/>
          <p:nvPr/>
        </p:nvSpPr>
        <p:spPr>
          <a:xfrm>
            <a:off x="798480" y="5996160"/>
            <a:ext cx="1378080" cy="0"/>
          </a:xfrm>
          <a:prstGeom prst="line">
            <a:avLst/>
          </a:prstGeom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7F58C-273B-459B-B22F-FDD802BD803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Oval 4"/>
          <p:cNvSpPr/>
          <p:nvPr/>
        </p:nvSpPr>
        <p:spPr>
          <a:xfrm>
            <a:off x="3657600" y="304920"/>
            <a:ext cx="1447920" cy="68580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굴림"/>
              </a:rPr>
              <a:t>Use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굴림"/>
              </a:rPr>
              <a:t>Program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6" name="Oval 23"/>
          <p:cNvSpPr/>
          <p:nvPr/>
        </p:nvSpPr>
        <p:spPr>
          <a:xfrm>
            <a:off x="5638680" y="3962520"/>
            <a:ext cx="990720" cy="45720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Reduce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7" name="Oval 24"/>
          <p:cNvSpPr/>
          <p:nvPr/>
        </p:nvSpPr>
        <p:spPr>
          <a:xfrm>
            <a:off x="5638680" y="2971800"/>
            <a:ext cx="990720" cy="45720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Reduce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8" name="Oval 5"/>
          <p:cNvSpPr/>
          <p:nvPr/>
        </p:nvSpPr>
        <p:spPr>
          <a:xfrm>
            <a:off x="3886200" y="1676520"/>
            <a:ext cx="990720" cy="45720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굴림"/>
              </a:rPr>
              <a:t>Maste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09" name="Group 66"/>
          <p:cNvGrpSpPr/>
          <p:nvPr/>
        </p:nvGrpSpPr>
        <p:grpSpPr>
          <a:xfrm>
            <a:off x="1981080" y="838080"/>
            <a:ext cx="4114800" cy="3962160"/>
            <a:chOff x="1981080" y="838080"/>
            <a:chExt cx="4114800" cy="3962160"/>
          </a:xfrm>
        </p:grpSpPr>
        <p:grpSp>
          <p:nvGrpSpPr>
            <p:cNvPr id="210" name="Group 65"/>
            <p:cNvGrpSpPr/>
            <p:nvPr/>
          </p:nvGrpSpPr>
          <p:grpSpPr>
            <a:xfrm>
              <a:off x="1981080" y="2666880"/>
              <a:ext cx="990720" cy="2133360"/>
              <a:chOff x="1981080" y="2666880"/>
              <a:chExt cx="990720" cy="2133360"/>
            </a:xfrm>
          </p:grpSpPr>
          <p:sp>
            <p:nvSpPr>
              <p:cNvPr id="211" name="Oval 6"/>
              <p:cNvSpPr/>
              <p:nvPr/>
            </p:nvSpPr>
            <p:spPr>
              <a:xfrm>
                <a:off x="1981080" y="2666880"/>
                <a:ext cx="990720" cy="457200"/>
              </a:xfrm>
              <a:prstGeom prst="ellipse">
                <a:avLst/>
              </a:prstGeom>
              <a:solidFill>
                <a:srgbClr val="00b050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  <a:ea typeface="굴림"/>
                  </a:rPr>
                  <a:t>Mapper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12" name="Oval 7"/>
              <p:cNvSpPr/>
              <p:nvPr/>
            </p:nvSpPr>
            <p:spPr>
              <a:xfrm>
                <a:off x="1981080" y="3504960"/>
                <a:ext cx="990720" cy="457200"/>
              </a:xfrm>
              <a:prstGeom prst="ellipse">
                <a:avLst/>
              </a:prstGeom>
              <a:solidFill>
                <a:srgbClr val="00b050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  <a:ea typeface="굴림"/>
                  </a:rPr>
                  <a:t>Mapper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13" name="Oval 8"/>
              <p:cNvSpPr/>
              <p:nvPr/>
            </p:nvSpPr>
            <p:spPr>
              <a:xfrm>
                <a:off x="1981080" y="4343040"/>
                <a:ext cx="990720" cy="457200"/>
              </a:xfrm>
              <a:prstGeom prst="ellipse">
                <a:avLst/>
              </a:prstGeom>
              <a:solidFill>
                <a:srgbClr val="00b050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  <a:ea typeface="굴림"/>
                  </a:rPr>
                  <a:t>Mapper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214" name="Group 36"/>
            <p:cNvGrpSpPr/>
            <p:nvPr/>
          </p:nvGrpSpPr>
          <p:grpSpPr>
            <a:xfrm>
              <a:off x="2438280" y="838080"/>
              <a:ext cx="3657600" cy="2057400"/>
              <a:chOff x="2438280" y="838080"/>
              <a:chExt cx="3657600" cy="2057400"/>
            </a:xfrm>
          </p:grpSpPr>
          <p:sp>
            <p:nvSpPr>
              <p:cNvPr id="215" name="Line 30"/>
              <p:cNvSpPr/>
              <p:nvPr/>
            </p:nvSpPr>
            <p:spPr>
              <a:xfrm>
                <a:off x="4343400" y="990360"/>
                <a:ext cx="0" cy="685800"/>
              </a:xfrm>
              <a:prstGeom prst="line">
                <a:avLst/>
              </a:prstGeom>
              <a:ln w="9360">
                <a:solidFill>
                  <a:srgbClr val="000066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16" name="Line 31"/>
              <p:cNvSpPr/>
              <p:nvPr/>
            </p:nvSpPr>
            <p:spPr>
              <a:xfrm flipH="1">
                <a:off x="2438280" y="838080"/>
                <a:ext cx="1371600" cy="1828800"/>
              </a:xfrm>
              <a:prstGeom prst="line">
                <a:avLst/>
              </a:prstGeom>
              <a:ln w="9360">
                <a:solidFill>
                  <a:srgbClr val="000066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17" name="Line 32"/>
              <p:cNvSpPr/>
              <p:nvPr/>
            </p:nvSpPr>
            <p:spPr>
              <a:xfrm>
                <a:off x="5029200" y="838080"/>
                <a:ext cx="1066680" cy="2057400"/>
              </a:xfrm>
              <a:prstGeom prst="line">
                <a:avLst/>
              </a:prstGeom>
              <a:ln w="9360">
                <a:solidFill>
                  <a:srgbClr val="000066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18" name="Text Box 33"/>
              <p:cNvSpPr/>
              <p:nvPr/>
            </p:nvSpPr>
            <p:spPr>
              <a:xfrm>
                <a:off x="2723760" y="1142640"/>
                <a:ext cx="607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  <a:ea typeface="굴림"/>
                  </a:rPr>
                  <a:t>fork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19" name="Text Box 34"/>
              <p:cNvSpPr/>
              <p:nvPr/>
            </p:nvSpPr>
            <p:spPr>
              <a:xfrm>
                <a:off x="3765240" y="1080720"/>
                <a:ext cx="607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  <a:ea typeface="굴림"/>
                  </a:rPr>
                  <a:t>fork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20" name="Text Box 35"/>
              <p:cNvSpPr/>
              <p:nvPr/>
            </p:nvSpPr>
            <p:spPr>
              <a:xfrm>
                <a:off x="5238360" y="1066680"/>
                <a:ext cx="607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  <a:ea typeface="굴림"/>
                  </a:rPr>
                  <a:t>fork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221" name="Line 37"/>
          <p:cNvSpPr/>
          <p:nvPr/>
        </p:nvSpPr>
        <p:spPr>
          <a:xfrm flipH="1">
            <a:off x="2895480" y="1981080"/>
            <a:ext cx="990720" cy="76212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2" name="Line 38"/>
          <p:cNvSpPr/>
          <p:nvPr/>
        </p:nvSpPr>
        <p:spPr>
          <a:xfrm>
            <a:off x="4876920" y="1981080"/>
            <a:ext cx="914400" cy="99072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3" name="Text Box 39"/>
          <p:cNvSpPr/>
          <p:nvPr/>
        </p:nvSpPr>
        <p:spPr>
          <a:xfrm>
            <a:off x="3048120" y="1905120"/>
            <a:ext cx="114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굴림"/>
              </a:rPr>
              <a:t>assig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굴림"/>
              </a:rPr>
              <a:t>map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4" name="Text Box 40"/>
          <p:cNvSpPr/>
          <p:nvPr/>
        </p:nvSpPr>
        <p:spPr>
          <a:xfrm>
            <a:off x="5002200" y="2057400"/>
            <a:ext cx="86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굴림"/>
              </a:rPr>
              <a:t>assig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굴림"/>
              </a:rPr>
              <a:t>reduc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25" name="Group 46"/>
          <p:cNvGrpSpPr/>
          <p:nvPr/>
        </p:nvGrpSpPr>
        <p:grpSpPr>
          <a:xfrm>
            <a:off x="1064160" y="2895120"/>
            <a:ext cx="916920" cy="1676520"/>
            <a:chOff x="1064160" y="2895120"/>
            <a:chExt cx="916920" cy="1676520"/>
          </a:xfrm>
        </p:grpSpPr>
        <p:sp>
          <p:nvSpPr>
            <p:cNvPr id="226" name="Line 42"/>
            <p:cNvSpPr/>
            <p:nvPr/>
          </p:nvSpPr>
          <p:spPr>
            <a:xfrm flipV="1">
              <a:off x="1066680" y="2895120"/>
              <a:ext cx="914400" cy="5331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7" name="Line 43"/>
            <p:cNvSpPr/>
            <p:nvPr/>
          </p:nvSpPr>
          <p:spPr>
            <a:xfrm>
              <a:off x="1066680" y="3733560"/>
              <a:ext cx="91440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8" name="Line 44"/>
            <p:cNvSpPr/>
            <p:nvPr/>
          </p:nvSpPr>
          <p:spPr>
            <a:xfrm>
              <a:off x="1066680" y="4038480"/>
              <a:ext cx="914400" cy="5331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9" name="Text Box 45"/>
            <p:cNvSpPr/>
            <p:nvPr/>
          </p:nvSpPr>
          <p:spPr>
            <a:xfrm>
              <a:off x="1064160" y="335268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  <a:ea typeface="굴림"/>
                </a:rPr>
                <a:t>read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30" name="Group 16"/>
          <p:cNvGrpSpPr/>
          <p:nvPr/>
        </p:nvGrpSpPr>
        <p:grpSpPr>
          <a:xfrm>
            <a:off x="4114800" y="2666880"/>
            <a:ext cx="457200" cy="457200"/>
            <a:chOff x="4114800" y="2666880"/>
            <a:chExt cx="457200" cy="457200"/>
          </a:xfrm>
        </p:grpSpPr>
        <p:sp>
          <p:nvSpPr>
            <p:cNvPr id="231" name="Rectangle 14"/>
            <p:cNvSpPr/>
            <p:nvPr/>
          </p:nvSpPr>
          <p:spPr>
            <a:xfrm>
              <a:off x="4114800" y="2666880"/>
              <a:ext cx="228600" cy="457200"/>
            </a:xfrm>
            <a:prstGeom prst="rect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2" name="Rectangle 15"/>
            <p:cNvSpPr/>
            <p:nvPr/>
          </p:nvSpPr>
          <p:spPr>
            <a:xfrm>
              <a:off x="4343400" y="2666880"/>
              <a:ext cx="228600" cy="457200"/>
            </a:xfrm>
            <a:prstGeom prst="rect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33" name="Group 17"/>
          <p:cNvGrpSpPr/>
          <p:nvPr/>
        </p:nvGrpSpPr>
        <p:grpSpPr>
          <a:xfrm>
            <a:off x="4114800" y="3505320"/>
            <a:ext cx="457200" cy="457200"/>
            <a:chOff x="4114800" y="3505320"/>
            <a:chExt cx="457200" cy="457200"/>
          </a:xfrm>
        </p:grpSpPr>
        <p:sp>
          <p:nvSpPr>
            <p:cNvPr id="234" name="Rectangle 18"/>
            <p:cNvSpPr/>
            <p:nvPr/>
          </p:nvSpPr>
          <p:spPr>
            <a:xfrm>
              <a:off x="4114800" y="3505320"/>
              <a:ext cx="228600" cy="457200"/>
            </a:xfrm>
            <a:prstGeom prst="rect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5" name="Rectangle 19"/>
            <p:cNvSpPr/>
            <p:nvPr/>
          </p:nvSpPr>
          <p:spPr>
            <a:xfrm>
              <a:off x="4343400" y="3505320"/>
              <a:ext cx="228600" cy="457200"/>
            </a:xfrm>
            <a:prstGeom prst="rect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36" name="Group 20"/>
          <p:cNvGrpSpPr/>
          <p:nvPr/>
        </p:nvGrpSpPr>
        <p:grpSpPr>
          <a:xfrm>
            <a:off x="4114800" y="4343400"/>
            <a:ext cx="457200" cy="457200"/>
            <a:chOff x="4114800" y="4343400"/>
            <a:chExt cx="457200" cy="457200"/>
          </a:xfrm>
        </p:grpSpPr>
        <p:sp>
          <p:nvSpPr>
            <p:cNvPr id="237" name="Rectangle 21"/>
            <p:cNvSpPr/>
            <p:nvPr/>
          </p:nvSpPr>
          <p:spPr>
            <a:xfrm>
              <a:off x="4114800" y="4343400"/>
              <a:ext cx="228600" cy="457200"/>
            </a:xfrm>
            <a:prstGeom prst="rect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8" name="Rectangle 22"/>
            <p:cNvSpPr/>
            <p:nvPr/>
          </p:nvSpPr>
          <p:spPr>
            <a:xfrm>
              <a:off x="4343400" y="4343400"/>
              <a:ext cx="228600" cy="457200"/>
            </a:xfrm>
            <a:prstGeom prst="rect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39" name="Line 47"/>
          <p:cNvSpPr/>
          <p:nvPr/>
        </p:nvSpPr>
        <p:spPr>
          <a:xfrm>
            <a:off x="2971800" y="2895480"/>
            <a:ext cx="114300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0" name="Line 48"/>
          <p:cNvSpPr/>
          <p:nvPr/>
        </p:nvSpPr>
        <p:spPr>
          <a:xfrm>
            <a:off x="2971800" y="3733920"/>
            <a:ext cx="114300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1" name="Line 49"/>
          <p:cNvSpPr/>
          <p:nvPr/>
        </p:nvSpPr>
        <p:spPr>
          <a:xfrm>
            <a:off x="2971800" y="4572000"/>
            <a:ext cx="114300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2" name="Text Box 50"/>
          <p:cNvSpPr/>
          <p:nvPr/>
        </p:nvSpPr>
        <p:spPr>
          <a:xfrm>
            <a:off x="3116880" y="3092400"/>
            <a:ext cx="70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굴림"/>
              </a:rPr>
              <a:t>loca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굴림"/>
              </a:rPr>
              <a:t>writ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3" name="Line 52"/>
          <p:cNvSpPr/>
          <p:nvPr/>
        </p:nvSpPr>
        <p:spPr>
          <a:xfrm>
            <a:off x="4572000" y="2895480"/>
            <a:ext cx="1066680" cy="30492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4" name="Line 53"/>
          <p:cNvSpPr/>
          <p:nvPr/>
        </p:nvSpPr>
        <p:spPr>
          <a:xfrm>
            <a:off x="4572000" y="2895480"/>
            <a:ext cx="1066680" cy="129564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5" name="Line 54"/>
          <p:cNvSpPr/>
          <p:nvPr/>
        </p:nvSpPr>
        <p:spPr>
          <a:xfrm flipV="1">
            <a:off x="4572000" y="3200400"/>
            <a:ext cx="1066680" cy="53352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6" name="Line 55"/>
          <p:cNvSpPr/>
          <p:nvPr/>
        </p:nvSpPr>
        <p:spPr>
          <a:xfrm>
            <a:off x="4572000" y="3733920"/>
            <a:ext cx="1066680" cy="4572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Line 56"/>
          <p:cNvSpPr/>
          <p:nvPr/>
        </p:nvSpPr>
        <p:spPr>
          <a:xfrm flipV="1">
            <a:off x="4572000" y="3276720"/>
            <a:ext cx="1066680" cy="12952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8" name="Line 57"/>
          <p:cNvSpPr/>
          <p:nvPr/>
        </p:nvSpPr>
        <p:spPr>
          <a:xfrm flipV="1">
            <a:off x="4572000" y="4191120"/>
            <a:ext cx="1066680" cy="3808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9" name="Text Box 58"/>
          <p:cNvSpPr/>
          <p:nvPr/>
        </p:nvSpPr>
        <p:spPr>
          <a:xfrm>
            <a:off x="4648320" y="4572000"/>
            <a:ext cx="160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굴림"/>
              </a:rPr>
              <a:t>remote read,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굴림"/>
              </a:rPr>
              <a:t>sor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50" name="Group 63"/>
          <p:cNvGrpSpPr/>
          <p:nvPr/>
        </p:nvGrpSpPr>
        <p:grpSpPr>
          <a:xfrm>
            <a:off x="6629400" y="2819520"/>
            <a:ext cx="1981080" cy="1600200"/>
            <a:chOff x="6629400" y="2819520"/>
            <a:chExt cx="1981080" cy="1600200"/>
          </a:xfrm>
        </p:grpSpPr>
        <p:sp>
          <p:nvSpPr>
            <p:cNvPr id="251" name="Rectangle 27"/>
            <p:cNvSpPr/>
            <p:nvPr/>
          </p:nvSpPr>
          <p:spPr>
            <a:xfrm>
              <a:off x="7696080" y="2819520"/>
              <a:ext cx="9144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  <a:ea typeface="굴림"/>
                </a:rPr>
                <a:t>Output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  <a:ea typeface="굴림"/>
                </a:rPr>
                <a:t>File</a:t>
              </a:r>
              <a:r>
                <a:rPr b="1" lang="en-US" sz="26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  <a:ea typeface="굴림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2" name="Rectangle 28"/>
            <p:cNvSpPr/>
            <p:nvPr/>
          </p:nvSpPr>
          <p:spPr>
            <a:xfrm>
              <a:off x="7696080" y="3810240"/>
              <a:ext cx="9144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  <a:ea typeface="굴림"/>
                </a:rPr>
                <a:t>Output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  <a:ea typeface="굴림"/>
                </a:rPr>
                <a:t>File</a:t>
              </a:r>
              <a:r>
                <a:rPr b="1" lang="en-US" sz="26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  <a:ea typeface="굴림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3" name="Line 60"/>
            <p:cNvSpPr/>
            <p:nvPr/>
          </p:nvSpPr>
          <p:spPr>
            <a:xfrm>
              <a:off x="6629400" y="3200400"/>
              <a:ext cx="106668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4" name="Line 61"/>
            <p:cNvSpPr/>
            <p:nvPr/>
          </p:nvSpPr>
          <p:spPr>
            <a:xfrm>
              <a:off x="6629400" y="4191120"/>
              <a:ext cx="106668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5" name="Text Box 62"/>
            <p:cNvSpPr/>
            <p:nvPr/>
          </p:nvSpPr>
          <p:spPr>
            <a:xfrm>
              <a:off x="6680880" y="285120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  <a:ea typeface="굴림"/>
                </a:rPr>
                <a:t>write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56" name="Group 64"/>
          <p:cNvGrpSpPr/>
          <p:nvPr/>
        </p:nvGrpSpPr>
        <p:grpSpPr>
          <a:xfrm>
            <a:off x="228600" y="3276720"/>
            <a:ext cx="838080" cy="914400"/>
            <a:chOff x="228600" y="3276720"/>
            <a:chExt cx="838080" cy="914400"/>
          </a:xfrm>
        </p:grpSpPr>
        <p:sp>
          <p:nvSpPr>
            <p:cNvPr id="257" name="Rectangle 9"/>
            <p:cNvSpPr/>
            <p:nvPr/>
          </p:nvSpPr>
          <p:spPr>
            <a:xfrm>
              <a:off x="228600" y="3276720"/>
              <a:ext cx="838080" cy="304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  <a:ea typeface="굴림"/>
                </a:rPr>
                <a:t>Split</a:t>
              </a:r>
              <a:r>
                <a:rPr b="1" lang="en-US" sz="26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  <a:ea typeface="굴림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8" name="Rectangle 10"/>
            <p:cNvSpPr/>
            <p:nvPr/>
          </p:nvSpPr>
          <p:spPr>
            <a:xfrm>
              <a:off x="228600" y="3581640"/>
              <a:ext cx="838080" cy="304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  <a:ea typeface="굴림"/>
                </a:rPr>
                <a:t>Split</a:t>
              </a:r>
              <a:r>
                <a:rPr b="1" lang="en-US" sz="26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  <a:ea typeface="굴림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9" name="Rectangle 11"/>
            <p:cNvSpPr/>
            <p:nvPr/>
          </p:nvSpPr>
          <p:spPr>
            <a:xfrm>
              <a:off x="228600" y="3886200"/>
              <a:ext cx="838080" cy="304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  <a:ea typeface="굴림"/>
                </a:rPr>
                <a:t>Split</a:t>
              </a:r>
              <a:r>
                <a:rPr b="1" lang="en-US" sz="26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  <a:ea typeface="굴림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60" name="Text Box 69"/>
          <p:cNvSpPr/>
          <p:nvPr/>
        </p:nvSpPr>
        <p:spPr>
          <a:xfrm>
            <a:off x="180720" y="2209680"/>
            <a:ext cx="13176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굴림"/>
              </a:rPr>
              <a:t>Input</a:t>
            </a:r>
            <a:r>
              <a:rPr b="1" lang="en-US" sz="2600" spc="-1" strike="noStrike">
                <a:solidFill>
                  <a:srgbClr val="000066"/>
                </a:solidFill>
                <a:latin typeface="Calibri"/>
                <a:ea typeface="굴림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굴림"/>
              </a:rPr>
              <a:t>Data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굴림"/>
              </a:rPr>
              <a:t>(on</a:t>
            </a:r>
            <a:r>
              <a:rPr b="0" lang="en-US" sz="2000" spc="-1" strike="noStrike">
                <a:solidFill>
                  <a:srgbClr val="000066"/>
                </a:solidFill>
                <a:latin typeface="Calibri"/>
                <a:ea typeface="굴림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굴림"/>
              </a:rPr>
              <a:t>HDFS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1" name="Text Box 68"/>
          <p:cNvSpPr/>
          <p:nvPr/>
        </p:nvSpPr>
        <p:spPr>
          <a:xfrm>
            <a:off x="345960" y="5410080"/>
            <a:ext cx="635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By default: 3-way replication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Late/dead machines: ignored,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transparently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(!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1F2F8-C494-4B75-AC97-2C90B588BBE3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7T05:13:27Z</dcterms:created>
  <dc:creator/>
  <dc:description/>
  <dc:language>en-US</dc:language>
  <cp:lastModifiedBy>christos</cp:lastModifiedBy>
  <dcterms:modified xsi:type="dcterms:W3CDTF">2009-06-05T15:38:59Z</dcterms:modified>
  <cp:revision>188</cp:revision>
  <dc:subject/>
  <dc:title>Large graph mining</dc:title>
</cp:coreProperties>
</file>