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B0DF03-6B4C-4392-A8E3-C8E6531CC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21C80B-D89B-4F40-A47E-C9C07846819D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806000-C296-4F0A-8568-0654A727E326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B26C05-D8C7-4A56-8979-9104F2579DE1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3CF33A-B896-4CB3-9260-1DD5A4C62B0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148-528B-418B-8947-B456CA5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C16-5919-45CB-BA87-B161B2AB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F80-80E8-476F-8E59-96192EEB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15E-76DB-44DE-BEB9-6037E4AD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203-E22C-41AC-B896-957C0933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3AB4-11F9-4B85-B748-EFC6D7B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97FE-DD2B-4411-A1E8-2D89285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9DA-4D01-40B6-8FF7-B89AF825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0C2E-E2CF-4F91-B5FE-95C08C6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4E55-86D1-4FC3-8926-C055B037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125-0F68-4BD3-A0F5-7B80C55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92B-924B-449A-BA82-DBC12DA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D60D-F388-49BB-B1AF-5A55A9B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0F9-E34C-4B9E-B83B-B5456FA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CD26-27A8-4A4B-9E75-82DC7025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E370-5D7F-49F1-A402-2077384E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EAD-97FE-423E-84B4-1394E946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95E5-9140-4E12-BECA-E3D2DC48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0297-538A-4D11-A620-B3E94486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13A5-6D7D-447D-B50C-B6AB593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D363-30AA-490D-9246-723D71CA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8252-05FA-4DA8-9F30-3DE77EC5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FD3-A1AA-4FCE-92B8-74F45D0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CA8D-B8D5-44F5-947B-665D4CA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ED59-8AA6-48CF-AE8A-187563C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7A89-DBED-4926-B072-E2CB1A1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92AA-CD6A-4541-8F84-B7EB699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9AC9-2058-4595-AB4D-0B068D96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7657-184D-4B05-B2A7-B2BC227A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FBFE-9417-4EEF-B825-A86CF60D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1CC4-829D-4B43-B934-5A80DCE6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C53E-EA03-489E-AB6C-B5E90AA1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D0E4-58D7-425C-BF80-F3218CDA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3D4-4D13-4495-8606-07E92F5B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6922-E346-4852-BB1C-6BF526ED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AA6C-6E23-43BC-8B9E-4E98E8F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5E22-14BB-4017-AD28-CDEFD27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8F5D-4538-4CFA-B0E5-7525C1A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E5D91-A404-4D0F-9EF8-2AE07C9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6A08-E9CC-4435-A4A8-F2CB8BE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E2C2-254E-474D-87E4-41F585CE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84AA-446D-4022-8D40-53D08F92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99E2-929A-48D1-8997-04989779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441-4E34-4B84-B81B-C531EDA8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FB0-52DA-47F9-95B2-276C126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7AF-0687-49C4-B10C-7B28397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1E1-34A4-4658-B3B6-E8CFCAB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A75-84D6-44D6-9F3D-1C4BAC0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2AD53F35-81FD-41C8-A749-9A9A18F3E63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2-</a:t>
            </a:r>
            <a:fld id="{188F105B-E515-4A7C-AC32-E156F05D0DD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27C12DBC-C929-4C74-8485-49EF01BBD90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BAAA299F-282B-4577-AB27-C3CC555B7095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s.cmu.edu/~deepay/mywww/software/CrossAssociations-01-27-2005.tgz" TargetMode="External"/><Relationship Id="rId2" Type="http://schemas.openxmlformats.org/officeDocument/2006/relationships/hyperlink" Target="http://www.cs.cmu.edu/~deepay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si.edu/scan/mercator/maps.html" TargetMode="External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mn.edu/~metis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E543-EDF3-4B45-AEA9-A86E44DFBE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EC4E-8184-4A23-84DC-C01751EE6B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 defini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bi-partite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vide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lso applicable to uni-partite graph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4CA5-E22C-4175-8C6C-2A2AF2CA3F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data matrix and the number of row and column group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ultaneous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row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column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1828800" y="4267080"/>
            <a:ext cx="4740120" cy="2044440"/>
            <a:chOff x="1828800" y="4267080"/>
            <a:chExt cx="4740120" cy="2044440"/>
          </a:xfrm>
        </p:grpSpPr>
        <p:pic>
          <p:nvPicPr>
            <p:cNvPr id="265" name="Picture 6" descr="PZ"/>
            <p:cNvPicPr/>
            <p:nvPr/>
          </p:nvPicPr>
          <p:blipFill>
            <a:blip r:embed="rId1"/>
            <a:stretch/>
          </p:blipFill>
          <p:spPr>
            <a:xfrm>
              <a:off x="1828800" y="44193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" descr="cave"/>
            <p:cNvPicPr/>
            <p:nvPr/>
          </p:nvPicPr>
          <p:blipFill>
            <a:blip r:embed="rId2"/>
            <a:stretch/>
          </p:blipFill>
          <p:spPr>
            <a:xfrm>
              <a:off x="4648320" y="42670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8"/>
            <p:cNvSpPr/>
            <p:nvPr/>
          </p:nvSpPr>
          <p:spPr>
            <a:xfrm>
              <a:off x="3811680" y="51814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105520" y="42670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F153-580A-47D3-B582-5B576D05B7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26E6A786-AD97-4E69-B3B7-CDDD545E995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e discrete random vari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Y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ake values in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m}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n}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p(X, Y)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notes the joint probability distribution—if not known, it is often estimated based o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-occurrenc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 areas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ext mi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market-basket analysis, analysis of browsing behavior, etc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ey Obstacles in Clustering Contingency T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igh Dimensionality, Sparsity, Noi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ed for robust and scalable algorithm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hillon et al. Information-Theoretic Co-clustering, KDD’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6281-AFBA-40CB-A759-79D0D567C1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280044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16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262908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26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27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29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30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012-B9D1-47E6-BA0A-B062DDA3B9C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Line 22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5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7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4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305280" y="5819760"/>
            <a:ext cx="1799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1D1-CDC9-4D37-BDC3-A4D753908A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s KL divergence, instead of L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middle matrix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ag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’ll see that again in the Tucker tensor decom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/w 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ww.cs.utexas.edu/users/dml/Software/cocluster.ht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8AA-6F94-4A52-B9A2-5EDDACBA3B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k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k,l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3276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E2B-9DE5-4D1E-98B1-4155CEBB49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Problem with Information Theoretic Co-clustering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umber of row and column groups must be specifi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grap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2F5-D171-4FFC-B9A1-7182AE8249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ross-associ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89280" y="1295280"/>
            <a:ext cx="4740120" cy="2044440"/>
            <a:chOff x="1889280" y="1295280"/>
            <a:chExt cx="4740120" cy="204444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889280" y="14475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4708800" y="12952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872160" y="22096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6000" y="12952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matr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Chakrabarti et al. Fully Automatic Cross-Associations, KDD’0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F2C3-9478-498F-A88E-9CC0262CF3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E79-59EE-4695-8905-10AB2333DC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FB3-89C2-4416-BA23-37C5F31E1B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53640" y="4800600"/>
            <a:ext cx="444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pler; easier to describ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asier to compres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910-ACA7-44EC-89B0-F31D8721AA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44640" y="1905120"/>
            <a:ext cx="3627360" cy="1460520"/>
            <a:chOff x="944640" y="1905120"/>
            <a:chExt cx="3627360" cy="146052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944640" y="1949400"/>
              <a:ext cx="137160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3157560" y="1905120"/>
              <a:ext cx="14144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6095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191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120320" y="247968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120320" y="283356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09480" y="3505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: given an encoding sche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cide on the # of col. and row group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reorder rows and colum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achieve best compre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188-1FBF-4936-A585-C3D0E05EAD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ain Idea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2819520"/>
            <a:ext cx="8229600" cy="1755720"/>
            <a:chOff x="228600" y="2819520"/>
            <a:chExt cx="8229600" cy="1755720"/>
          </a:xfrm>
        </p:grpSpPr>
        <p:sp>
          <p:nvSpPr>
            <p:cNvPr id="380" name=""/>
            <p:cNvSpPr/>
            <p:nvPr/>
          </p:nvSpPr>
          <p:spPr>
            <a:xfrm>
              <a:off x="3962520" y="289548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ze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* H(x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 +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281952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describing cross-association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4533840" y="2644560"/>
              <a:ext cx="380880" cy="198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048440" y="2568240"/>
              <a:ext cx="380880" cy="2133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9880" y="39020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de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8520" y="374976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Description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1280" y="29113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0000"/>
                  </a:solidFill>
                  <a:latin typeface="Arial"/>
                </a:rPr>
                <a:t>Σ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860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Total Encoding Cost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066680" y="1727280"/>
            <a:ext cx="228600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Compr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210816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727280"/>
            <a:ext cx="198108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Clust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4724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mize the total cost (# bit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lossless compres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B3F3-27C5-41E9-BF46-04D70CF86E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582560"/>
            <a:ext cx="7696080" cy="4286160"/>
            <a:chOff x="685800" y="1582560"/>
            <a:chExt cx="7696080" cy="428616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563868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144792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430440" y="2711520"/>
              <a:ext cx="2132280" cy="152280"/>
            </a:xfrm>
            <a:prstGeom prst="rightArrow">
              <a:avLst>
                <a:gd name="adj1" fmla="val 50000"/>
                <a:gd name="adj2" fmla="val 350059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3468200">
              <a:off x="6972120" y="389196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400000">
              <a:off x="6773400" y="271764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k = 5 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85800" y="3618000"/>
              <a:ext cx="1149480" cy="2250720"/>
              <a:chOff x="685800" y="3618000"/>
              <a:chExt cx="1149480" cy="225072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7915200">
                <a:off x="1206360" y="3847680"/>
                <a:ext cx="685800" cy="152640"/>
              </a:xfrm>
              <a:prstGeom prst="rightArrow">
                <a:avLst>
                  <a:gd name="adj1" fmla="val 50000"/>
                  <a:gd name="adj2" fmla="val 112323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8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1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600200" y="4233960"/>
              <a:ext cx="1143000" cy="1602720"/>
              <a:chOff x="1600200" y="4233960"/>
              <a:chExt cx="1143000" cy="1602720"/>
            </a:xfrm>
          </p:grpSpPr>
          <p:pic>
            <p:nvPicPr>
              <p:cNvPr id="4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600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81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43200" y="4235400"/>
              <a:ext cx="1066680" cy="1601280"/>
              <a:chOff x="2743200" y="4235400"/>
              <a:chExt cx="1066680" cy="1601280"/>
            </a:xfrm>
          </p:grpSpPr>
          <p:pic>
            <p:nvPicPr>
              <p:cNvPr id="4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423540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2743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4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809880" y="4233960"/>
              <a:ext cx="1143000" cy="1634760"/>
              <a:chOff x="3809880" y="4233960"/>
              <a:chExt cx="1143000" cy="1634760"/>
            </a:xfrm>
          </p:grpSpPr>
          <p:pic>
            <p:nvPicPr>
              <p:cNvPr id="4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8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3809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67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952880" y="4233960"/>
              <a:ext cx="1143000" cy="1634760"/>
              <a:chOff x="4952880" y="4233960"/>
              <a:chExt cx="1143000" cy="163476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1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4952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0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5880" y="4233960"/>
              <a:ext cx="1143000" cy="1634760"/>
              <a:chOff x="6095880" y="4233960"/>
              <a:chExt cx="1143000" cy="1634760"/>
            </a:xfrm>
          </p:grpSpPr>
          <p:pic>
            <p:nvPicPr>
              <p:cNvPr id="42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6095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53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238880" y="4233960"/>
              <a:ext cx="1143000" cy="1634760"/>
              <a:chOff x="7238880" y="4233960"/>
              <a:chExt cx="1143000" cy="1634760"/>
            </a:xfrm>
          </p:grpSpPr>
          <p:pic>
            <p:nvPicPr>
              <p:cNvPr id="4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67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7238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96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5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019920" y="1797120"/>
              <a:ext cx="1218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15000" y="158256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 = 5 col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146-5279-4BE3-8047-BD0514D6D7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657600" y="1523880"/>
            <a:ext cx="5105520" cy="449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IC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,893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,303 wo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4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76,347 “dot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bination of 3 sourc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 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SI (info.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F55-8D63-41E6-AAA0-C193713C50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19112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29000" y="2590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8380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114300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4259160"/>
            <a:ext cx="4876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12D3-D5F8-4C65-8B1A-B457BDE898F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1143000"/>
            <a:ext cx="35816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sipidus, alveolar, aortic, death, prognosis, intravenou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285920"/>
            <a:ext cx="37339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ood, disease, clinical, cell, tissue, pati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1895400"/>
            <a:ext cx="30456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00240" y="1895400"/>
            <a:ext cx="1522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2428920"/>
            <a:ext cx="53352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2428920"/>
            <a:ext cx="22860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8A2-E9EB-4682-AF0C-069599EB18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2428920"/>
            <a:ext cx="914400" cy="304812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447920"/>
            <a:ext cx="38862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roviding, studying, records, development, students, r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1895400"/>
            <a:ext cx="30492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1143000"/>
            <a:ext cx="34290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bstract, notation, works, construct, bibliograph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486040" y="1895400"/>
            <a:ext cx="15228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FB87-8157-46C4-B976-F8FC4A1EDE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2428920"/>
            <a:ext cx="609480" cy="304812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1143000"/>
            <a:ext cx="289548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hape, nasa, leading, assumed, th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867280" y="1895400"/>
            <a:ext cx="152640" cy="5335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F1F3-2A9D-4321-98C3-69C06E1511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133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FF1-1822-41D8-8E52-ECC9BA0B6F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1285920"/>
            <a:ext cx="2971800" cy="703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int, examination, fall, raise, leave, bas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895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182C-A889-43D2-8B70-8AE8AC7C964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de for cross-associations (matlab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ff"/>
                </a:solidFill>
                <a:uFillTx/>
                <a:latin typeface="宋体"/>
                <a:hlinkClick r:id="rId1"/>
              </a:rPr>
              <a:t>www.cs.cmu.edu/~deepay/mywww/software/CrossAssociations-01-27-2005.tg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tions and extens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opart’ [Chakrabarti, PKDD’04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宋体"/>
                <a:hlinkClick r:id="rId2"/>
              </a:rPr>
              <a:t>www.cs.cmu.edu/~deep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5" name="Rectangle 3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10162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FA0C-FAC0-4738-8015-8987F75F9D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adoop implementation [ICDM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8" name="Rectangle 3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1182600" cy="13352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5791320"/>
            <a:ext cx="9144000" cy="1099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piros Papadimitriou, Jimeng Sun: DisCo: Distributed Co-clustering with Map-Reduce: A Case Study towards Petabyte-Scale End-to-End Mining. ICDM 2008: 512-521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Rectangle 3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142848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F3B-9F92-429F-900B-C37156863F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3886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F6D-8509-4B94-9D3A-A70EB38727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1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s – there are nodes with huge degree (&gt;O(10^4), in facebook/linkedIn popularity contests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2072-70A1-485D-8F45-AEF9B11D9A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19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24" name=""/>
            <p:cNvCxnSpPr>
              <a:stCxn id="519" idx="6"/>
              <a:endCxn id="520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5" name=""/>
            <p:cNvCxnSpPr>
              <a:stCxn id="519" idx="3"/>
              <a:endCxn id="523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6" name=""/>
            <p:cNvCxnSpPr>
              <a:stCxn id="519" idx="5"/>
              <a:endCxn id="522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7" name=""/>
            <p:cNvCxnSpPr>
              <a:stCxn id="519" idx="6"/>
              <a:endCxn id="521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8" name=""/>
            <p:cNvCxnSpPr>
              <a:stCxn id="520" idx="4"/>
              <a:endCxn id="521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9" name=""/>
            <p:cNvCxnSpPr>
              <a:stCxn id="520" idx="2"/>
              <a:endCxn id="522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0" name=""/>
            <p:cNvCxnSpPr>
              <a:stCxn id="523" idx="5"/>
              <a:endCxn id="522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1" name=""/>
            <p:cNvCxnSpPr>
              <a:stCxn id="522" idx="7"/>
              <a:endCxn id="521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1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3" name=""/>
            <p:cNvCxnSpPr>
              <a:stCxn id="520" idx="2"/>
              <a:endCxn id="523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34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4" idx="6"/>
            <a:endCxn id="535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0" name=""/>
          <p:cNvCxnSpPr>
            <a:stCxn id="534" idx="3"/>
            <a:endCxn id="538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1" name=""/>
          <p:cNvCxnSpPr>
            <a:stCxn id="534" idx="5"/>
            <a:endCxn id="537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2" name=""/>
          <p:cNvCxnSpPr>
            <a:stCxn id="534" idx="6"/>
            <a:endCxn id="536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3" name=""/>
          <p:cNvCxnSpPr>
            <a:stCxn id="535" idx="4"/>
            <a:endCxn id="536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4" name=""/>
          <p:cNvCxnSpPr>
            <a:stCxn id="535" idx="2"/>
            <a:endCxn id="537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5" name=""/>
          <p:cNvCxnSpPr>
            <a:stCxn id="538" idx="5"/>
            <a:endCxn id="537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6" name=""/>
          <p:cNvCxnSpPr>
            <a:stCxn id="537" idx="7"/>
            <a:endCxn id="536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7" name=""/>
          <p:cNvCxnSpPr>
            <a:stCxn id="538" idx="6"/>
            <a:endCxn id="536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8" name=""/>
          <p:cNvCxnSpPr>
            <a:stCxn id="535" idx="2"/>
            <a:endCxn id="538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49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7" idx="3"/>
            <a:endCxn id="549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6" name=""/>
          <p:cNvCxnSpPr>
            <a:stCxn id="537" idx="4"/>
            <a:endCxn id="550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7" name=""/>
          <p:cNvCxnSpPr>
            <a:stCxn id="537" idx="5"/>
            <a:endCxn id="551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8" name=""/>
          <p:cNvCxnSpPr>
            <a:stCxn id="536" idx="5"/>
            <a:endCxn id="553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9" name=""/>
          <p:cNvCxnSpPr>
            <a:stCxn id="536" idx="6"/>
            <a:endCxn id="554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60" name=""/>
          <p:cNvCxnSpPr>
            <a:stCxn id="536" idx="7"/>
            <a:endCxn id="552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EA4-D733-471C-85DD-E52B6FAA8A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,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64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4" idx="6"/>
              <a:endCxn id="565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0" name=""/>
            <p:cNvCxnSpPr>
              <a:stCxn id="564" idx="3"/>
              <a:endCxn id="568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1" name=""/>
            <p:cNvCxnSpPr>
              <a:stCxn id="564" idx="5"/>
              <a:endCxn id="567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2" name=""/>
            <p:cNvCxnSpPr>
              <a:stCxn id="564" idx="6"/>
              <a:endCxn id="566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3" name=""/>
            <p:cNvCxnSpPr>
              <a:stCxn id="565" idx="4"/>
              <a:endCxn id="566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4" name=""/>
            <p:cNvCxnSpPr>
              <a:stCxn id="565" idx="2"/>
              <a:endCxn id="567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5" name=""/>
            <p:cNvCxnSpPr>
              <a:stCxn id="568" idx="5"/>
              <a:endCxn id="567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6" name=""/>
            <p:cNvCxnSpPr>
              <a:stCxn id="567" idx="7"/>
              <a:endCxn id="566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7" name=""/>
            <p:cNvCxnSpPr>
              <a:stCxn id="568" idx="6"/>
              <a:endCxn id="566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8" name=""/>
            <p:cNvCxnSpPr>
              <a:stCxn id="565" idx="2"/>
              <a:endCxn id="568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79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84" name=""/>
          <p:cNvCxnSpPr>
            <a:stCxn id="579" idx="6"/>
            <a:endCxn id="580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5" name=""/>
          <p:cNvCxnSpPr>
            <a:stCxn id="579" idx="3"/>
            <a:endCxn id="583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6" name=""/>
          <p:cNvCxnSpPr>
            <a:stCxn id="579" idx="5"/>
            <a:endCxn id="582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7" name=""/>
          <p:cNvCxnSpPr>
            <a:stCxn id="579" idx="6"/>
            <a:endCxn id="581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8" name=""/>
          <p:cNvCxnSpPr>
            <a:stCxn id="580" idx="4"/>
            <a:endCxn id="581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9" name=""/>
          <p:cNvCxnSpPr>
            <a:stCxn id="580" idx="2"/>
            <a:endCxn id="582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0" name=""/>
          <p:cNvCxnSpPr>
            <a:stCxn id="583" idx="5"/>
            <a:endCxn id="582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1" name=""/>
          <p:cNvCxnSpPr>
            <a:stCxn id="582" idx="7"/>
            <a:endCxn id="581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2" name=""/>
          <p:cNvCxnSpPr>
            <a:stCxn id="583" idx="6"/>
            <a:endCxn id="581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3" name=""/>
          <p:cNvCxnSpPr>
            <a:stCxn id="580" idx="2"/>
            <a:endCxn id="583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582" idx="3"/>
            <a:endCxn id="594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1" name=""/>
          <p:cNvCxnSpPr>
            <a:stCxn id="582" idx="4"/>
            <a:endCxn id="595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2" name=""/>
          <p:cNvCxnSpPr>
            <a:stCxn id="582" idx="5"/>
            <a:endCxn id="596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3" name=""/>
          <p:cNvCxnSpPr>
            <a:stCxn id="581" idx="5"/>
            <a:endCxn id="598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4" name=""/>
          <p:cNvCxnSpPr>
            <a:stCxn id="581" idx="6"/>
            <a:endCxn id="599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5" name=""/>
          <p:cNvCxnSpPr>
            <a:stCxn id="581" idx="7"/>
            <a:endCxn id="597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777960" y="3552840"/>
            <a:ext cx="1203120" cy="1857240"/>
          </a:xfrm>
          <a:custGeom>
            <a:avLst/>
            <a:gdLst/>
            <a:ahLst/>
            <a:rect l="l" t="t" r="r" b="b"/>
            <a:pathLst>
              <a:path w="758" h="1170">
                <a:moveTo>
                  <a:pt x="6" y="2"/>
                </a:moveTo>
                <a:cubicBezTo>
                  <a:pt x="23" y="52"/>
                  <a:pt x="0" y="0"/>
                  <a:pt x="46" y="50"/>
                </a:cubicBezTo>
                <a:cubicBezTo>
                  <a:pt x="64" y="70"/>
                  <a:pt x="94" y="114"/>
                  <a:pt x="94" y="114"/>
                </a:cubicBezTo>
                <a:cubicBezTo>
                  <a:pt x="105" y="147"/>
                  <a:pt x="124" y="165"/>
                  <a:pt x="142" y="194"/>
                </a:cubicBezTo>
                <a:cubicBezTo>
                  <a:pt x="167" y="233"/>
                  <a:pt x="162" y="273"/>
                  <a:pt x="182" y="314"/>
                </a:cubicBezTo>
                <a:cubicBezTo>
                  <a:pt x="196" y="342"/>
                  <a:pt x="198" y="343"/>
                  <a:pt x="206" y="370"/>
                </a:cubicBezTo>
                <a:cubicBezTo>
                  <a:pt x="228" y="446"/>
                  <a:pt x="218" y="544"/>
                  <a:pt x="262" y="610"/>
                </a:cubicBezTo>
                <a:cubicBezTo>
                  <a:pt x="282" y="690"/>
                  <a:pt x="316" y="816"/>
                  <a:pt x="374" y="874"/>
                </a:cubicBezTo>
                <a:cubicBezTo>
                  <a:pt x="385" y="906"/>
                  <a:pt x="394" y="919"/>
                  <a:pt x="422" y="938"/>
                </a:cubicBezTo>
                <a:cubicBezTo>
                  <a:pt x="468" y="1007"/>
                  <a:pt x="545" y="1031"/>
                  <a:pt x="622" y="1050"/>
                </a:cubicBezTo>
                <a:cubicBezTo>
                  <a:pt x="686" y="1093"/>
                  <a:pt x="609" y="1037"/>
                  <a:pt x="662" y="1090"/>
                </a:cubicBezTo>
                <a:cubicBezTo>
                  <a:pt x="671" y="1099"/>
                  <a:pt x="685" y="1105"/>
                  <a:pt x="694" y="1114"/>
                </a:cubicBezTo>
                <a:lnTo>
                  <a:pt x="758" y="117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40080" y="5067360"/>
            <a:ext cx="1079640" cy="181080"/>
          </a:xfrm>
          <a:custGeom>
            <a:avLst/>
            <a:gdLst/>
            <a:ahLst/>
            <a:rect l="l" t="t" r="r" b="b"/>
            <a:pathLst>
              <a:path w="680" h="114">
                <a:moveTo>
                  <a:pt x="0" y="56"/>
                </a:moveTo>
                <a:cubicBezTo>
                  <a:pt x="85" y="73"/>
                  <a:pt x="161" y="82"/>
                  <a:pt x="248" y="88"/>
                </a:cubicBezTo>
                <a:cubicBezTo>
                  <a:pt x="395" y="84"/>
                  <a:pt x="566" y="114"/>
                  <a:pt x="680" y="0"/>
                </a:cubicBez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50840" y="51181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09880" y="49528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4A5-D503-495B-809C-624935B2CD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Jellyfish model [Tauro+]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1752480"/>
            <a:ext cx="160020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1676520"/>
            <a:ext cx="2743200" cy="9144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1600200"/>
            <a:ext cx="4267080" cy="1447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343400"/>
            <a:ext cx="15264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1523880"/>
            <a:ext cx="5334120" cy="18288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7080" y="2209680"/>
            <a:ext cx="152640" cy="1524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724280" y="2209680"/>
            <a:ext cx="7632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29200" y="2209680"/>
            <a:ext cx="22860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4840" y="19940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505320" y="2514600"/>
            <a:ext cx="38088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200400" y="2514600"/>
            <a:ext cx="457200" cy="17524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971800" y="2438280"/>
            <a:ext cx="53352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3733920"/>
            <a:ext cx="15264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2133720"/>
            <a:ext cx="533520" cy="1523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060880"/>
            <a:ext cx="9144000" cy="7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Simple Conceptual Model for the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L. Tauro, C. Palmer, G. Siganos, M. Faloutsos, Global Internet, November 25-29, 200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23000"/>
            <a:ext cx="9144000" cy="1008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ellyfish: A Conceptual Model for the AS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G. Siganos, Sudhir L Tauro, M. Faloutsos, J. of Communications and Networks, Vol. 8, No. 3, pp 339-350, Sept. 2006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3D5-345A-4BD8-864B-4C3AE17845C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trange behavior of min cu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589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Statistical Properties of Community Structure in Large Social and Information Networks, J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Leskovec, K. Lang, A. Dasgupta, M. Mahoney. </a:t>
            </a:r>
            <a:br>
              <a:rPr sz="2200"/>
            </a:b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WW 2008.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EC65-270C-47F9-9C5B-E4E3564570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954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716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51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623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195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954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51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051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352680" y="39466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cut size = sqrt(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3D4-5F62-4D85-91C6-9463F8714B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2" idx="1"/>
            <a:endCxn id="192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2" name=""/>
          <p:cNvCxnSpPr>
            <a:stCxn id="194" idx="7"/>
            <a:endCxn id="198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3" name=""/>
          <p:cNvCxnSpPr>
            <a:stCxn id="194" idx="6"/>
            <a:endCxn id="200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8" idx="5"/>
            <a:endCxn id="200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endCxn id="199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96" idx="6"/>
            <a:endCxn id="194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93" idx="5"/>
            <a:endCxn id="196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8" name=""/>
          <p:cNvCxnSpPr>
            <a:stCxn id="193" idx="3"/>
            <a:endCxn id="195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9" name=""/>
          <p:cNvCxnSpPr>
            <a:stCxn id="196" idx="2"/>
            <a:endCxn id="197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10" name=""/>
          <p:cNvCxnSpPr>
            <a:stCxn id="197" idx="0"/>
            <a:endCxn id="195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7988-CB33-4E8C-9663-6EB2D2347B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80CB-6BF4-4219-9860-6451785CA3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048120"/>
            <a:ext cx="2209680" cy="15238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048120"/>
            <a:ext cx="1676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0.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76920" y="5257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d-dimensional grid, the slope is 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4D5-AC1B-4325-B43C-1D670D3865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34909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371600" y="16621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19520" y="36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1295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505320" y="30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272880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048120" y="26528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4242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1956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21193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752480" y="1890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17384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1814400"/>
            <a:ext cx="2209680" cy="152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1814400"/>
            <a:ext cx="167616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18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1/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402444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-dimensional gri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3473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715000" y="1644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162920" y="3625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12193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848720" y="22860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7480" y="2133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10280" y="2209680"/>
            <a:ext cx="15264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93432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771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199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095880" y="20574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19920" y="2286000"/>
            <a:ext cx="2438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4006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andom grap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A3A2-0386-4764-B637-C656F15A1CD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does it look like for a real-world graph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49975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200400" y="31687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5149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2743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3657600"/>
            <a:ext cx="2133720" cy="3808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809880"/>
            <a:ext cx="1295640" cy="10670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72200" y="3352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D8D-49AF-40B8-9C06-FCB419278BE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set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gle Web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916,428 nodes and 5,105,0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ucent Router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directed graph of network routers from </a:t>
            </a: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isi.edu/scan/mercator/maps.htm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; 112,969 nodes and 181,6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r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bsite Clickstream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222,704 nodes and 952,580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3770-C0DE-4EE0-9F94-BFCD93CFCE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d the METIS algorithm [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Karypis, Kumar, 1995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4419720" cy="30942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438280" y="51814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-50112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10080" y="2666880"/>
            <a:ext cx="3429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gle Web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along the y-axis are avera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observe a “lip” for larg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of -0.4, corresponds to a 2.5-dimensional grid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2438280"/>
            <a:ext cx="2666880" cy="22100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676520" y="266688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62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038480" y="4343400"/>
            <a:ext cx="76212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BE63-F7E0-45B2-B939-2EBCAFC83E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ame results for other graphs too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962520" cy="27734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114800" cy="28796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1981080" y="49528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50292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-80604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16200000">
            <a:off x="3308400" y="339696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cent Router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stream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6680" y="2438280"/>
            <a:ext cx="2286000" cy="20574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371600" y="2666880"/>
            <a:ext cx="144792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5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181480" y="2514600"/>
            <a:ext cx="1524240" cy="2133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34120" y="274320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6386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276720" y="4190760"/>
            <a:ext cx="1218960" cy="60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010280" y="3809520"/>
            <a:ext cx="762120" cy="838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38098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F2B-256D-4650-A9B2-AD32E23A50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41560" y="1450800"/>
            <a:ext cx="124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ET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018560" y="2025720"/>
            <a:ext cx="20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774840" y="2666880"/>
            <a:ext cx="23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47440" y="3276720"/>
            <a:ext cx="259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jellyfish’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aybe, there a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no good cu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160B-3739-4304-BD61-891518D9E9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3429000"/>
            <a:ext cx="1600200" cy="1981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200400"/>
            <a:ext cx="1676520" cy="2057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4" idx="1"/>
            <a:endCxn id="214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4" name=""/>
          <p:cNvCxnSpPr>
            <a:stCxn id="216" idx="7"/>
            <a:endCxn id="220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5" name=""/>
          <p:cNvCxnSpPr>
            <a:stCxn id="216" idx="6"/>
            <a:endCxn id="222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0" idx="5"/>
            <a:endCxn id="222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7" name=""/>
          <p:cNvCxnSpPr>
            <a:endCxn id="221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8" name=""/>
          <p:cNvCxnSpPr>
            <a:stCxn id="218" idx="6"/>
            <a:endCxn id="216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</a:ln>
        </p:spPr>
      </p:cxnSp>
      <p:cxnSp>
        <p:nvCxnSpPr>
          <p:cNvPr id="229" name=""/>
          <p:cNvCxnSpPr>
            <a:stCxn id="215" idx="5"/>
            <a:endCxn id="218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0" name=""/>
          <p:cNvCxnSpPr>
            <a:stCxn id="215" idx="3"/>
            <a:endCxn id="217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1" name=""/>
          <p:cNvCxnSpPr>
            <a:stCxn id="218" idx="2"/>
            <a:endCxn id="219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2" name=""/>
          <p:cNvCxnSpPr>
            <a:stCxn id="219" idx="0"/>
            <a:endCxn id="217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758840" y="35244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284-2431-4242-80B0-578A42E70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guably, the best algorith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pen source, 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mn.edu/~met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*many* related papers, at same ur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in idea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arsen the graph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tition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-coars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140360"/>
            <a:ext cx="623880" cy="48240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8520" y="4165560"/>
            <a:ext cx="623880" cy="48276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4191120"/>
            <a:ext cx="152640" cy="38088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5102280"/>
            <a:ext cx="2133360" cy="383760"/>
            <a:chOff x="5410080" y="5102280"/>
            <a:chExt cx="2133360" cy="383760"/>
          </a:xfrm>
        </p:grpSpPr>
        <p:sp>
          <p:nvSpPr>
            <p:cNvPr id="240" name=""/>
            <p:cNvSpPr/>
            <p:nvPr/>
          </p:nvSpPr>
          <p:spPr>
            <a:xfrm>
              <a:off x="5410080" y="5102280"/>
              <a:ext cx="471960" cy="36468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71480" y="5121000"/>
              <a:ext cx="471960" cy="36504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3040" y="5140440"/>
              <a:ext cx="115200" cy="28800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48" y="240"/>
                  </a:moveTo>
                  <a:cubicBezTo>
                    <a:pt x="16" y="229"/>
                    <a:pt x="10" y="215"/>
                    <a:pt x="0" y="184"/>
                  </a:cubicBezTo>
                  <a:cubicBezTo>
                    <a:pt x="2" y="173"/>
                    <a:pt x="8" y="134"/>
                    <a:pt x="16" y="120"/>
                  </a:cubicBezTo>
                  <a:cubicBezTo>
                    <a:pt x="42" y="73"/>
                    <a:pt x="72" y="54"/>
                    <a:pt x="72" y="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351480" y="5973840"/>
            <a:ext cx="354240" cy="27468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32560" y="5987880"/>
            <a:ext cx="87480" cy="21780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724280"/>
            <a:ext cx="15264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62720"/>
            <a:ext cx="38124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5562720"/>
            <a:ext cx="22860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391520" y="4723920"/>
            <a:ext cx="75960" cy="228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F09-BD7C-47EA-90F3-6388E357AD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. Karypis and V. Kumar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METIS 4.0: Unstructured graph partitioning and sparse matrix ordering syst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TR, Dept. of CS,  Univ. of Minnesota, 1998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&lt;and many extensions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3564000" y="4038480"/>
            <a:ext cx="127296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3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26036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B0E-2721-4ED5-B494-8649E2F72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olu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problem: hard clustering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partition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ider the 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mallest eigenvector of the (normalized) Laplacia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details in ‘Task 7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A4DD-82DA-420B-ACE2-C180C1FDDF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s #3, …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ny more idea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ustering on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square of adjacency matrix) [Zhou, Woodruff, PODS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nimum cut / maximum flow [Flake+, KDD’00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933F-7D8E-4FF4-892E-C77D590E7D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7:25Z</dcterms:modified>
  <cp:revision>224</cp:revision>
  <dc:subject>community discovery</dc:subject>
  <dc:title>KDD'09</dc:title>
</cp:coreProperties>
</file>