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28.wmf" ContentType="image/x-wmf"/>
  <Override PartName="/ppt/media/image27.jpeg" ContentType="image/jpeg"/>
  <Override PartName="/ppt/media/image1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2.png" ContentType="image/png"/>
  <Override PartName="/ppt/media/image10.wmf" ContentType="image/x-wmf"/>
  <Override PartName="/ppt/media/image30.wmf" ContentType="image/x-wmf"/>
  <Override PartName="/ppt/media/image35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33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E28DD-BCA1-49E8-AE78-31E5B3E06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6F1CE-DF70-44FB-B584-AD24C8B30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01008-B777-421A-B65A-5A2CD9CAC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9863A8-18EA-4096-B886-F192621A99B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D218F-F84B-49EB-BE2D-530ABD188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9716EB-A0CD-4D6F-92B2-B490F15B5305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FE953-8B98-44FD-A67C-3BED97F8D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5BAC37-207E-43F5-8B5E-FD69F47745BA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0B9A9-990C-4961-868C-B133C799C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625-AFC5-497B-BFF0-FDCD34CC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DC7-494A-4A78-9856-77EBB6EA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08F-899E-4FB7-80E6-62F06BB9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E6B-73CE-4070-8E23-B45A4EB2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7F56-72F0-4704-B902-0F90A1E8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1566-7533-4F81-B1B8-6B196C9C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564E-D360-4CC6-9D58-B3BD2DF4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A05C-7B21-4C5F-A5C4-C6E22068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E299-074E-4C93-B036-BCBD9F01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123D-91B8-43BB-A191-D7AE4DF3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6E3F-7E52-4142-816B-0E533EC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3F8-D442-4F3D-B269-397F405B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1536-6D78-4B5D-8990-7442F5C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0C4B-1FA6-4715-9627-0BF8782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AF2C-7EF0-4966-99FD-7C6519F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511-5E18-41F7-9364-05D6605C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5A9C-C03F-4696-9B14-129B3935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083-0EFA-40FB-B6A6-1F877F2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685-1F3C-4468-A167-4853B92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0FA-8A89-4950-B134-FD4963CD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B3C-2596-4301-A70D-D3516F8D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DA3-7024-482B-8393-0CE0A3B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06D-4228-472D-85AD-502275D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847-2625-479D-9DA2-E23A293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1-</a:t>
            </a:r>
            <a:fld id="{9D2656DB-1676-4822-BA50-054E11F38FD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5B35681A-D5CE-47CB-8733-D07699917AE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image" Target="../media/image31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cs.utk.edu/~lsi/" TargetMode="External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/mybookInfo.html" TargetMode="External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arge Graph Mining: Power Tools and a Practitioner’s gu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2: compress / reduce dimensional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72C-1A37-43F6-83AA-9A8A9CAF16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arenthesis: intuition behind eigenvecto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880" y="533520"/>
            <a:ext cx="381240" cy="6019560"/>
          </a:xfrm>
          <a:custGeom>
            <a:avLst/>
            <a:gdLst>
              <a:gd name="textAreaLeft" fmla="*/ 111960 w 381240"/>
              <a:gd name="textAreaRight" fmla="*/ 381600 w 381240"/>
              <a:gd name="textAreaTop" fmla="*/ 250560 h 6019560"/>
              <a:gd name="textAreaBottom" fmla="*/ 5769000 h 601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82C-ED12-4BF1-81A4-8AECAC200A51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Formal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(n x n) square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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 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is an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igenvalue/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ai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OSELY related to singular valu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97040" y="3782880"/>
            <a:ext cx="2222640" cy="70668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92D-AFAC-469A-9203-6F1D69FD6F42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perty #1: Eigen- vs singular-valu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n x r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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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r x r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m x r]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is symmetric an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e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, ...: eigenvectors of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(B</a:t>
            </a:r>
            <a:r>
              <a:rPr b="1" lang="en-US" sz="40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)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366-BA19-4DE0-9FD3-8F2ACE872628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y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[nxn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real, symmetric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it ha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l eigen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not symmetric, some eigenvalues may be comple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942-49A4-495A-99C7-6BE9E1E57D54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y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[nxn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real, symmetric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it ha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l eigen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y agree with i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ingular values, except possibly for the sig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F96-A5CD-4B0E-A9C5-9658B3EEF24B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Intu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s vector transform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2892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355" name=""/>
          <p:cNvGrpSpPr/>
          <p:nvPr/>
        </p:nvGrpSpPr>
        <p:grpSpPr>
          <a:xfrm>
            <a:off x="1676520" y="2819880"/>
            <a:ext cx="1433520" cy="1818720"/>
            <a:chOff x="1676520" y="2819880"/>
            <a:chExt cx="1433520" cy="1818720"/>
          </a:xfrm>
        </p:grpSpPr>
        <p:graphicFrame>
          <p:nvGraphicFramePr>
            <p:cNvPr id="1356" name=""/>
            <p:cNvGraphicFramePr/>
            <p:nvPr/>
          </p:nvGraphicFramePr>
          <p:xfrm>
            <a:off x="1752840" y="3429000"/>
            <a:ext cx="1357200" cy="12096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840" y="342900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"/>
            <p:cNvSpPr/>
            <p:nvPr/>
          </p:nvSpPr>
          <p:spPr>
            <a:xfrm>
              <a:off x="167652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28951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4440" y="2819880"/>
              <a:ext cx="4395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3505320" y="3429000"/>
            <a:ext cx="842760" cy="1238400"/>
            <a:chOff x="3505320" y="3429000"/>
            <a:chExt cx="842760" cy="1238400"/>
          </a:xfrm>
        </p:grpSpPr>
        <p:sp>
          <p:nvSpPr>
            <p:cNvPr id="1362" name=""/>
            <p:cNvSpPr/>
            <p:nvPr/>
          </p:nvSpPr>
          <p:spPr>
            <a:xfrm>
              <a:off x="35053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403848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364" name=""/>
            <p:cNvGraphicFramePr/>
            <p:nvPr/>
          </p:nvGraphicFramePr>
          <p:xfrm>
            <a:off x="3581280" y="3505320"/>
            <a:ext cx="766800" cy="11620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81280" y="3505320"/>
                      <a:ext cx="766800" cy="11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6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733920" y="2819880"/>
            <a:ext cx="36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72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9900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533520" y="3505320"/>
          <a:ext cx="688680" cy="1218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505320"/>
                    <a:ext cx="6886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627120" y="2819880"/>
            <a:ext cx="48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179720" y="385632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629400" y="3580920"/>
            <a:ext cx="76212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286760" y="3932640"/>
            <a:ext cx="36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456320" y="3323160"/>
            <a:ext cx="48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73240" y="5527800"/>
            <a:ext cx="304560" cy="30456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055960" y="5521320"/>
            <a:ext cx="304560" cy="30492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77" idx="1"/>
            <a:endCxn id="1377" idx="3"/>
          </p:cNvCxnSpPr>
          <p:nvPr/>
        </p:nvCxnSpPr>
        <p:spPr>
          <a:xfrm flipH="1" rot="16200000">
            <a:off x="1091160" y="5679000"/>
            <a:ext cx="254880" cy="2520"/>
          </a:xfrm>
          <a:prstGeom prst="curvedConnector5">
            <a:avLst>
              <a:gd name="adj1" fmla="val -100000"/>
              <a:gd name="adj2" fmla="val -15400000"/>
              <a:gd name="adj3" fmla="val -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0" name=""/>
          <p:cNvCxnSpPr>
            <a:stCxn id="1378" idx="7"/>
            <a:endCxn id="1378" idx="5"/>
          </p:cNvCxnSpPr>
          <p:nvPr/>
        </p:nvCxnSpPr>
        <p:spPr>
          <a:xfrm flipH="1" rot="16200000">
            <a:off x="2189880" y="5671800"/>
            <a:ext cx="254520" cy="2160"/>
          </a:xfrm>
          <a:prstGeom prst="curvedConnector5">
            <a:avLst>
              <a:gd name="adj1" fmla="val -100000"/>
              <a:gd name="adj2" fmla="val 15400000"/>
              <a:gd name="adj3" fmla="val -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1" name=""/>
          <p:cNvCxnSpPr>
            <a:stCxn id="1377" idx="7"/>
            <a:endCxn id="1378" idx="1"/>
          </p:cNvCxnSpPr>
          <p:nvPr/>
        </p:nvCxnSpPr>
        <p:spPr>
          <a:xfrm flipH="1" flipV="1" rot="5400000">
            <a:off x="1763640" y="5216040"/>
            <a:ext cx="6840" cy="667440"/>
          </a:xfrm>
          <a:prstGeom prst="curvedConnector5">
            <a:avLst>
              <a:gd name="adj1" fmla="val 4100000"/>
              <a:gd name="adj2" fmla="val 49973"/>
              <a:gd name="adj3" fmla="val 4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2" name=""/>
          <p:cNvCxnSpPr>
            <a:stCxn id="1378" idx="3"/>
            <a:endCxn id="1377" idx="5"/>
          </p:cNvCxnSpPr>
          <p:nvPr/>
        </p:nvCxnSpPr>
        <p:spPr>
          <a:xfrm rot="5400000">
            <a:off x="1762920" y="5470560"/>
            <a:ext cx="7200" cy="667440"/>
          </a:xfrm>
          <a:prstGeom prst="curvedConnector5">
            <a:avLst>
              <a:gd name="adj1" fmla="val 4100000"/>
              <a:gd name="adj2" fmla="val 49973"/>
              <a:gd name="adj3" fmla="val 4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383" name=""/>
          <p:cNvSpPr/>
          <p:nvPr/>
        </p:nvSpPr>
        <p:spPr>
          <a:xfrm>
            <a:off x="213120" y="54324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44840" y="48988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46640" y="60418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24640" y="53974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A14-8B20-44E0-B54B-ED80CAAFFBFD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Intu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defn., eigenvectors remain parallel to themselves (‘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xed points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2590920" y="3657960"/>
            <a:ext cx="1433520" cy="1818720"/>
            <a:chOff x="2590920" y="3657960"/>
            <a:chExt cx="1433520" cy="1818720"/>
          </a:xfrm>
        </p:grpSpPr>
        <p:graphicFrame>
          <p:nvGraphicFramePr>
            <p:cNvPr id="1390" name=""/>
            <p:cNvGraphicFramePr/>
            <p:nvPr/>
          </p:nvGraphicFramePr>
          <p:xfrm>
            <a:off x="2667240" y="4267080"/>
            <a:ext cx="1357200" cy="1209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240" y="426708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2" name=""/>
            <p:cNvSpPr/>
            <p:nvPr/>
          </p:nvSpPr>
          <p:spPr>
            <a:xfrm>
              <a:off x="2590920" y="426708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809520" y="426708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48840" y="3657960"/>
              <a:ext cx="4395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441972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952880" y="4267080"/>
            <a:ext cx="15264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4344840" y="4267080"/>
          <a:ext cx="703440" cy="120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4267080"/>
                    <a:ext cx="703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9" name=""/>
          <p:cNvSpPr/>
          <p:nvPr/>
        </p:nvSpPr>
        <p:spPr>
          <a:xfrm>
            <a:off x="4596480" y="3628440"/>
            <a:ext cx="4654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716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19044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48360" y="3628440"/>
            <a:ext cx="4654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4120" y="469476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5334120" y="3048120"/>
            <a:ext cx="3328920" cy="3311280"/>
            <a:chOff x="5334120" y="3048120"/>
            <a:chExt cx="3328920" cy="3311280"/>
          </a:xfrm>
        </p:grpSpPr>
        <p:pic>
          <p:nvPicPr>
            <p:cNvPr id="1405" name="" descr=""/>
            <p:cNvPicPr/>
            <p:nvPr/>
          </p:nvPicPr>
          <p:blipFill>
            <a:blip r:embed="rId5"/>
            <a:stretch/>
          </p:blipFill>
          <p:spPr>
            <a:xfrm>
              <a:off x="5334120" y="3048120"/>
              <a:ext cx="33289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6" name=""/>
            <p:cNvSpPr/>
            <p:nvPr/>
          </p:nvSpPr>
          <p:spPr>
            <a:xfrm flipV="1">
              <a:off x="7086600" y="4343040"/>
              <a:ext cx="228600" cy="30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7086600" y="3429000"/>
              <a:ext cx="685800" cy="114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1408" name=""/>
          <p:cNvGraphicFramePr/>
          <p:nvPr/>
        </p:nvGraphicFramePr>
        <p:xfrm>
          <a:off x="1298520" y="4267080"/>
          <a:ext cx="703440" cy="120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8520" y="4267080"/>
                    <a:ext cx="703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301680" y="4618440"/>
            <a:ext cx="1073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.62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69000" y="3674520"/>
            <a:ext cx="4824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753-0831-4DC3-9264-5869222B72CA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CDD-3DBE-4C79-99D2-9FF57332367F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87E-4A8B-484E-AB7E-6D770EFB60D5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pends on rati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1 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203880" y="2950920"/>
            <a:ext cx="995400" cy="97308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7813440" y="2626920"/>
            <a:ext cx="323640" cy="24300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846760" y="301932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75360" y="217800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686800" y="609480"/>
            <a:ext cx="228600" cy="5943600"/>
          </a:xfrm>
          <a:custGeom>
            <a:avLst/>
            <a:gdLst>
              <a:gd name="textAreaLeft" fmla="*/ 0 w 228600"/>
              <a:gd name="textAreaRight" fmla="*/ 160560 w 22860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24C-6AD6-41CA-8817-7643625D582D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blem - spec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10**6 rows; ~10**3 columns; no updates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andom access to any cell(s) ; small error: O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19320" y="3581280"/>
            <a:ext cx="6248160" cy="2381040"/>
            <a:chOff x="1219320" y="3581280"/>
            <a:chExt cx="6248160" cy="23810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219320" y="3581280"/>
              <a:ext cx="624816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76560" y="4647960"/>
              <a:ext cx="38052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743200" y="5181480"/>
            <a:ext cx="4495680" cy="228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131-5395-45E6-B5C7-B1DAF1335A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/google - 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V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lps in graph analysi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ub/authority scores: strongest left- and right- singular-vectors of the adjacenc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andom walk on a graph: steady state probabilities are given by the strongest eigenvector of the (modified) transition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424-9E01-44BC-928C-08262F407D63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aluabl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o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ocument-term matrix, it finds ‘concepts’ (LSI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find fixed-points or steady-state probabilities (google/ Kleinberg/ Markov Chain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8B8-E0FA-4CC7-8E4D-A39BEC608DC9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We didn’t discuss/elaborate, but, SV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 can reduce dimensionality (KL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find rules (PCA; RatioRul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solve optimally over- and under-constraint linear systems (least squares / query feedback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37E-1EBF-457D-AABB-6472479E1438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rry, Michael: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cs.utk.edu/~lsi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, S. and L. Page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natomy of a Large-Scale Hypertextual Web Search Engin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7th Intl World Wide Web Conf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4FE-7CB6-4875-A7A5-C9B519B130E7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ristos Faloutsos,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earching Multimedia Databases by Cont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Springer, 1996. (App. 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kunaga, K. (1990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ntroduction to Statistical Pattern Recogni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Academic Pres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.T. Jolliff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Principal Component Analysi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ringer, 2002 (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ed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565-CE38-452E-82BE-C3D17F352DAF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leinberg, J.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uthoritative sources in a hyperlinked environ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Proc. 9th ACM-SIAM Symposium on Discrete Algorithm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ss, W. H., S. A. Teukolsky, et al. (1992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umerical Recipes in 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Cambridge University Press. 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</a:rPr>
              <a:t>www.nr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6AA-623C-4361-93CF-D02B86E65DEE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DD7-5599-4156-B5CE-76F5582892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3048120" y="1752480"/>
            <a:ext cx="3581280" cy="33530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5B6-0984-40C6-B56E-8C34179274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504-C1AA-42C0-A577-B178038A33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18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18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9DD-2DE5-4FEC-8416-5C4710027C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0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0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CB3-7E83-41C4-B4A8-26DD8080E2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27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30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58128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FD9-C1E7-430A-A55F-BCE3112B54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5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5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419112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C27-07C5-4413-A306-224104E176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79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82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9C2-E0EF-4504-AC97-4BB0C6C6FC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043-C1F3-4D01-BF5B-CE0A3E015F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n x r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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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r x r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m x r]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n x m matrix (eg., n documents, m term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n x r matrix (n documents, r concep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r x r diagonal matrix (strength of each ‘concept’) (r : rank of the matri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m x r matrix (m terms, r concep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838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028-F23A-4735-A7AD-1B9724A35F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539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124080" y="4343400"/>
            <a:ext cx="304920" cy="304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EB0-6AB8-430F-BACB-F15C5B2A74E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OREM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Press+92]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ways possible to decompos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tri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,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unique 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column orthonormal (ie., columns are unit vectors, orthogonal to each oth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 (I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ty matrix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ngular are positive, and sorted in decreasing ord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BBD-C2C8-484C-8243-9453EB8075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B2C-110E-4DC5-91A2-8D34E3B375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0E0-930E-48EB-918B-AAE5B58BC1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3276720"/>
            <a:ext cx="6858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167616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c-to-concep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461-C124-4E2B-B37B-35A87494D4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4280" y="2437560"/>
            <a:ext cx="36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rength’ of 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562720" y="3276720"/>
            <a:ext cx="0" cy="7617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3962520"/>
            <a:ext cx="60948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6C5-D1A2-402C-B2A7-663F1B97B1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048120"/>
            <a:ext cx="4876560" cy="22096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E49-D464-4D0D-A5EE-F0F3E34A4F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5181480"/>
            <a:ext cx="6098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D11-508A-4E74-90A3-BB8F1AC887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13C-D271-48C6-9284-2924B30D06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4" idx="6"/>
            <a:endCxn id="103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6"/>
            <a:endCxn id="103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7" idx="6"/>
            <a:endCxn id="105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3" idx="6"/>
            <a:endCxn id="106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8" idx="6"/>
            <a:endCxn id="104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2" idx="7"/>
            <a:endCxn id="104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D23-3DAA-4FC2-9A7D-AD572BAD53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document-to-concept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term-to-concept sim.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its diagonal elements: ‘strength’ of each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FD0-E177-46C9-AA9F-17EAF7E541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–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3E2-EF4A-4FE2-BA45-F50DA300E0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EBE2D5EF-C1DD-4E23-85F5-D19E28C98D8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–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term-to-term ([m x m])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document-to-document ([n x n])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AFA-D732-4A32-89F4-DF40A2D84D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94B6D86F-817A-41AA-8B7F-B9C5D3D2671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VD properti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re the eigenvectors of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re the eigenvectors of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Gram (inner-product) matri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7" name="Picture 4" descr="txp_fig"/>
          <p:cNvPicPr/>
          <p:nvPr/>
        </p:nvPicPr>
        <p:blipFill>
          <a:blip r:embed="rId1"/>
          <a:stretch/>
        </p:blipFill>
        <p:spPr>
          <a:xfrm>
            <a:off x="914400" y="2568600"/>
            <a:ext cx="7696080" cy="784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txp_fig"/>
          <p:cNvPicPr/>
          <p:nvPr/>
        </p:nvPicPr>
        <p:blipFill>
          <a:blip r:embed="rId2"/>
          <a:stretch/>
        </p:blipFill>
        <p:spPr>
          <a:xfrm>
            <a:off x="914400" y="4768920"/>
            <a:ext cx="7772400" cy="7938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6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Further reading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1. Ian T. Jolliffe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incipal Component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(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ed), Springer, 2002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. Gilbert Strang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Linear Algebra and Its Application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(4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ed), Brooks Cole, 2005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533520" y="2514600"/>
            <a:ext cx="83055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685800" y="472428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7A5-DC0B-41BD-AEBB-A29B61F5A6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st axis to project on: (‘best’ = min sum of squares of projection error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0B2-D35B-4BFA-BE95-846B381BE0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6C6-0D2B-46A7-80F5-19D773F47F1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581280" y="1905120"/>
            <a:ext cx="5224680" cy="3695760"/>
            <a:chOff x="3581280" y="1905120"/>
            <a:chExt cx="5224680" cy="369576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3581280" y="1905120"/>
              <a:ext cx="52246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flipV="1">
              <a:off x="3886200" y="4800960"/>
              <a:ext cx="38088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562720" y="2743200"/>
            <a:ext cx="380880" cy="380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3048120"/>
            <a:ext cx="152640" cy="15228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inimum RMS err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8280" y="2225160"/>
            <a:ext cx="285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VD: giv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axis to projec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58680" y="4342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05720" y="2895480"/>
            <a:ext cx="21333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rst singul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c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930-62AC-48C3-8704-F6C1ECA442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7772400" cy="29620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EB4-5425-4529-B001-32FA1C208A7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565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7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69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74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5334120"/>
              <a:ext cx="297180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84720" y="4769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v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8EA-3B71-4CFF-A620-8049096967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3962520"/>
            <a:ext cx="7621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84560" y="2742480"/>
            <a:ext cx="49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ariance (‘spread’) on the v1 ax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15000" y="3505320"/>
            <a:ext cx="7632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72A-4DA3-44D4-A591-2C85683E39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1: HITS (SVD = Singular Value Decompositio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2: eigenvector (PageRank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6"/>
            <a:endCxn id="118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6"/>
            <a:endCxn id="118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2" idx="6"/>
            <a:endCxn id="120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6"/>
            <a:endCxn id="121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6"/>
            <a:endCxn id="119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7" idx="7"/>
            <a:endCxn id="119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4AC-0952-4CCB-8802-775F4737C2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gives the coordinates of the points in the projection ax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063-121E-4AB9-A943-E0BB08B66D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637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9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41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3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46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8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51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3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9C1-2546-4D55-99A8-DCCAFF4E8D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set the smallest singular values to zero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667-40E3-4AEC-B402-D9BA3DCE20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29C-3ABC-435A-8DB4-23A78C6D47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3200400"/>
            <a:ext cx="380880" cy="304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410080" y="5790960"/>
            <a:ext cx="33530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10080" y="5715000"/>
            <a:ext cx="327672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038480" y="3200400"/>
            <a:ext cx="381240" cy="2819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E64-3EFE-48E2-8D6B-F2ABB3871B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5334120" y="4114800"/>
          <a:ext cx="609480" cy="584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5562720" y="5334120"/>
          <a:ext cx="3143160" cy="914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14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937-8AF4-4863-904D-73AC16CEE8D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838080" y="3352680"/>
            <a:ext cx="2141640" cy="2648160"/>
            <a:chOff x="838080" y="3352680"/>
            <a:chExt cx="2141640" cy="2648160"/>
          </a:xfrm>
        </p:grpSpPr>
        <p:graphicFrame>
          <p:nvGraphicFramePr>
            <p:cNvPr id="758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3581280" y="3276720"/>
          <a:ext cx="2065320" cy="25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767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350532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25708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24280" y="4724280"/>
            <a:ext cx="609840" cy="99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342-BC0B-4251-BC66-73915027DD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F65-5AC1-4572-A30C-E79D42D8E3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912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0770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581280" y="342900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495288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67080" y="495288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191120" y="342900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4120" y="400824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446544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95520" y="4114800"/>
            <a:ext cx="381240" cy="304920"/>
            <a:chOff x="6095520" y="4114800"/>
            <a:chExt cx="381240" cy="304920"/>
          </a:xfrm>
        </p:grpSpPr>
        <p:sp>
          <p:nvSpPr>
            <p:cNvPr id="815" name=""/>
            <p:cNvSpPr/>
            <p:nvPr/>
          </p:nvSpPr>
          <p:spPr>
            <a:xfrm>
              <a:off x="6095880" y="4114800"/>
              <a:ext cx="304920" cy="304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095520" y="4114800"/>
              <a:ext cx="381240" cy="3049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409720" y="4648320"/>
            <a:ext cx="381240" cy="304560"/>
            <a:chOff x="5409720" y="4648320"/>
            <a:chExt cx="381240" cy="304560"/>
          </a:xfrm>
        </p:grpSpPr>
        <p:sp>
          <p:nvSpPr>
            <p:cNvPr id="818" name=""/>
            <p:cNvSpPr/>
            <p:nvPr/>
          </p:nvSpPr>
          <p:spPr>
            <a:xfrm>
              <a:off x="5410080" y="4648320"/>
              <a:ext cx="304920" cy="3045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409720" y="4648320"/>
              <a:ext cx="381240" cy="30456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639480" y="5151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39480" y="56847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15000" y="5486400"/>
            <a:ext cx="9144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62920" y="5486400"/>
            <a:ext cx="12952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15000" y="5943600"/>
            <a:ext cx="8380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62920" y="5943600"/>
            <a:ext cx="12952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1C7-B110-493E-87D2-A01BDF25F9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35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39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0BA-AFF6-4533-9D18-FEF480A961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and eigenvector analysis: very closely re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‘theory Task’,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249-3DC5-4E1A-9FB9-11D33DDF62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59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63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67240" y="548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 x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114800" y="4800600"/>
            <a:ext cx="22860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0280" y="5561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x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 flipV="1">
            <a:off x="4876560" y="4876560"/>
            <a:ext cx="75960" cy="5331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57880" y="339804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 ter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581280" y="3581280"/>
            <a:ext cx="144792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29400" y="35812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D3A-7BF1-4D26-A9CC-CA4A8B88DC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pproximation / dim. reductio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keeping the first few terms (Q: how many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90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94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992-6C41-4F8C-9222-1AAAB6220D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(heuristic - [Fukunaga]): keep 80-90% of ‘energy’ (= sum of squares of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’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915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919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4E6-0014-400B-9072-EA1765B275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1: documents/terms/concep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2: dim. redu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3: picking non-zero, rectangular ‘blobs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290-A762-4953-B87C-57FB63DFC1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3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399-391F-40AE-B2CD-D43EB88AF6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FBF-8E63-4833-9DA7-BEC4CB121A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 =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munities’ (bi-partite cores, he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3555000" y="2984400"/>
            <a:ext cx="4409640" cy="2731680"/>
            <a:chOff x="3555000" y="2984400"/>
            <a:chExt cx="4409640" cy="2731680"/>
          </a:xfrm>
        </p:grpSpPr>
        <p:sp>
          <p:nvSpPr>
            <p:cNvPr id="988" name=""/>
            <p:cNvSpPr/>
            <p:nvPr/>
          </p:nvSpPr>
          <p:spPr>
            <a:xfrm>
              <a:off x="5181480" y="3276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81480" y="3581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1480" y="38862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81480" y="41911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81680" y="350532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81680" y="3809880"/>
              <a:ext cx="152640" cy="15264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781680" y="411480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95" name=""/>
            <p:cNvCxnSpPr>
              <a:stCxn id="992" idx="1"/>
              <a:endCxn id="988" idx="6"/>
            </p:cNvCxnSpPr>
            <p:nvPr/>
          </p:nvCxnSpPr>
          <p:spPr>
            <a:xfrm flipH="1" flipV="1">
              <a:off x="5347440" y="335196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6" name=""/>
            <p:cNvCxnSpPr>
              <a:stCxn id="988" idx="6"/>
              <a:endCxn id="993" idx="1"/>
            </p:cNvCxnSpPr>
            <p:nvPr/>
          </p:nvCxnSpPr>
          <p:spPr>
            <a:xfrm>
              <a:off x="5347800" y="3352680"/>
              <a:ext cx="142020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7" name=""/>
            <p:cNvCxnSpPr>
              <a:stCxn id="988" idx="6"/>
              <a:endCxn id="994" idx="1"/>
            </p:cNvCxnSpPr>
            <p:nvPr/>
          </p:nvCxnSpPr>
          <p:spPr>
            <a:xfrm>
              <a:off x="5347800" y="3352320"/>
              <a:ext cx="1420200" cy="839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8" name=""/>
            <p:cNvCxnSpPr>
              <a:stCxn id="989" idx="6"/>
              <a:endCxn id="992" idx="1"/>
            </p:cNvCxnSpPr>
            <p:nvPr/>
          </p:nvCxnSpPr>
          <p:spPr>
            <a:xfrm flipV="1">
              <a:off x="5347800" y="358128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9" name=""/>
            <p:cNvCxnSpPr>
              <a:stCxn id="989" idx="6"/>
              <a:endCxn id="993" idx="1"/>
            </p:cNvCxnSpPr>
            <p:nvPr/>
          </p:nvCxnSpPr>
          <p:spPr>
            <a:xfrm>
              <a:off x="5347800" y="365724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0" name=""/>
            <p:cNvCxnSpPr>
              <a:stCxn id="989" idx="6"/>
              <a:endCxn id="994" idx="1"/>
            </p:cNvCxnSpPr>
            <p:nvPr/>
          </p:nvCxnSpPr>
          <p:spPr>
            <a:xfrm>
              <a:off x="5347800" y="3657600"/>
              <a:ext cx="142020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1" name=""/>
            <p:cNvCxnSpPr>
              <a:stCxn id="990" idx="6"/>
              <a:endCxn id="992" idx="1"/>
            </p:cNvCxnSpPr>
            <p:nvPr/>
          </p:nvCxnSpPr>
          <p:spPr>
            <a:xfrm flipV="1">
              <a:off x="5347800" y="3580560"/>
              <a:ext cx="1420200" cy="381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2" name=""/>
            <p:cNvCxnSpPr>
              <a:stCxn id="990" idx="6"/>
              <a:endCxn id="993" idx="1"/>
            </p:cNvCxnSpPr>
            <p:nvPr/>
          </p:nvCxnSpPr>
          <p:spPr>
            <a:xfrm flipV="1">
              <a:off x="5347800" y="388620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3" name=""/>
            <p:cNvCxnSpPr>
              <a:stCxn id="990" idx="6"/>
              <a:endCxn id="994" idx="1"/>
            </p:cNvCxnSpPr>
            <p:nvPr/>
          </p:nvCxnSpPr>
          <p:spPr>
            <a:xfrm>
              <a:off x="5347800" y="396216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4" name=""/>
            <p:cNvCxnSpPr>
              <a:stCxn id="991" idx="6"/>
              <a:endCxn id="992" idx="1"/>
            </p:cNvCxnSpPr>
            <p:nvPr/>
          </p:nvCxnSpPr>
          <p:spPr>
            <a:xfrm flipV="1">
              <a:off x="5347800" y="3580560"/>
              <a:ext cx="1420200" cy="6865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5" name=""/>
            <p:cNvCxnSpPr>
              <a:stCxn id="991" idx="6"/>
              <a:endCxn id="993" idx="1"/>
            </p:cNvCxnSpPr>
            <p:nvPr/>
          </p:nvCxnSpPr>
          <p:spPr>
            <a:xfrm flipV="1">
              <a:off x="5347800" y="3885840"/>
              <a:ext cx="1420200" cy="381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6" name=""/>
            <p:cNvCxnSpPr>
              <a:stCxn id="991" idx="6"/>
              <a:endCxn id="994" idx="1"/>
            </p:cNvCxnSpPr>
            <p:nvPr/>
          </p:nvCxnSpPr>
          <p:spPr>
            <a:xfrm flipV="1">
              <a:off x="5347800" y="419040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1480" y="50292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81480" y="53341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81680" y="487692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81680" y="5181480"/>
              <a:ext cx="152640" cy="15264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012" name=""/>
            <p:cNvCxnSpPr>
              <a:stCxn id="1007" idx="6"/>
              <a:endCxn id="1011" idx="1"/>
            </p:cNvCxnSpPr>
            <p:nvPr/>
          </p:nvCxnSpPr>
          <p:spPr>
            <a:xfrm>
              <a:off x="5347800" y="4800600"/>
              <a:ext cx="1420200" cy="4579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3" name=""/>
            <p:cNvCxnSpPr>
              <a:stCxn id="1008" idx="6"/>
              <a:endCxn id="1010" idx="1"/>
            </p:cNvCxnSpPr>
            <p:nvPr/>
          </p:nvCxnSpPr>
          <p:spPr>
            <a:xfrm flipV="1">
              <a:off x="5347800" y="4952520"/>
              <a:ext cx="1420200" cy="153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4" name=""/>
            <p:cNvCxnSpPr>
              <a:stCxn id="1008" idx="6"/>
              <a:endCxn id="1011" idx="1"/>
            </p:cNvCxnSpPr>
            <p:nvPr/>
          </p:nvCxnSpPr>
          <p:spPr>
            <a:xfrm>
              <a:off x="5347800" y="510516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1"/>
            </p:cNvCxnSpPr>
            <p:nvPr/>
          </p:nvCxnSpPr>
          <p:spPr>
            <a:xfrm flipV="1">
              <a:off x="5347800" y="4952520"/>
              <a:ext cx="1420200" cy="4579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6" name=""/>
            <p:cNvCxnSpPr>
              <a:stCxn id="1009" idx="6"/>
              <a:endCxn id="1011" idx="1"/>
            </p:cNvCxnSpPr>
            <p:nvPr/>
          </p:nvCxnSpPr>
          <p:spPr>
            <a:xfrm flipV="1">
              <a:off x="5347800" y="525708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7" name=""/>
            <p:cNvCxnSpPr>
              <a:stCxn id="1007" idx="6"/>
              <a:endCxn id="1010" idx="1"/>
            </p:cNvCxnSpPr>
            <p:nvPr/>
          </p:nvCxnSpPr>
          <p:spPr>
            <a:xfrm>
              <a:off x="5347800" y="480024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1018" name=""/>
            <p:cNvSpPr/>
            <p:nvPr/>
          </p:nvSpPr>
          <p:spPr>
            <a:xfrm>
              <a:off x="3555000" y="29844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1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74080" y="39751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4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90840" y="321300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1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70320" y="397512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3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11360" y="469260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4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582000" y="45403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5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82000" y="52261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7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D35-8864-4BFD-B2F0-89B956C28226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11D-EB2B-4F31-A35D-5E1121D2800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Complex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( n * m * m) or O( n * n * m) (whichever is l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ss work, if we just want singular 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 if we want firs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ingular vect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 if the matrix is sparse [Berry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mplemented: in any linear algebra package (LINPACK, matlab, Splus, mathematica ..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614-6724-4EF5-9896-81ECEB1743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conclusions so far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= U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: unique (*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document-to-concept similar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term-to-concept similar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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strength of each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. reduction: keep the first few strongest singular values (80-90% of ‘energy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VD: picks up linear correl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picks up non-zero ‘blob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523-D546-471D-83B7-88B07A689F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104-1FE6-4067-B333-AD5BDB693B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492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AF0-37D8-4153-AF95-D21A48AD030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Other properties - summar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produce orthogonal basis (obvious) (who cares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solve over- and under-determined linear problems (see C(1) property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compute ‘fixed points’ (= ‘steady state prob. in Markov chains’) (see C(4) property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449-9DE8-4492-BFED-2360A595B0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outline of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): obvio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B): less obvio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): least obvious (and most powerful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8F4-5239-4D6B-904D-56DFADD4527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ies - by defn.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identity matri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r 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3):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diag(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...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 (k: ANY real numb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120" y="2438280"/>
            <a:ext cx="70866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9F7-AA26-440A-8295-CCF8C0DB2E7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?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2514600"/>
            <a:ext cx="69343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BCD-A52D-440F-9D85-BBE5A135AB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9C4-92B6-44C0-B75C-F22BB50214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cument-to-document’ 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2): symmetrically, for ‘V’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T) [m x n] A [n x m] = V L2 V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939-376E-4B75-988C-57187EE69D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term-to-term 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(3): 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or k&gt;&gt;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[m x 1] first column (singular-vector) of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strongest singular valu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4C0-CA39-437D-9B2C-EE3CAB6EF5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for k&gt;&gt;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e., for (almost) any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t converges to a vector parallel to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 useful to compute first singular vector/value (as well as the next ones, too..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4920" y="2209680"/>
            <a:ext cx="6858000" cy="6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EBB-87A8-48C4-A2A7-1EEA539BEF0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 - repeated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2)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3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9D5-2EBE-4A46-BFEC-390BA212EC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2: compression / dim. redu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54C-C868-47FA-9462-1CCF20D32D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e first (column) vectors of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.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= right-singular-vect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(3): symmetrically: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= left-singular-vec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for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24F-C7CB-4B4C-8A07-CDC098B143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xed poin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- the dfn of eigenvector for a symmetric matrix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4920" y="2895480"/>
            <a:ext cx="472428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396-AE06-4385-8B3D-13D54C3AD2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altogether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192-80EB-4385-9534-861FE44052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ies - 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E9D-DA04-4234-B9DF-FAD320C1B2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88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C7F-5410-4415-958C-5A62461A01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 (HITS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083" name="Rectangle 3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228760" cy="29718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429000" y="2362320"/>
            <a:ext cx="49528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leinberg, Jon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uthoritative sources in a hyperlinked environ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Proc. 9th ACM-SIAM Symposium on Discrete Algorithm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FC1-591E-4010-A21D-8DBD66780FAA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call: problem df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stCxn id="1089" idx="6"/>
            <a:endCxn id="1088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5" name=""/>
          <p:cNvCxnSpPr>
            <a:stCxn id="1092" idx="6"/>
            <a:endCxn id="1088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6" name=""/>
          <p:cNvCxnSpPr>
            <a:stCxn id="1092" idx="6"/>
            <a:endCxn id="1090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7" name=""/>
          <p:cNvCxnSpPr>
            <a:stCxn id="1088" idx="6"/>
            <a:endCxn id="1091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8" name=""/>
          <p:cNvCxnSpPr>
            <a:stCxn id="1093" idx="6"/>
            <a:endCxn id="1089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9" name=""/>
          <p:cNvCxnSpPr>
            <a:stCxn id="1087" idx="7"/>
            <a:endCxn id="1089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FD1-ABF8-41EE-BD0A-75F1715386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: given the web and a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 the most ‘authoritative’ web pages for this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0: find all pages containing the query ter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9F2-501E-4BB0-8C64-A9DD4B0862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95280" y="48006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19520" y="411480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403848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004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09680" y="495288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4114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stCxn id="1106" idx="6"/>
            <a:endCxn id="1105" idx="2"/>
          </p:cNvCxnSpPr>
          <p:nvPr/>
        </p:nvCxnSpPr>
        <p:spPr>
          <a:xfrm>
            <a:off x="2370240" y="41529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2" name=""/>
          <p:cNvCxnSpPr>
            <a:stCxn id="1109" idx="6"/>
            <a:endCxn id="1105" idx="3"/>
          </p:cNvCxnSpPr>
          <p:nvPr/>
        </p:nvCxnSpPr>
        <p:spPr>
          <a:xfrm flipV="1">
            <a:off x="2445840" y="43174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3" name=""/>
          <p:cNvCxnSpPr>
            <a:stCxn id="1109" idx="6"/>
            <a:endCxn id="1107" idx="2"/>
          </p:cNvCxnSpPr>
          <p:nvPr/>
        </p:nvCxnSpPr>
        <p:spPr>
          <a:xfrm>
            <a:off x="2445840" y="506700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4" name=""/>
          <p:cNvCxnSpPr>
            <a:stCxn id="1105" idx="6"/>
            <a:endCxn id="1108" idx="2"/>
          </p:cNvCxnSpPr>
          <p:nvPr/>
        </p:nvCxnSpPr>
        <p:spPr>
          <a:xfrm flipV="1">
            <a:off x="3056040" y="40762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0" idx="6"/>
            <a:endCxn id="1106" idx="2"/>
          </p:cNvCxnSpPr>
          <p:nvPr/>
        </p:nvCxnSpPr>
        <p:spPr>
          <a:xfrm flipV="1">
            <a:off x="1379160" y="41529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04" idx="7"/>
            <a:endCxn id="1106" idx="3"/>
          </p:cNvCxnSpPr>
          <p:nvPr/>
        </p:nvCxnSpPr>
        <p:spPr>
          <a:xfrm flipV="1">
            <a:off x="1490760" y="424116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17" name=""/>
          <p:cNvSpPr/>
          <p:nvPr/>
        </p:nvSpPr>
        <p:spPr>
          <a:xfrm>
            <a:off x="1981080" y="3429000"/>
            <a:ext cx="1143000" cy="20574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5FA-AFB0-4844-AD65-8E4224B654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n the resulting graph, give high score (= ‘authorities’) to nodes that many important nodes point 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 high importance score (‘hubs’) to nodes that point to good ‘authorities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066680" y="4800600"/>
            <a:ext cx="1828800" cy="914040"/>
            <a:chOff x="1066680" y="4800600"/>
            <a:chExt cx="1828800" cy="914040"/>
          </a:xfrm>
        </p:grpSpPr>
        <p:sp>
          <p:nvSpPr>
            <p:cNvPr id="1121" name=""/>
            <p:cNvSpPr/>
            <p:nvPr/>
          </p:nvSpPr>
          <p:spPr>
            <a:xfrm>
              <a:off x="1173960" y="542916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50000" y="491472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65800" y="485748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8920" y="554328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34200" y="480060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19440" y="554328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066680" y="491472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28" name=""/>
            <p:cNvCxnSpPr>
              <a:stCxn id="1123" idx="6"/>
              <a:endCxn id="1122" idx="2"/>
            </p:cNvCxnSpPr>
            <p:nvPr/>
          </p:nvCxnSpPr>
          <p:spPr>
            <a:xfrm>
              <a:off x="1932480" y="4942800"/>
              <a:ext cx="311760" cy="579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29" name=""/>
            <p:cNvCxnSpPr>
              <a:stCxn id="1126" idx="6"/>
              <a:endCxn id="1122" idx="3"/>
            </p:cNvCxnSpPr>
            <p:nvPr/>
          </p:nvCxnSpPr>
          <p:spPr>
            <a:xfrm flipV="1">
              <a:off x="1986480" y="5066280"/>
              <a:ext cx="286920" cy="5626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0" name=""/>
            <p:cNvCxnSpPr>
              <a:stCxn id="1126" idx="6"/>
              <a:endCxn id="1124" idx="2"/>
            </p:cNvCxnSpPr>
            <p:nvPr/>
          </p:nvCxnSpPr>
          <p:spPr>
            <a:xfrm>
              <a:off x="1986120" y="5628960"/>
              <a:ext cx="527400" cy="10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1" name=""/>
            <p:cNvCxnSpPr>
              <a:stCxn id="1122" idx="6"/>
              <a:endCxn id="1125" idx="2"/>
            </p:cNvCxnSpPr>
            <p:nvPr/>
          </p:nvCxnSpPr>
          <p:spPr>
            <a:xfrm flipV="1">
              <a:off x="2416680" y="4885560"/>
              <a:ext cx="311760" cy="1152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2" name=""/>
            <p:cNvCxnSpPr>
              <a:stCxn id="1127" idx="6"/>
              <a:endCxn id="1123" idx="2"/>
            </p:cNvCxnSpPr>
            <p:nvPr/>
          </p:nvCxnSpPr>
          <p:spPr>
            <a:xfrm flipV="1">
              <a:off x="1233000" y="4942440"/>
              <a:ext cx="527400" cy="579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3" name=""/>
            <p:cNvCxnSpPr>
              <a:stCxn id="1121" idx="7"/>
              <a:endCxn id="1123" idx="3"/>
            </p:cNvCxnSpPr>
            <p:nvPr/>
          </p:nvCxnSpPr>
          <p:spPr>
            <a:xfrm flipV="1">
              <a:off x="1311480" y="5009400"/>
              <a:ext cx="477720" cy="4388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1134" name=""/>
          <p:cNvSpPr/>
          <p:nvPr/>
        </p:nvSpPr>
        <p:spPr>
          <a:xfrm>
            <a:off x="4419720" y="53341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81480" y="533412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81480" y="480060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57913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57150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43400" y="491508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34" idx="6"/>
            <a:endCxn id="1135" idx="2"/>
          </p:cNvCxnSpPr>
          <p:nvPr/>
        </p:nvCxnSpPr>
        <p:spPr>
          <a:xfrm>
            <a:off x="4587480" y="5419440"/>
            <a:ext cx="5864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8" idx="6"/>
            <a:endCxn id="1135" idx="3"/>
          </p:cNvCxnSpPr>
          <p:nvPr/>
        </p:nvCxnSpPr>
        <p:spPr>
          <a:xfrm flipV="1">
            <a:off x="4589640" y="5487120"/>
            <a:ext cx="615960" cy="3135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6"/>
            <a:endCxn id="1137" idx="2"/>
          </p:cNvCxnSpPr>
          <p:nvPr/>
        </p:nvCxnSpPr>
        <p:spPr>
          <a:xfrm>
            <a:off x="4589280" y="5800680"/>
            <a:ext cx="5086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6"/>
            <a:endCxn id="1136" idx="2"/>
          </p:cNvCxnSpPr>
          <p:nvPr/>
        </p:nvCxnSpPr>
        <p:spPr>
          <a:xfrm flipV="1">
            <a:off x="4513320" y="4885920"/>
            <a:ext cx="660600" cy="1152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4" idx="7"/>
            <a:endCxn id="1136" idx="3"/>
          </p:cNvCxnSpPr>
          <p:nvPr/>
        </p:nvCxnSpPr>
        <p:spPr>
          <a:xfrm flipV="1">
            <a:off x="4555800" y="4954320"/>
            <a:ext cx="649800" cy="397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45" name=""/>
          <p:cNvSpPr/>
          <p:nvPr/>
        </p:nvSpPr>
        <p:spPr>
          <a:xfrm>
            <a:off x="3383640" y="5303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ub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5303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hor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200400" y="4648320"/>
            <a:ext cx="0" cy="167616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865-AB9B-4450-9863-B39FD19F3E7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2554200"/>
            <a:ext cx="738648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E1A-830D-4500-8506-D5F3DC6A87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ursive definition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ach node (say, ‘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’-th node) has both an authoritativeness scor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a hubness scor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869-5AB5-4966-A3F6-F20A38A109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set of edges an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adjacency matrix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(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is 1 if the edge from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exi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 [n x 1] vectors with the ‘hubness’ and ‘authoritativiness’ scor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9C9-497B-4C2D-9CF3-C6DB44051BA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=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,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174680" y="3676680"/>
            <a:ext cx="16056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16224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58" name=""/>
          <p:cNvCxnSpPr>
            <a:stCxn id="1157" idx="6"/>
            <a:endCxn id="1155" idx="2"/>
          </p:cNvCxnSpPr>
          <p:nvPr/>
        </p:nvCxnSpPr>
        <p:spPr>
          <a:xfrm flipV="1">
            <a:off x="1233360" y="3190680"/>
            <a:ext cx="527760" cy="576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59" name=""/>
          <p:cNvCxnSpPr>
            <a:stCxn id="1154" idx="7"/>
            <a:endCxn id="1155" idx="3"/>
          </p:cNvCxnSpPr>
          <p:nvPr/>
        </p:nvCxnSpPr>
        <p:spPr>
          <a:xfrm flipV="1">
            <a:off x="1312560" y="3256920"/>
            <a:ext cx="477000" cy="4388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60" name=""/>
          <p:cNvCxnSpPr>
            <a:stCxn id="1156" idx="5"/>
            <a:endCxn id="1155" idx="1"/>
          </p:cNvCxnSpPr>
          <p:nvPr/>
        </p:nvCxnSpPr>
        <p:spPr>
          <a:xfrm>
            <a:off x="1128240" y="2897280"/>
            <a:ext cx="661320" cy="226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61" name=""/>
          <p:cNvSpPr/>
          <p:nvPr/>
        </p:nvSpPr>
        <p:spPr>
          <a:xfrm>
            <a:off x="353880" y="263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7160" y="316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9840" y="3702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70000" y="3017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395-59C6-45CE-8A1F-341261213A0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ymmetrically, for the ‘hubnes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00200" y="37339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00200" y="2209680"/>
            <a:ext cx="16200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11120" y="274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019240" y="213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08160" y="373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2320" y="213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75" name=""/>
          <p:cNvCxnSpPr>
            <a:stCxn id="1169" idx="7"/>
            <a:endCxn id="1170" idx="2"/>
          </p:cNvCxnSpPr>
          <p:nvPr/>
        </p:nvCxnSpPr>
        <p:spPr>
          <a:xfrm flipV="1">
            <a:off x="1128600" y="2294640"/>
            <a:ext cx="464400" cy="4662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6" name=""/>
          <p:cNvCxnSpPr>
            <a:stCxn id="1169" idx="6"/>
            <a:endCxn id="1168" idx="2"/>
          </p:cNvCxnSpPr>
          <p:nvPr/>
        </p:nvCxnSpPr>
        <p:spPr>
          <a:xfrm>
            <a:off x="1160640" y="2828880"/>
            <a:ext cx="597600" cy="36252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69" idx="4"/>
            <a:endCxn id="1167" idx="1"/>
          </p:cNvCxnSpPr>
          <p:nvPr/>
        </p:nvCxnSpPr>
        <p:spPr>
          <a:xfrm>
            <a:off x="1071720" y="2922480"/>
            <a:ext cx="552960" cy="829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EF5-0D40-47B2-86AD-787F1F3A1BF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conclusion, we want vector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uch th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all properti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086600" y="2895480"/>
            <a:ext cx="7632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43800" y="2895480"/>
            <a:ext cx="60948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81880" y="2895480"/>
            <a:ext cx="7632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164720" y="28861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AE3-00DC-45F8-A538-FB63EEA7DB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short, the solutions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re th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left- and right- singular-vecto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adjacency matrix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ing from rand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’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iterating, we’ll eventually conver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Q: to which of all the singular-vectors? why?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7200" y="1905120"/>
            <a:ext cx="8229600" cy="4190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477-9AD4-4C9E-A498-3EF580A053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Q: to which of all the singular-vectors? why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to the ones of the strongest singular-value, because of property B(5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814-FC3F-4E8F-8010-CB4C463F108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 - resul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g., for the query ‘java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328 www.gamelan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251 java.sun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190 www.digitalfocus.com (“the java developer”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68E-5367-48F0-92F9-3C4322E90F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 - discuss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uthority’ score can be used to find ‘similar pages’ (how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B62-F38F-4EB6-ACF3-D7EFD784D29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 (HIT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4920" y="4419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3E5-BB68-4ADC-8808-76B1B43D13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ustomer-product, for recommendation system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180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5416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344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750600">
            <a:off x="3414600" y="2637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660000">
            <a:off x="3791880" y="254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ettu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8730200">
            <a:off x="4745520" y="2740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e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0816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64480" y="38854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vegetaria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96160" y="5257080"/>
            <a:ext cx="19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at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816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0816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816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8660000">
            <a:off x="4089600" y="2504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oma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730200">
            <a:off x="4972320" y="2571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ic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17C-0CCC-46D9-A0CC-305E76C3F5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ageRank (google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197" name="Rectangle 3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124440" cy="216396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3886200" y="2362320"/>
            <a:ext cx="4952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, Sergey and Lawrence Page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natomy of a Large-Scale Hypertextual Web Search Engin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7th Intl World Wide Web Conf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6040" y="4943520"/>
            <a:ext cx="9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ar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82880" y="495288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rgey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730-8983-44D4-A0DD-72B7FE3D6E2D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blem: PageRan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irected graph, find its most interesting/central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36440" y="4035600"/>
            <a:ext cx="36493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is important,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it is connecte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important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cursive, but OK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295280" y="5105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33720" y="43434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20040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20968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14300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06" idx="6"/>
            <a:endCxn id="1205" idx="2"/>
          </p:cNvCxnSpPr>
          <p:nvPr/>
        </p:nvCxnSpPr>
        <p:spPr>
          <a:xfrm>
            <a:off x="2370240" y="445752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2" name=""/>
          <p:cNvCxnSpPr>
            <a:stCxn id="1209" idx="6"/>
            <a:endCxn id="1205" idx="3"/>
          </p:cNvCxnSpPr>
          <p:nvPr/>
        </p:nvCxnSpPr>
        <p:spPr>
          <a:xfrm flipV="1">
            <a:off x="2445840" y="462240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13" name=""/>
          <p:cNvCxnSpPr>
            <a:stCxn id="1209" idx="6"/>
            <a:endCxn id="1207" idx="2"/>
          </p:cNvCxnSpPr>
          <p:nvPr/>
        </p:nvCxnSpPr>
        <p:spPr>
          <a:xfrm>
            <a:off x="2445840" y="537192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214" name=""/>
          <p:cNvCxnSpPr>
            <a:stCxn id="1205" idx="6"/>
            <a:endCxn id="1208" idx="2"/>
          </p:cNvCxnSpPr>
          <p:nvPr/>
        </p:nvCxnSpPr>
        <p:spPr>
          <a:xfrm flipV="1">
            <a:off x="3056040" y="4380840"/>
            <a:ext cx="442080" cy="153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15" name=""/>
          <p:cNvCxnSpPr>
            <a:stCxn id="1210" idx="6"/>
            <a:endCxn id="1206" idx="2"/>
          </p:cNvCxnSpPr>
          <p:nvPr/>
        </p:nvCxnSpPr>
        <p:spPr>
          <a:xfrm flipV="1">
            <a:off x="1379160" y="44571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4" idx="7"/>
            <a:endCxn id="1206" idx="3"/>
          </p:cNvCxnSpPr>
          <p:nvPr/>
        </p:nvCxnSpPr>
        <p:spPr>
          <a:xfrm flipV="1">
            <a:off x="1490760" y="454572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09" idx="0"/>
            <a:endCxn id="1206" idx="4"/>
          </p:cNvCxnSpPr>
          <p:nvPr/>
        </p:nvCxnSpPr>
        <p:spPr>
          <a:xfrm flipH="1" flipV="1">
            <a:off x="2247840" y="4579200"/>
            <a:ext cx="76680" cy="670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BF4-BD37-4B58-AE43-A25E65D155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: PageRank -  solu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irected graph, find its most interesting/central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posed solution: Random walk; spot most ‘popular’ node (-&gt; steady state prob. (ssp)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95280" y="5105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133720" y="43434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0040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0968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300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27" name=""/>
          <p:cNvCxnSpPr>
            <a:stCxn id="1222" idx="6"/>
            <a:endCxn id="1221" idx="2"/>
          </p:cNvCxnSpPr>
          <p:nvPr/>
        </p:nvCxnSpPr>
        <p:spPr>
          <a:xfrm>
            <a:off x="2370240" y="445752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28" name=""/>
          <p:cNvCxnSpPr>
            <a:stCxn id="1225" idx="6"/>
            <a:endCxn id="1221" idx="3"/>
          </p:cNvCxnSpPr>
          <p:nvPr/>
        </p:nvCxnSpPr>
        <p:spPr>
          <a:xfrm flipV="1">
            <a:off x="2445840" y="462240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29" name=""/>
          <p:cNvCxnSpPr>
            <a:stCxn id="1225" idx="6"/>
            <a:endCxn id="1223" idx="2"/>
          </p:cNvCxnSpPr>
          <p:nvPr/>
        </p:nvCxnSpPr>
        <p:spPr>
          <a:xfrm>
            <a:off x="2445840" y="537192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230" name=""/>
          <p:cNvCxnSpPr>
            <a:stCxn id="1221" idx="6"/>
            <a:endCxn id="1224" idx="2"/>
          </p:cNvCxnSpPr>
          <p:nvPr/>
        </p:nvCxnSpPr>
        <p:spPr>
          <a:xfrm flipV="1">
            <a:off x="3056040" y="4380840"/>
            <a:ext cx="442080" cy="153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31" name=""/>
          <p:cNvCxnSpPr>
            <a:stCxn id="1226" idx="6"/>
            <a:endCxn id="1222" idx="2"/>
          </p:cNvCxnSpPr>
          <p:nvPr/>
        </p:nvCxnSpPr>
        <p:spPr>
          <a:xfrm flipV="1">
            <a:off x="1379160" y="44571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0" idx="7"/>
            <a:endCxn id="1222" idx="3"/>
          </p:cNvCxnSpPr>
          <p:nvPr/>
        </p:nvCxnSpPr>
        <p:spPr>
          <a:xfrm flipV="1">
            <a:off x="1490760" y="454572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25" idx="0"/>
            <a:endCxn id="1222" idx="4"/>
          </p:cNvCxnSpPr>
          <p:nvPr/>
        </p:nvCxnSpPr>
        <p:spPr>
          <a:xfrm flipH="1" flipV="1">
            <a:off x="2247840" y="4579200"/>
            <a:ext cx="76680" cy="670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234" name=""/>
          <p:cNvSpPr/>
          <p:nvPr/>
        </p:nvSpPr>
        <p:spPr>
          <a:xfrm>
            <a:off x="4636440" y="4046400"/>
            <a:ext cx="35733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has high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s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it is connecte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high ss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cursive, but OK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491-4B53-43A4-A0D2-7154D4B44A6B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adjacency matrix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be the transition matrix: transpose, column-normaliz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th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413640" y="3681360"/>
            <a:ext cx="2658960" cy="2269080"/>
            <a:chOff x="413640" y="3681360"/>
            <a:chExt cx="2658960" cy="2269080"/>
          </a:xfrm>
        </p:grpSpPr>
        <p:grpSp>
          <p:nvGrpSpPr>
            <p:cNvPr id="1238" name=""/>
            <p:cNvGrpSpPr/>
            <p:nvPr/>
          </p:nvGrpSpPr>
          <p:grpSpPr>
            <a:xfrm>
              <a:off x="457200" y="3681360"/>
              <a:ext cx="2513880" cy="2108520"/>
              <a:chOff x="457200" y="3681360"/>
              <a:chExt cx="2513880" cy="210852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8800" y="5205960"/>
                <a:ext cx="29952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66832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62920" y="403848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64080" y="543924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720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244" name=""/>
              <p:cNvCxnSpPr>
                <a:stCxn id="1241" idx="6"/>
                <a:endCxn id="1240" idx="2"/>
              </p:cNvCxnSpPr>
              <p:nvPr/>
            </p:nvCxnSpPr>
            <p:spPr>
              <a:xfrm>
                <a:off x="2077560" y="4214160"/>
                <a:ext cx="58212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5" name=""/>
              <p:cNvCxnSpPr>
                <a:stCxn id="1242" idx="6"/>
                <a:endCxn id="1240" idx="3"/>
              </p:cNvCxnSpPr>
              <p:nvPr/>
            </p:nvCxnSpPr>
            <p:spPr>
              <a:xfrm flipV="1">
                <a:off x="2179080" y="4466880"/>
                <a:ext cx="534240" cy="11480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6" name=""/>
              <p:cNvCxnSpPr>
                <a:stCxn id="1243" idx="6"/>
                <a:endCxn id="1241" idx="2"/>
              </p:cNvCxnSpPr>
              <p:nvPr/>
            </p:nvCxnSpPr>
            <p:spPr>
              <a:xfrm flipV="1">
                <a:off x="768240" y="4213800"/>
                <a:ext cx="98604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7" name=""/>
              <p:cNvCxnSpPr>
                <a:stCxn id="1239" idx="7"/>
                <a:endCxn id="1241" idx="3"/>
              </p:cNvCxnSpPr>
              <p:nvPr/>
            </p:nvCxnSpPr>
            <p:spPr>
              <a:xfrm flipV="1">
                <a:off x="917640" y="4349880"/>
                <a:ext cx="890640" cy="8956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8" name=""/>
              <p:cNvCxnSpPr>
                <a:stCxn id="1242" idx="2"/>
                <a:endCxn id="1239" idx="6"/>
              </p:cNvCxnSpPr>
              <p:nvPr/>
            </p:nvCxnSpPr>
            <p:spPr>
              <a:xfrm flipH="1" flipV="1">
                <a:off x="973080" y="5380560"/>
                <a:ext cx="876240" cy="2343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9" name=""/>
              <p:cNvCxnSpPr>
                <a:stCxn id="1240" idx="0"/>
                <a:endCxn id="1243" idx="1"/>
              </p:cNvCxnSpPr>
              <p:nvPr/>
            </p:nvCxnSpPr>
            <p:spPr>
              <a:xfrm rot="5400000">
                <a:off x="1633680" y="3004920"/>
                <a:ext cx="52920" cy="2318760"/>
              </a:xfrm>
              <a:prstGeom prst="curvedConnector5">
                <a:avLst>
                  <a:gd name="adj1" fmla="val -868493"/>
                  <a:gd name="adj2" fmla="val 50000"/>
                  <a:gd name="adj3" fmla="val -868493"/>
                </a:avLst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50" name=""/>
              <p:cNvCxnSpPr>
                <a:stCxn id="1241" idx="5"/>
                <a:endCxn id="1242" idx="0"/>
              </p:cNvCxnSpPr>
              <p:nvPr/>
            </p:nvCxnSpPr>
            <p:spPr>
              <a:xfrm flipH="1">
                <a:off x="2014920" y="4353120"/>
                <a:ext cx="6480" cy="1070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sp>
          <p:nvSpPr>
            <p:cNvPr id="1251" name=""/>
            <p:cNvSpPr/>
            <p:nvPr/>
          </p:nvSpPr>
          <p:spPr>
            <a:xfrm>
              <a:off x="41364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09280" y="394128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2368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13800" y="513000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85240" y="538884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358128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601920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6400800" y="3581280"/>
            <a:ext cx="685440" cy="2438280"/>
            <a:chOff x="6400800" y="3581280"/>
            <a:chExt cx="685440" cy="2438280"/>
          </a:xfrm>
        </p:grpSpPr>
        <p:sp>
          <p:nvSpPr>
            <p:cNvPr id="1259" name=""/>
            <p:cNvSpPr/>
            <p:nvPr/>
          </p:nvSpPr>
          <p:spPr>
            <a:xfrm>
              <a:off x="640080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85728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7696080" y="3581280"/>
            <a:ext cx="990360" cy="2438280"/>
            <a:chOff x="7696080" y="3581280"/>
            <a:chExt cx="990360" cy="2438280"/>
          </a:xfrm>
        </p:grpSpPr>
        <p:graphicFrame>
          <p:nvGraphicFramePr>
            <p:cNvPr id="1262" name=""/>
            <p:cNvGraphicFramePr/>
            <p:nvPr/>
          </p:nvGraphicFramePr>
          <p:xfrm>
            <a:off x="7696080" y="3657240"/>
            <a:ext cx="893880" cy="2286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6080" y="3657240"/>
                      <a:ext cx="893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8001000" y="3581280"/>
              <a:ext cx="685440" cy="2438280"/>
              <a:chOff x="8001000" y="3581280"/>
              <a:chExt cx="685440" cy="2438280"/>
            </a:xfrm>
          </p:grpSpPr>
          <p:sp>
            <p:nvSpPr>
              <p:cNvPr id="1265" name=""/>
              <p:cNvSpPr/>
              <p:nvPr/>
            </p:nvSpPr>
            <p:spPr>
              <a:xfrm>
                <a:off x="800100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845748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7" name=""/>
          <p:cNvGraphicFramePr/>
          <p:nvPr/>
        </p:nvGraphicFramePr>
        <p:xfrm>
          <a:off x="6172200" y="3657600"/>
          <a:ext cx="89388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657600"/>
                    <a:ext cx="89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7199640" y="438984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72360" y="3353040"/>
            <a:ext cx="69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255840" y="3002040"/>
            <a:ext cx="84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19520" y="3276720"/>
            <a:ext cx="533160" cy="228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439160" y="3170520"/>
            <a:ext cx="419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3525840" y="3676680"/>
          <a:ext cx="2797200" cy="2438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76680"/>
                    <a:ext cx="279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CEE-F50E-4247-BB33-7ADE7E3627F7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p = 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8128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601920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6400800" y="3581280"/>
            <a:ext cx="685440" cy="2438280"/>
            <a:chOff x="6400800" y="3581280"/>
            <a:chExt cx="685440" cy="2438280"/>
          </a:xfrm>
        </p:grpSpPr>
        <p:sp>
          <p:nvSpPr>
            <p:cNvPr id="1281" name=""/>
            <p:cNvSpPr/>
            <p:nvPr/>
          </p:nvSpPr>
          <p:spPr>
            <a:xfrm>
              <a:off x="640080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85728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696080" y="3581280"/>
            <a:ext cx="990360" cy="2438280"/>
            <a:chOff x="7696080" y="3581280"/>
            <a:chExt cx="990360" cy="2438280"/>
          </a:xfrm>
        </p:grpSpPr>
        <p:graphicFrame>
          <p:nvGraphicFramePr>
            <p:cNvPr id="1284" name=""/>
            <p:cNvGraphicFramePr/>
            <p:nvPr/>
          </p:nvGraphicFramePr>
          <p:xfrm>
            <a:off x="7696080" y="3657240"/>
            <a:ext cx="893880" cy="2286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6080" y="3657240"/>
                      <a:ext cx="893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6" name=""/>
            <p:cNvGrpSpPr/>
            <p:nvPr/>
          </p:nvGrpSpPr>
          <p:grpSpPr>
            <a:xfrm>
              <a:off x="8001000" y="3581280"/>
              <a:ext cx="685440" cy="2438280"/>
              <a:chOff x="8001000" y="3581280"/>
              <a:chExt cx="685440" cy="2438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800100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845748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9" name=""/>
          <p:cNvGraphicFramePr/>
          <p:nvPr/>
        </p:nvGraphicFramePr>
        <p:xfrm>
          <a:off x="6172200" y="3657600"/>
          <a:ext cx="89388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657600"/>
                    <a:ext cx="89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"/>
          <p:cNvSpPr/>
          <p:nvPr/>
        </p:nvSpPr>
        <p:spPr>
          <a:xfrm>
            <a:off x="7199640" y="438984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722120" y="2743560"/>
            <a:ext cx="375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                     p    =      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3525840" y="3676680"/>
          <a:ext cx="2797200" cy="2438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76680"/>
                    <a:ext cx="279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5" name=""/>
          <p:cNvGrpSpPr/>
          <p:nvPr/>
        </p:nvGrpSpPr>
        <p:grpSpPr>
          <a:xfrm>
            <a:off x="413640" y="3681360"/>
            <a:ext cx="2658960" cy="2269080"/>
            <a:chOff x="413640" y="3681360"/>
            <a:chExt cx="2658960" cy="2269080"/>
          </a:xfrm>
        </p:grpSpPr>
        <p:grpSp>
          <p:nvGrpSpPr>
            <p:cNvPr id="1296" name=""/>
            <p:cNvGrpSpPr/>
            <p:nvPr/>
          </p:nvGrpSpPr>
          <p:grpSpPr>
            <a:xfrm>
              <a:off x="457200" y="3681360"/>
              <a:ext cx="2513880" cy="2108520"/>
              <a:chOff x="457200" y="3681360"/>
              <a:chExt cx="2513880" cy="2108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658800" y="5205960"/>
                <a:ext cx="29952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66832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762920" y="403848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864080" y="543924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5720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302" name=""/>
              <p:cNvCxnSpPr>
                <a:stCxn id="1299" idx="6"/>
                <a:endCxn id="1298" idx="2"/>
              </p:cNvCxnSpPr>
              <p:nvPr/>
            </p:nvCxnSpPr>
            <p:spPr>
              <a:xfrm>
                <a:off x="2077560" y="4214160"/>
                <a:ext cx="58212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3" name=""/>
              <p:cNvCxnSpPr>
                <a:stCxn id="1300" idx="6"/>
                <a:endCxn id="1298" idx="3"/>
              </p:cNvCxnSpPr>
              <p:nvPr/>
            </p:nvCxnSpPr>
            <p:spPr>
              <a:xfrm flipV="1">
                <a:off x="2179080" y="4466880"/>
                <a:ext cx="534240" cy="11480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4" name=""/>
              <p:cNvCxnSpPr>
                <a:stCxn id="1301" idx="6"/>
                <a:endCxn id="1299" idx="2"/>
              </p:cNvCxnSpPr>
              <p:nvPr/>
            </p:nvCxnSpPr>
            <p:spPr>
              <a:xfrm flipV="1">
                <a:off x="768240" y="4213800"/>
                <a:ext cx="98604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5" name=""/>
              <p:cNvCxnSpPr>
                <a:stCxn id="1297" idx="7"/>
                <a:endCxn id="1299" idx="3"/>
              </p:cNvCxnSpPr>
              <p:nvPr/>
            </p:nvCxnSpPr>
            <p:spPr>
              <a:xfrm flipV="1">
                <a:off x="917640" y="4349880"/>
                <a:ext cx="890640" cy="8956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6" name=""/>
              <p:cNvCxnSpPr>
                <a:stCxn id="1300" idx="2"/>
                <a:endCxn id="1297" idx="6"/>
              </p:cNvCxnSpPr>
              <p:nvPr/>
            </p:nvCxnSpPr>
            <p:spPr>
              <a:xfrm flipH="1" flipV="1">
                <a:off x="973080" y="5380560"/>
                <a:ext cx="876240" cy="2343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7" name=""/>
              <p:cNvCxnSpPr>
                <a:stCxn id="1298" idx="0"/>
                <a:endCxn id="1301" idx="1"/>
              </p:cNvCxnSpPr>
              <p:nvPr/>
            </p:nvCxnSpPr>
            <p:spPr>
              <a:xfrm rot="5400000">
                <a:off x="1633680" y="3004920"/>
                <a:ext cx="52920" cy="2318760"/>
              </a:xfrm>
              <a:prstGeom prst="curvedConnector5">
                <a:avLst>
                  <a:gd name="adj1" fmla="val -868493"/>
                  <a:gd name="adj2" fmla="val 50000"/>
                  <a:gd name="adj3" fmla="val -868493"/>
                </a:avLst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8" name=""/>
              <p:cNvCxnSpPr>
                <a:stCxn id="1299" idx="5"/>
                <a:endCxn id="1300" idx="0"/>
              </p:cNvCxnSpPr>
              <p:nvPr/>
            </p:nvCxnSpPr>
            <p:spPr>
              <a:xfrm flipH="1">
                <a:off x="2014920" y="4353120"/>
                <a:ext cx="6480" cy="1070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sp>
          <p:nvSpPr>
            <p:cNvPr id="1309" name=""/>
            <p:cNvSpPr/>
            <p:nvPr/>
          </p:nvSpPr>
          <p:spPr>
            <a:xfrm>
              <a:off x="41364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09280" y="394128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2368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3800" y="513000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85240" y="538884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215-7A34-4AD3-94AF-DDD7728BBC6E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finit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jacency matrix (from-to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gree matrix = (diag ( d1, d2, …, dn) 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ransition matrix: to-from, column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rmaliz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=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D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6DD-55BD-45C8-B519-014E5A170D36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p =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 *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corresponds to the highest eigenvalu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=1, since the matrix is column-normaliz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 does such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ist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ists if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nxn, nonnegative, irreducible [Perron–Frobenius theorem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1ED-C6C4-46AC-B557-80290460BD55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short: imagine a particle randomly moving along the ed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ute its steady-state probabilities (ssp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ll version of algo:  with occasional random jum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? To make the matrix irreduc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185-F807-4413-981D-CE69BBC9EBB0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Full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probabilit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1-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fly-out to a random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, we ha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+ 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=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]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295280" y="4724280"/>
            <a:ext cx="15264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71800" y="4724280"/>
            <a:ext cx="1143000" cy="10670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648320" y="4724280"/>
            <a:ext cx="15228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943600" y="2766960"/>
            <a:ext cx="2513880" cy="2109240"/>
            <a:chOff x="5943600" y="2766960"/>
            <a:chExt cx="2513880" cy="2109240"/>
          </a:xfrm>
        </p:grpSpPr>
        <p:sp>
          <p:nvSpPr>
            <p:cNvPr id="1326" name=""/>
            <p:cNvSpPr/>
            <p:nvPr/>
          </p:nvSpPr>
          <p:spPr>
            <a:xfrm>
              <a:off x="6145200" y="4292280"/>
              <a:ext cx="29952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5472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9320" y="312408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50480" y="452556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4360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331" name=""/>
            <p:cNvCxnSpPr>
              <a:stCxn id="1328" idx="6"/>
              <a:endCxn id="1327" idx="2"/>
            </p:cNvCxnSpPr>
            <p:nvPr/>
          </p:nvCxnSpPr>
          <p:spPr>
            <a:xfrm>
              <a:off x="7563960" y="3299760"/>
              <a:ext cx="58212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2" name=""/>
            <p:cNvCxnSpPr>
              <a:stCxn id="1329" idx="6"/>
              <a:endCxn id="1327" idx="3"/>
            </p:cNvCxnSpPr>
            <p:nvPr/>
          </p:nvCxnSpPr>
          <p:spPr>
            <a:xfrm flipV="1">
              <a:off x="7665480" y="3552480"/>
              <a:ext cx="534240" cy="114912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3" name=""/>
            <p:cNvCxnSpPr>
              <a:stCxn id="1330" idx="6"/>
              <a:endCxn id="1328" idx="2"/>
            </p:cNvCxnSpPr>
            <p:nvPr/>
          </p:nvCxnSpPr>
          <p:spPr>
            <a:xfrm flipV="1">
              <a:off x="6254640" y="3299400"/>
              <a:ext cx="98604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4" name=""/>
            <p:cNvCxnSpPr>
              <a:stCxn id="1326" idx="7"/>
              <a:endCxn id="1328" idx="3"/>
            </p:cNvCxnSpPr>
            <p:nvPr/>
          </p:nvCxnSpPr>
          <p:spPr>
            <a:xfrm flipV="1">
              <a:off x="6404040" y="3435120"/>
              <a:ext cx="890640" cy="896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5" name=""/>
            <p:cNvCxnSpPr>
              <a:stCxn id="1329" idx="2"/>
              <a:endCxn id="1326" idx="6"/>
            </p:cNvCxnSpPr>
            <p:nvPr/>
          </p:nvCxnSpPr>
          <p:spPr>
            <a:xfrm flipH="1" flipV="1">
              <a:off x="6459480" y="4466520"/>
              <a:ext cx="876240" cy="2343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6" name=""/>
            <p:cNvCxnSpPr>
              <a:stCxn id="1327" idx="0"/>
              <a:endCxn id="1330" idx="1"/>
            </p:cNvCxnSpPr>
            <p:nvPr/>
          </p:nvCxnSpPr>
          <p:spPr>
            <a:xfrm rot="5400000">
              <a:off x="7120080" y="2090520"/>
              <a:ext cx="52920" cy="2318760"/>
            </a:xfrm>
            <a:prstGeom prst="curvedConnector5">
              <a:avLst>
                <a:gd name="adj1" fmla="val -868493"/>
                <a:gd name="adj2" fmla="val 50000"/>
                <a:gd name="adj3" fmla="val -868493"/>
              </a:avLst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7" name=""/>
            <p:cNvCxnSpPr>
              <a:stCxn id="1328" idx="5"/>
              <a:endCxn id="1329" idx="0"/>
            </p:cNvCxnSpPr>
            <p:nvPr/>
          </p:nvCxnSpPr>
          <p:spPr>
            <a:xfrm flipH="1">
              <a:off x="7501320" y="3438360"/>
              <a:ext cx="6480" cy="10710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75D-C254-4E02-9D6B-AD0036D8F30B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lternative not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dified transition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(1-c)/n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: the steady state probabilities =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geRank scores form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irst 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the ‘modified transition matrix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53F-8084-4CAE-87F5-6BF50F0CF3E0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4:17:22Z</dcterms:created>
  <dc:creator>Christos Faloutsos</dc:creator>
  <dc:description/>
  <dc:language>en-US</dc:language>
  <cp:lastModifiedBy>christos</cp:lastModifiedBy>
  <cp:lastPrinted>2000-02-27T03:36:14Z</cp:lastPrinted>
  <dcterms:modified xsi:type="dcterms:W3CDTF">2009-06-05T16:08:15Z</dcterms:modified>
  <cp:revision>680</cp:revision>
  <dc:subject>Task 1: importance</dc:subject>
  <dc:title>KDD'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hristos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junk\salerno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