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9DB81-90CA-4895-87E1-9CEEEDFF3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ECFA2-567A-42DD-9AD0-F8BFD05524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07951-203D-43AD-A7DF-7979B9CA0E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5D4-01C0-442A-85BF-1141C2B9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C1F-B049-4388-8907-5EBB34ED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BA9-1AE5-4008-93C4-07F11E9C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10C-8D64-4E1E-8A5A-F12300FF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F872-7011-4945-A19E-111513DB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1E0E-5F62-424D-8BFF-45098108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6811-A47E-4A09-959C-527E8E3A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5D01-85E3-44C8-9AD3-D59C6D4F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6A2B-0F19-41E6-B20D-4B618F5D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37ED-D806-4AF2-82DD-9AF27393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0B31-33ED-4BFC-9F98-5564E603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568-FA71-4384-A282-C5165127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3EA1-58AF-431B-8F70-648EAD32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5738-E6A1-4B41-9CBB-1A669DC8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D2C1-9D28-4FD1-A54B-D18CDFD8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76A9-B4A5-4E14-83D4-EE1E0CF1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EA3A-0AC5-48A6-8CD9-69300B4C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EC0-EE30-4E6D-8978-E092613B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9D4F-6185-442D-A4D0-A4E2605F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CC4-7FDA-4136-92FA-478116C3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1C0A-04DC-4F78-9B2F-A671DF28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293A-B0A6-4D50-813A-0317C17C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12A-98CC-4A5F-8254-87D590CA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9EA-2F4A-432B-BF42-73A2392B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6-</a:t>
            </a:r>
            <a:fld id="{F5CA5F9C-C291-4532-A3A5-F79C149FA09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24E96744-BD5C-435B-9C3F-464CD8CE5ADA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aloutsos, Miller,Tsourakak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518-CDEC-4AF1-9198-FE24012A60E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Beginning of proof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ealthy @ t+1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- ( healthy or healed 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- and not attacked @ 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et: p(i , t) = Prob node i is sick @ t+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 -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p(i, t+1 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= (1 –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p(i, t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p(i, t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* </a:t>
            </a:r>
            <a:r>
              <a:rPr b="0" i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) *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(1 – </a:t>
            </a:r>
            <a:r>
              <a:rPr b="0" i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aji * p(j , t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elow threshold, if the abov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non-linear dynamical system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above is ‘stable’ (eigenvalue of Hessian &lt; 1 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467480" y="0"/>
            <a:ext cx="131472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468C-E65C-4BC2-92F0-7D53249738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demic threshold for various network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rmula includes older results as special cases: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mogeneous networks [Kephart+White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λ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,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A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&lt;k&gt;; τ = 1/&lt;k&gt;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&lt;k&gt; : avg degree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ar networks (d = degree of center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λ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,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A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sqrt(d); τ = 1/ sqrt(d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finite power-law network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λ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,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A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∞; τ = 0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; [Barabasi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3DE-8B39-49E4-88C3-AFC086E509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demic threshol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[Theorem 2] Below the epidemic threshold, the epidemic dies out exponentiall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6B0-0529-410B-816D-2A7F8F394CA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pidemic threshol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blem defini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perime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raud detection in e-ba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3200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BA7-2CC9-4D35-9AA2-775BDF35B0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urrent prediction vs. previou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5028840"/>
            <a:ext cx="883908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he formula’s predictions are more accurat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800840" cy="2762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072160" y="44197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reg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16280" y="4419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47920" y="1447920"/>
            <a:ext cx="1142280" cy="2133360"/>
            <a:chOff x="1447920" y="1447920"/>
            <a:chExt cx="1142280" cy="2133360"/>
          </a:xfrm>
        </p:grpSpPr>
        <p:sp>
          <p:nvSpPr>
            <p:cNvPr id="192" name=""/>
            <p:cNvSpPr/>
            <p:nvPr/>
          </p:nvSpPr>
          <p:spPr>
            <a:xfrm>
              <a:off x="1447920" y="1676520"/>
              <a:ext cx="0" cy="1904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51240" y="1447920"/>
              <a:ext cx="103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L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257800" y="1371600"/>
            <a:ext cx="0" cy="2209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1981080"/>
            <a:ext cx="0" cy="16002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1981080"/>
            <a:ext cx="0" cy="16002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1905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u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8120" y="2133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u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0800000">
            <a:off x="0" y="1142640"/>
            <a:ext cx="91188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umber of infected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380988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380988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1981080"/>
            <a:ext cx="68580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1523880"/>
            <a:ext cx="68580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1295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-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E36-1EC9-4DD3-A7E2-5EC8D76AFF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57913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 (Oregon)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09480" y="1219320"/>
          <a:ext cx="5867640" cy="498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586764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 flipH="1">
            <a:off x="5257440" y="2286000"/>
            <a:ext cx="1523880" cy="182880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1828800"/>
            <a:ext cx="2895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/</a:t>
            </a:r>
            <a:r>
              <a:rPr b="1" lang="el-GR" sz="2400" spc="-1" strike="noStrike">
                <a:solidFill>
                  <a:srgbClr val="a50021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&gt; </a:t>
            </a:r>
            <a:r>
              <a:rPr b="1" lang="el-GR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τ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above threshol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257800" y="4218120"/>
            <a:ext cx="1309680" cy="6588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67480" y="3809880"/>
            <a:ext cx="2805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r>
              <a:rPr b="1" lang="el-GR" sz="2400" spc="-1" strike="noStrike">
                <a:solidFill>
                  <a:srgbClr val="0080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= </a:t>
            </a:r>
            <a:r>
              <a:rPr b="1" lang="el-GR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τ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at the threshol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57800" y="5181480"/>
            <a:ext cx="144792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29400" y="5181480"/>
            <a:ext cx="2895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1" lang="el-GR" sz="24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&lt;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below threshol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A9C-2ADE-497E-8D0F-7223C787BBF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IS simulation - # infected nodes vs tim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16" name="Rectangle 3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876920" cy="4132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427920" y="5562720"/>
            <a:ext cx="290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ime (linear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2666880"/>
            <a:ext cx="1707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#inf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(log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1981080"/>
            <a:ext cx="6858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2920" y="259092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62920" y="3200400"/>
            <a:ext cx="685800" cy="0"/>
          </a:xfrm>
          <a:prstGeom prst="line">
            <a:avLst/>
          </a:prstGeom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25400" y="1676520"/>
            <a:ext cx="1084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abov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2800" y="2330280"/>
            <a:ext cx="45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01360" y="2940120"/>
            <a:ext cx="104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66"/>
                </a:solidFill>
                <a:latin typeface="Arial"/>
              </a:rPr>
              <a:t>below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178128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Log - Li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6BD3-D4B0-4B1E-914B-3C20D5717F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IS simulation - # infected nodes vs tim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27" name="Rectangle 3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876920" cy="41324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79280" y="178128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Log - Li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7920" y="5562720"/>
            <a:ext cx="290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ime (linear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2666880"/>
            <a:ext cx="1707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#inf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(log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62920" y="1981080"/>
            <a:ext cx="6858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59092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3200400"/>
            <a:ext cx="685800" cy="0"/>
          </a:xfrm>
          <a:prstGeom prst="line">
            <a:avLst/>
          </a:prstGeom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5400" y="1676520"/>
            <a:ext cx="1084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abov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2800" y="2330280"/>
            <a:ext cx="45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360" y="2940120"/>
            <a:ext cx="104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66"/>
                </a:solidFill>
                <a:latin typeface="Arial"/>
              </a:rPr>
              <a:t>below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2743200"/>
            <a:ext cx="533520" cy="2057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9680" y="4038480"/>
            <a:ext cx="19119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FFF-A71C-4D30-A16F-6032A4EF2C1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IS simulation - # infected nodes vs tim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40" name="Rectangle 3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43640" y="1781280"/>
            <a:ext cx="18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Log - Lo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10800" y="5562720"/>
            <a:ext cx="253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ime (log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2666880"/>
            <a:ext cx="1707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#inf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(log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62920" y="1981080"/>
            <a:ext cx="6858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259092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3200400"/>
            <a:ext cx="685800" cy="0"/>
          </a:xfrm>
          <a:prstGeom prst="line">
            <a:avLst/>
          </a:prstGeom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925400" y="1676520"/>
            <a:ext cx="1084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abov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02800" y="2330280"/>
            <a:ext cx="45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360" y="2940120"/>
            <a:ext cx="104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66"/>
                </a:solidFill>
                <a:latin typeface="Arial"/>
              </a:rPr>
              <a:t>below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924-FDD9-42DB-80C1-3E4D458041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IS simulation - # infected nodes vs tim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51" name="Rectangle 3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610800" y="5562720"/>
            <a:ext cx="253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ime (log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2666880"/>
            <a:ext cx="1707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#inf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(log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162920" y="1981080"/>
            <a:ext cx="6858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259092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3200400"/>
            <a:ext cx="685800" cy="0"/>
          </a:xfrm>
          <a:prstGeom prst="line">
            <a:avLst/>
          </a:prstGeom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5400" y="1676520"/>
            <a:ext cx="1084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abov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002800" y="2330280"/>
            <a:ext cx="45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01360" y="2940120"/>
            <a:ext cx="104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66"/>
                </a:solidFill>
                <a:latin typeface="Arial"/>
              </a:rPr>
              <a:t>below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95480" y="2514600"/>
            <a:ext cx="1447920" cy="45720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3640" y="1781280"/>
            <a:ext cx="18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Log - Lo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99840" y="3581280"/>
            <a:ext cx="172620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-law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ay (!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035-1A06-407B-B615-2A09B39BE52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1148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674-73A8-442E-AD8D-681FECDBC2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pidemic threshol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raud detection in e-ba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220968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848720" y="228600"/>
            <a:ext cx="9712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tr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0E1-86E1-4E9A-A68E-160D6D78B0A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-bay Fraud detec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68" name="Rectangle 3" descr=""/>
          <p:cNvPicPr/>
          <p:nvPr/>
        </p:nvPicPr>
        <p:blipFill>
          <a:blip r:embed="rId1"/>
          <a:stretch/>
        </p:blipFill>
        <p:spPr>
          <a:xfrm>
            <a:off x="733320" y="1636560"/>
            <a:ext cx="912960" cy="1212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122800" y="30639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54960" y="306864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00880" y="30621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92840" y="30621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18240" y="405936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50040" y="406404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95960" y="40575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87920" y="40575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962840" y="405288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56160" y="505476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87960" y="505944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34240" y="50529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26200" y="50529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01120" y="504828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539200" y="504360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69" idx="4"/>
            <a:endCxn id="273" idx="0"/>
          </p:cNvCxnSpPr>
          <p:nvPr/>
        </p:nvCxnSpPr>
        <p:spPr>
          <a:xfrm flipH="1">
            <a:off x="4919400" y="3252960"/>
            <a:ext cx="30528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85" name=""/>
          <p:cNvCxnSpPr>
            <a:stCxn id="269" idx="4"/>
            <a:endCxn id="276" idx="1"/>
          </p:cNvCxnSpPr>
          <p:nvPr/>
        </p:nvCxnSpPr>
        <p:spPr>
          <a:xfrm>
            <a:off x="5224320" y="3252960"/>
            <a:ext cx="394560" cy="832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86" name=""/>
          <p:cNvCxnSpPr>
            <a:stCxn id="269" idx="5"/>
            <a:endCxn id="274" idx="1"/>
          </p:cNvCxnSpPr>
          <p:nvPr/>
        </p:nvCxnSpPr>
        <p:spPr>
          <a:xfrm>
            <a:off x="5295960" y="3225600"/>
            <a:ext cx="1085040" cy="8658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87" name=""/>
          <p:cNvCxnSpPr>
            <a:stCxn id="269" idx="6"/>
            <a:endCxn id="275" idx="2"/>
          </p:cNvCxnSpPr>
          <p:nvPr/>
        </p:nvCxnSpPr>
        <p:spPr>
          <a:xfrm>
            <a:off x="5326200" y="3158640"/>
            <a:ext cx="1770480" cy="994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88" name=""/>
          <p:cNvCxnSpPr>
            <a:stCxn id="269" idx="6"/>
            <a:endCxn id="277" idx="2"/>
          </p:cNvCxnSpPr>
          <p:nvPr/>
        </p:nvCxnSpPr>
        <p:spPr>
          <a:xfrm>
            <a:off x="5326200" y="3159000"/>
            <a:ext cx="2637360" cy="990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89" name=""/>
          <p:cNvCxnSpPr>
            <a:stCxn id="272" idx="4"/>
            <a:endCxn id="276" idx="7"/>
          </p:cNvCxnSpPr>
          <p:nvPr/>
        </p:nvCxnSpPr>
        <p:spPr>
          <a:xfrm flipH="1">
            <a:off x="576072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0" name=""/>
          <p:cNvCxnSpPr>
            <a:stCxn id="272" idx="3"/>
            <a:endCxn id="273" idx="7"/>
          </p:cNvCxnSpPr>
          <p:nvPr/>
        </p:nvCxnSpPr>
        <p:spPr>
          <a:xfrm flipH="1">
            <a:off x="4990320" y="3223800"/>
            <a:ext cx="93276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1" name=""/>
          <p:cNvCxnSpPr>
            <a:stCxn id="270" idx="3"/>
            <a:endCxn id="273" idx="7"/>
          </p:cNvCxnSpPr>
          <p:nvPr/>
        </p:nvCxnSpPr>
        <p:spPr>
          <a:xfrm flipH="1">
            <a:off x="4990320" y="3230280"/>
            <a:ext cx="1694520" cy="856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2" name=""/>
          <p:cNvCxnSpPr>
            <a:stCxn id="271" idx="3"/>
            <a:endCxn id="273" idx="7"/>
          </p:cNvCxnSpPr>
          <p:nvPr/>
        </p:nvCxnSpPr>
        <p:spPr>
          <a:xfrm flipH="1">
            <a:off x="4990680" y="3223800"/>
            <a:ext cx="244080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3" name=""/>
          <p:cNvCxnSpPr>
            <a:stCxn id="271" idx="5"/>
            <a:endCxn id="277" idx="0"/>
          </p:cNvCxnSpPr>
          <p:nvPr/>
        </p:nvCxnSpPr>
        <p:spPr>
          <a:xfrm>
            <a:off x="7574040" y="3224160"/>
            <a:ext cx="491040" cy="829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4" name=""/>
          <p:cNvCxnSpPr>
            <a:stCxn id="271" idx="4"/>
            <a:endCxn id="275" idx="7"/>
          </p:cNvCxnSpPr>
          <p:nvPr/>
        </p:nvCxnSpPr>
        <p:spPr>
          <a:xfrm flipH="1">
            <a:off x="726876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5" name=""/>
          <p:cNvCxnSpPr>
            <a:stCxn id="271" idx="3"/>
            <a:endCxn id="274" idx="0"/>
          </p:cNvCxnSpPr>
          <p:nvPr/>
        </p:nvCxnSpPr>
        <p:spPr>
          <a:xfrm flipH="1">
            <a:off x="6450840" y="3223800"/>
            <a:ext cx="980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6" name=""/>
          <p:cNvCxnSpPr>
            <a:stCxn id="270" idx="4"/>
            <a:endCxn id="276" idx="7"/>
          </p:cNvCxnSpPr>
          <p:nvPr/>
        </p:nvCxnSpPr>
        <p:spPr>
          <a:xfrm flipH="1">
            <a:off x="5760360" y="3257280"/>
            <a:ext cx="996120" cy="827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7" name=""/>
          <p:cNvCxnSpPr>
            <a:stCxn id="270" idx="4"/>
            <a:endCxn id="274" idx="0"/>
          </p:cNvCxnSpPr>
          <p:nvPr/>
        </p:nvCxnSpPr>
        <p:spPr>
          <a:xfrm flipH="1">
            <a:off x="6450840" y="3257640"/>
            <a:ext cx="30564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8" name=""/>
          <p:cNvCxnSpPr>
            <a:stCxn id="270" idx="4"/>
            <a:endCxn id="275" idx="0"/>
          </p:cNvCxnSpPr>
          <p:nvPr/>
        </p:nvCxnSpPr>
        <p:spPr>
          <a:xfrm>
            <a:off x="6756480" y="3257640"/>
            <a:ext cx="442080" cy="800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9" name=""/>
          <p:cNvCxnSpPr>
            <a:stCxn id="270" idx="5"/>
            <a:endCxn id="277" idx="1"/>
          </p:cNvCxnSpPr>
          <p:nvPr/>
        </p:nvCxnSpPr>
        <p:spPr>
          <a:xfrm>
            <a:off x="6827400" y="3230280"/>
            <a:ext cx="1166040" cy="849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0" name=""/>
          <p:cNvCxnSpPr>
            <a:stCxn id="272" idx="5"/>
            <a:endCxn id="274" idx="0"/>
          </p:cNvCxnSpPr>
          <p:nvPr/>
        </p:nvCxnSpPr>
        <p:spPr>
          <a:xfrm>
            <a:off x="6065640" y="3223800"/>
            <a:ext cx="386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1" name=""/>
          <p:cNvCxnSpPr>
            <a:stCxn id="272" idx="6"/>
            <a:endCxn id="275" idx="1"/>
          </p:cNvCxnSpPr>
          <p:nvPr/>
        </p:nvCxnSpPr>
        <p:spPr>
          <a:xfrm>
            <a:off x="6095880" y="3157200"/>
            <a:ext cx="1031040" cy="927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2" name=""/>
          <p:cNvCxnSpPr>
            <a:stCxn id="272" idx="6"/>
            <a:endCxn id="277" idx="1"/>
          </p:cNvCxnSpPr>
          <p:nvPr/>
        </p:nvCxnSpPr>
        <p:spPr>
          <a:xfrm>
            <a:off x="6095880" y="3157560"/>
            <a:ext cx="1897920" cy="9230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3" name=""/>
          <p:cNvCxnSpPr>
            <a:stCxn id="273" idx="4"/>
            <a:endCxn id="278" idx="0"/>
          </p:cNvCxnSpPr>
          <p:nvPr/>
        </p:nvCxnSpPr>
        <p:spPr>
          <a:xfrm flipH="1">
            <a:off x="4657320" y="4247640"/>
            <a:ext cx="262800" cy="8074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4" name=""/>
          <p:cNvCxnSpPr>
            <a:stCxn id="276" idx="4"/>
            <a:endCxn id="279" idx="0"/>
          </p:cNvCxnSpPr>
          <p:nvPr/>
        </p:nvCxnSpPr>
        <p:spPr>
          <a:xfrm>
            <a:off x="5689440" y="4246560"/>
            <a:ext cx="501120" cy="813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5" name=""/>
          <p:cNvCxnSpPr>
            <a:stCxn id="275" idx="4"/>
            <a:endCxn id="280" idx="0"/>
          </p:cNvCxnSpPr>
          <p:nvPr/>
        </p:nvCxnSpPr>
        <p:spPr>
          <a:xfrm flipH="1">
            <a:off x="6935400" y="4246560"/>
            <a:ext cx="26280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6" name=""/>
          <p:cNvCxnSpPr>
            <a:stCxn id="274" idx="4"/>
            <a:endCxn id="282" idx="2"/>
          </p:cNvCxnSpPr>
          <p:nvPr/>
        </p:nvCxnSpPr>
        <p:spPr>
          <a:xfrm>
            <a:off x="6451200" y="4253040"/>
            <a:ext cx="1250280" cy="891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7" name=""/>
          <p:cNvCxnSpPr>
            <a:stCxn id="277" idx="4"/>
            <a:endCxn id="282" idx="7"/>
          </p:cNvCxnSpPr>
          <p:nvPr/>
        </p:nvCxnSpPr>
        <p:spPr>
          <a:xfrm flipH="1">
            <a:off x="7873200" y="4241520"/>
            <a:ext cx="19116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8" name=""/>
          <p:cNvCxnSpPr>
            <a:stCxn id="278" idx="4"/>
            <a:endCxn id="281" idx="4"/>
          </p:cNvCxnSpPr>
          <p:nvPr/>
        </p:nvCxnSpPr>
        <p:spPr>
          <a:xfrm flipH="1" flipV="1" rot="5400000">
            <a:off x="5040720" y="4857120"/>
            <a:ext cx="2160" cy="770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9" name=""/>
          <p:cNvCxnSpPr>
            <a:stCxn id="279" idx="5"/>
            <a:endCxn id="283" idx="4"/>
          </p:cNvCxnSpPr>
          <p:nvPr/>
        </p:nvCxnSpPr>
        <p:spPr>
          <a:xfrm flipH="1" rot="16200000">
            <a:off x="7445520" y="4037040"/>
            <a:ext cx="11520" cy="2379960"/>
          </a:xfrm>
          <a:prstGeom prst="curvedConnector5">
            <a:avLst>
              <a:gd name="adj1" fmla="val 2300000"/>
              <a:gd name="adj2" fmla="val 50000"/>
              <a:gd name="adj3" fmla="val 2300000"/>
            </a:avLst>
          </a:prstGeom>
          <a:ln w="9360">
            <a:solidFill>
              <a:srgbClr val="000066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275400" y="3205080"/>
            <a:ext cx="40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/ Polo Chau &amp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hashank Pandit, 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1" name="Rectangle 3" descr=""/>
          <p:cNvPicPr/>
          <p:nvPr/>
        </p:nvPicPr>
        <p:blipFill>
          <a:blip r:embed="rId2"/>
          <a:srcRect l="5274" t="0" r="17580" b="0"/>
          <a:stretch/>
        </p:blipFill>
        <p:spPr>
          <a:xfrm>
            <a:off x="2035080" y="1712880"/>
            <a:ext cx="1089000" cy="11127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0" y="5684760"/>
            <a:ext cx="9144000" cy="1099440"/>
          </a:xfrm>
          <a:prstGeom prst="rect">
            <a:avLst/>
          </a:prstGeom>
          <a:solidFill>
            <a:srgbClr val="ffff66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etProbe: A Fast and Scalable System for Fraud Detection in Online Auction Networks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, S. Pandit, D. H. Chau, S. Wang, and C. Faloutsos</a:t>
            </a: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 (WWW'07),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pp. 201-210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848720" y="228600"/>
            <a:ext cx="9712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tr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64D-23E5-492E-AC3D-DA0E24C3931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-bay Fraud detec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22800" y="30639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54960" y="306864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00880" y="30621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92840" y="30621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18240" y="405936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350040" y="406404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95960" y="40575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87920" y="40575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962840" y="405288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56160" y="505476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87960" y="505944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34240" y="50529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26200" y="50529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01120" y="504828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39200" y="504360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15" idx="4"/>
            <a:endCxn id="319" idx="0"/>
          </p:cNvCxnSpPr>
          <p:nvPr/>
        </p:nvCxnSpPr>
        <p:spPr>
          <a:xfrm flipH="1">
            <a:off x="4919400" y="3252960"/>
            <a:ext cx="30528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1" name=""/>
          <p:cNvCxnSpPr>
            <a:stCxn id="315" idx="4"/>
            <a:endCxn id="322" idx="1"/>
          </p:cNvCxnSpPr>
          <p:nvPr/>
        </p:nvCxnSpPr>
        <p:spPr>
          <a:xfrm>
            <a:off x="5224320" y="3252960"/>
            <a:ext cx="394560" cy="832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2" name=""/>
          <p:cNvCxnSpPr>
            <a:stCxn id="315" idx="5"/>
            <a:endCxn id="320" idx="1"/>
          </p:cNvCxnSpPr>
          <p:nvPr/>
        </p:nvCxnSpPr>
        <p:spPr>
          <a:xfrm>
            <a:off x="5295960" y="3225600"/>
            <a:ext cx="1085040" cy="8658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3" name=""/>
          <p:cNvCxnSpPr>
            <a:stCxn id="315" idx="6"/>
            <a:endCxn id="321" idx="2"/>
          </p:cNvCxnSpPr>
          <p:nvPr/>
        </p:nvCxnSpPr>
        <p:spPr>
          <a:xfrm>
            <a:off x="5326200" y="3158640"/>
            <a:ext cx="1770480" cy="994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4" name=""/>
          <p:cNvCxnSpPr>
            <a:stCxn id="315" idx="6"/>
            <a:endCxn id="323" idx="2"/>
          </p:cNvCxnSpPr>
          <p:nvPr/>
        </p:nvCxnSpPr>
        <p:spPr>
          <a:xfrm>
            <a:off x="5326200" y="3159000"/>
            <a:ext cx="2637360" cy="990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5" name=""/>
          <p:cNvCxnSpPr>
            <a:stCxn id="318" idx="4"/>
            <a:endCxn id="322" idx="7"/>
          </p:cNvCxnSpPr>
          <p:nvPr/>
        </p:nvCxnSpPr>
        <p:spPr>
          <a:xfrm flipH="1">
            <a:off x="576072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6" name=""/>
          <p:cNvCxnSpPr>
            <a:stCxn id="318" idx="3"/>
            <a:endCxn id="319" idx="7"/>
          </p:cNvCxnSpPr>
          <p:nvPr/>
        </p:nvCxnSpPr>
        <p:spPr>
          <a:xfrm flipH="1">
            <a:off x="4990320" y="3223800"/>
            <a:ext cx="93276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7" name=""/>
          <p:cNvCxnSpPr>
            <a:stCxn id="316" idx="3"/>
            <a:endCxn id="319" idx="7"/>
          </p:cNvCxnSpPr>
          <p:nvPr/>
        </p:nvCxnSpPr>
        <p:spPr>
          <a:xfrm flipH="1">
            <a:off x="4990320" y="3230280"/>
            <a:ext cx="1694520" cy="856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8" name=""/>
          <p:cNvCxnSpPr>
            <a:stCxn id="317" idx="3"/>
            <a:endCxn id="319" idx="7"/>
          </p:cNvCxnSpPr>
          <p:nvPr/>
        </p:nvCxnSpPr>
        <p:spPr>
          <a:xfrm flipH="1">
            <a:off x="4990680" y="3223800"/>
            <a:ext cx="244080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9" name=""/>
          <p:cNvCxnSpPr>
            <a:stCxn id="317" idx="5"/>
            <a:endCxn id="323" idx="0"/>
          </p:cNvCxnSpPr>
          <p:nvPr/>
        </p:nvCxnSpPr>
        <p:spPr>
          <a:xfrm>
            <a:off x="7574040" y="3224160"/>
            <a:ext cx="491040" cy="829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0" name=""/>
          <p:cNvCxnSpPr>
            <a:stCxn id="317" idx="4"/>
            <a:endCxn id="321" idx="7"/>
          </p:cNvCxnSpPr>
          <p:nvPr/>
        </p:nvCxnSpPr>
        <p:spPr>
          <a:xfrm flipH="1">
            <a:off x="726876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1" name=""/>
          <p:cNvCxnSpPr>
            <a:stCxn id="317" idx="3"/>
            <a:endCxn id="320" idx="0"/>
          </p:cNvCxnSpPr>
          <p:nvPr/>
        </p:nvCxnSpPr>
        <p:spPr>
          <a:xfrm flipH="1">
            <a:off x="6450840" y="3223800"/>
            <a:ext cx="980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2" name=""/>
          <p:cNvCxnSpPr>
            <a:stCxn id="316" idx="4"/>
            <a:endCxn id="322" idx="7"/>
          </p:cNvCxnSpPr>
          <p:nvPr/>
        </p:nvCxnSpPr>
        <p:spPr>
          <a:xfrm flipH="1">
            <a:off x="5760360" y="3257280"/>
            <a:ext cx="996120" cy="827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3" name=""/>
          <p:cNvCxnSpPr>
            <a:stCxn id="316" idx="4"/>
            <a:endCxn id="320" idx="0"/>
          </p:cNvCxnSpPr>
          <p:nvPr/>
        </p:nvCxnSpPr>
        <p:spPr>
          <a:xfrm flipH="1">
            <a:off x="6450840" y="3257640"/>
            <a:ext cx="30564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4" name=""/>
          <p:cNvCxnSpPr>
            <a:stCxn id="316" idx="4"/>
            <a:endCxn id="321" idx="0"/>
          </p:cNvCxnSpPr>
          <p:nvPr/>
        </p:nvCxnSpPr>
        <p:spPr>
          <a:xfrm>
            <a:off x="6756480" y="3257640"/>
            <a:ext cx="442080" cy="800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5" name=""/>
          <p:cNvCxnSpPr>
            <a:stCxn id="316" idx="5"/>
            <a:endCxn id="323" idx="1"/>
          </p:cNvCxnSpPr>
          <p:nvPr/>
        </p:nvCxnSpPr>
        <p:spPr>
          <a:xfrm>
            <a:off x="6827400" y="3230280"/>
            <a:ext cx="1166040" cy="849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6" name=""/>
          <p:cNvCxnSpPr>
            <a:stCxn id="318" idx="5"/>
            <a:endCxn id="320" idx="0"/>
          </p:cNvCxnSpPr>
          <p:nvPr/>
        </p:nvCxnSpPr>
        <p:spPr>
          <a:xfrm>
            <a:off x="6065640" y="3223800"/>
            <a:ext cx="386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7" name=""/>
          <p:cNvCxnSpPr>
            <a:stCxn id="318" idx="6"/>
            <a:endCxn id="321" idx="1"/>
          </p:cNvCxnSpPr>
          <p:nvPr/>
        </p:nvCxnSpPr>
        <p:spPr>
          <a:xfrm>
            <a:off x="6095880" y="3157200"/>
            <a:ext cx="1031040" cy="927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8" name=""/>
          <p:cNvCxnSpPr>
            <a:stCxn id="318" idx="6"/>
            <a:endCxn id="323" idx="1"/>
          </p:cNvCxnSpPr>
          <p:nvPr/>
        </p:nvCxnSpPr>
        <p:spPr>
          <a:xfrm>
            <a:off x="6095880" y="3157560"/>
            <a:ext cx="1897920" cy="9230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9" name=""/>
          <p:cNvCxnSpPr>
            <a:stCxn id="319" idx="4"/>
            <a:endCxn id="324" idx="0"/>
          </p:cNvCxnSpPr>
          <p:nvPr/>
        </p:nvCxnSpPr>
        <p:spPr>
          <a:xfrm flipH="1">
            <a:off x="4657320" y="4247640"/>
            <a:ext cx="262800" cy="8074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50" name=""/>
          <p:cNvCxnSpPr>
            <a:stCxn id="322" idx="4"/>
            <a:endCxn id="325" idx="0"/>
          </p:cNvCxnSpPr>
          <p:nvPr/>
        </p:nvCxnSpPr>
        <p:spPr>
          <a:xfrm>
            <a:off x="5689440" y="4246560"/>
            <a:ext cx="501120" cy="813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51" name=""/>
          <p:cNvCxnSpPr>
            <a:stCxn id="321" idx="4"/>
            <a:endCxn id="326" idx="0"/>
          </p:cNvCxnSpPr>
          <p:nvPr/>
        </p:nvCxnSpPr>
        <p:spPr>
          <a:xfrm flipH="1">
            <a:off x="6935400" y="4246560"/>
            <a:ext cx="26280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52" name=""/>
          <p:cNvCxnSpPr>
            <a:stCxn id="320" idx="4"/>
            <a:endCxn id="328" idx="2"/>
          </p:cNvCxnSpPr>
          <p:nvPr/>
        </p:nvCxnSpPr>
        <p:spPr>
          <a:xfrm>
            <a:off x="6451200" y="4253040"/>
            <a:ext cx="1250280" cy="891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53" name=""/>
          <p:cNvCxnSpPr>
            <a:stCxn id="323" idx="4"/>
            <a:endCxn id="328" idx="7"/>
          </p:cNvCxnSpPr>
          <p:nvPr/>
        </p:nvCxnSpPr>
        <p:spPr>
          <a:xfrm flipH="1">
            <a:off x="7873200" y="4241520"/>
            <a:ext cx="19116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54" name=""/>
          <p:cNvCxnSpPr>
            <a:stCxn id="324" idx="4"/>
            <a:endCxn id="327" idx="4"/>
          </p:cNvCxnSpPr>
          <p:nvPr/>
        </p:nvCxnSpPr>
        <p:spPr>
          <a:xfrm flipH="1" flipV="1" rot="5400000">
            <a:off x="5040720" y="4857120"/>
            <a:ext cx="2160" cy="770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55" name=""/>
          <p:cNvCxnSpPr>
            <a:stCxn id="325" idx="5"/>
            <a:endCxn id="329" idx="4"/>
          </p:cNvCxnSpPr>
          <p:nvPr/>
        </p:nvCxnSpPr>
        <p:spPr>
          <a:xfrm flipH="1" rot="16200000">
            <a:off x="7445520" y="4037040"/>
            <a:ext cx="11520" cy="2379960"/>
          </a:xfrm>
          <a:prstGeom prst="curvedConnector5">
            <a:avLst>
              <a:gd name="adj1" fmla="val 2300000"/>
              <a:gd name="adj2" fmla="val 50000"/>
              <a:gd name="adj3" fmla="val 2300000"/>
            </a:avLst>
          </a:prstGeom>
          <a:ln w="9360">
            <a:solidFill>
              <a:srgbClr val="000066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646920" y="1827360"/>
            <a:ext cx="4434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lines: positive feedback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would you buy from  him/her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92840" y="2903400"/>
            <a:ext cx="507960" cy="52560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21200" y="2684520"/>
            <a:ext cx="957240" cy="30492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848720" y="228600"/>
            <a:ext cx="9712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tr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B96-A3B8-46FD-9A10-1A122D9ACFD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-bay Fraud detec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22800" y="30639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54960" y="306864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400880" y="30621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92840" y="30621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18240" y="405936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350040" y="406404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95960" y="40575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87920" y="40575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962840" y="405288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56160" y="505476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87960" y="505944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34240" y="50529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26200" y="50529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701120" y="504828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539200" y="504360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61" idx="4"/>
            <a:endCxn id="365" idx="0"/>
          </p:cNvCxnSpPr>
          <p:nvPr/>
        </p:nvCxnSpPr>
        <p:spPr>
          <a:xfrm flipH="1">
            <a:off x="4919400" y="3252960"/>
            <a:ext cx="30528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77" name=""/>
          <p:cNvCxnSpPr>
            <a:stCxn id="361" idx="4"/>
            <a:endCxn id="368" idx="1"/>
          </p:cNvCxnSpPr>
          <p:nvPr/>
        </p:nvCxnSpPr>
        <p:spPr>
          <a:xfrm>
            <a:off x="5224320" y="3252960"/>
            <a:ext cx="394560" cy="832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78" name=""/>
          <p:cNvCxnSpPr>
            <a:stCxn id="361" idx="5"/>
            <a:endCxn id="366" idx="1"/>
          </p:cNvCxnSpPr>
          <p:nvPr/>
        </p:nvCxnSpPr>
        <p:spPr>
          <a:xfrm>
            <a:off x="5295960" y="3225600"/>
            <a:ext cx="1085040" cy="8658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79" name=""/>
          <p:cNvCxnSpPr>
            <a:stCxn id="361" idx="6"/>
            <a:endCxn id="367" idx="2"/>
          </p:cNvCxnSpPr>
          <p:nvPr/>
        </p:nvCxnSpPr>
        <p:spPr>
          <a:xfrm>
            <a:off x="5326200" y="3158640"/>
            <a:ext cx="1770480" cy="994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0" name=""/>
          <p:cNvCxnSpPr>
            <a:stCxn id="361" idx="6"/>
            <a:endCxn id="369" idx="2"/>
          </p:cNvCxnSpPr>
          <p:nvPr/>
        </p:nvCxnSpPr>
        <p:spPr>
          <a:xfrm>
            <a:off x="5326200" y="3159000"/>
            <a:ext cx="2637360" cy="990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1" name=""/>
          <p:cNvCxnSpPr>
            <a:stCxn id="364" idx="4"/>
            <a:endCxn id="368" idx="7"/>
          </p:cNvCxnSpPr>
          <p:nvPr/>
        </p:nvCxnSpPr>
        <p:spPr>
          <a:xfrm flipH="1">
            <a:off x="576072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2" name=""/>
          <p:cNvCxnSpPr>
            <a:stCxn id="364" idx="3"/>
            <a:endCxn id="365" idx="7"/>
          </p:cNvCxnSpPr>
          <p:nvPr/>
        </p:nvCxnSpPr>
        <p:spPr>
          <a:xfrm flipH="1">
            <a:off x="4990320" y="3223800"/>
            <a:ext cx="93276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3" name=""/>
          <p:cNvCxnSpPr>
            <a:stCxn id="362" idx="3"/>
            <a:endCxn id="365" idx="7"/>
          </p:cNvCxnSpPr>
          <p:nvPr/>
        </p:nvCxnSpPr>
        <p:spPr>
          <a:xfrm flipH="1">
            <a:off x="4990320" y="3230280"/>
            <a:ext cx="1694520" cy="856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4" name=""/>
          <p:cNvCxnSpPr>
            <a:stCxn id="363" idx="3"/>
            <a:endCxn id="365" idx="7"/>
          </p:cNvCxnSpPr>
          <p:nvPr/>
        </p:nvCxnSpPr>
        <p:spPr>
          <a:xfrm flipH="1">
            <a:off x="4990680" y="3223800"/>
            <a:ext cx="244080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5" name=""/>
          <p:cNvCxnSpPr>
            <a:stCxn id="363" idx="5"/>
            <a:endCxn id="369" idx="0"/>
          </p:cNvCxnSpPr>
          <p:nvPr/>
        </p:nvCxnSpPr>
        <p:spPr>
          <a:xfrm>
            <a:off x="7574040" y="3224160"/>
            <a:ext cx="491040" cy="829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6" name=""/>
          <p:cNvCxnSpPr>
            <a:stCxn id="363" idx="4"/>
            <a:endCxn id="367" idx="7"/>
          </p:cNvCxnSpPr>
          <p:nvPr/>
        </p:nvCxnSpPr>
        <p:spPr>
          <a:xfrm flipH="1">
            <a:off x="726876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7" name=""/>
          <p:cNvCxnSpPr>
            <a:stCxn id="363" idx="3"/>
            <a:endCxn id="366" idx="0"/>
          </p:cNvCxnSpPr>
          <p:nvPr/>
        </p:nvCxnSpPr>
        <p:spPr>
          <a:xfrm flipH="1">
            <a:off x="6450840" y="3223800"/>
            <a:ext cx="980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8" name=""/>
          <p:cNvCxnSpPr>
            <a:stCxn id="362" idx="4"/>
            <a:endCxn id="368" idx="7"/>
          </p:cNvCxnSpPr>
          <p:nvPr/>
        </p:nvCxnSpPr>
        <p:spPr>
          <a:xfrm flipH="1">
            <a:off x="5760360" y="3257280"/>
            <a:ext cx="996120" cy="827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9" name=""/>
          <p:cNvCxnSpPr>
            <a:stCxn id="362" idx="4"/>
            <a:endCxn id="366" idx="0"/>
          </p:cNvCxnSpPr>
          <p:nvPr/>
        </p:nvCxnSpPr>
        <p:spPr>
          <a:xfrm flipH="1">
            <a:off x="6450840" y="3257640"/>
            <a:ext cx="30564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0" name=""/>
          <p:cNvCxnSpPr>
            <a:stCxn id="362" idx="4"/>
            <a:endCxn id="367" idx="0"/>
          </p:cNvCxnSpPr>
          <p:nvPr/>
        </p:nvCxnSpPr>
        <p:spPr>
          <a:xfrm>
            <a:off x="6756480" y="3257640"/>
            <a:ext cx="442080" cy="800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1" name=""/>
          <p:cNvCxnSpPr>
            <a:stCxn id="362" idx="5"/>
            <a:endCxn id="369" idx="1"/>
          </p:cNvCxnSpPr>
          <p:nvPr/>
        </p:nvCxnSpPr>
        <p:spPr>
          <a:xfrm>
            <a:off x="6827400" y="3230280"/>
            <a:ext cx="1166040" cy="849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2" name=""/>
          <p:cNvCxnSpPr>
            <a:stCxn id="364" idx="5"/>
            <a:endCxn id="366" idx="0"/>
          </p:cNvCxnSpPr>
          <p:nvPr/>
        </p:nvCxnSpPr>
        <p:spPr>
          <a:xfrm>
            <a:off x="6065640" y="3223800"/>
            <a:ext cx="386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3" name=""/>
          <p:cNvCxnSpPr>
            <a:stCxn id="364" idx="6"/>
            <a:endCxn id="367" idx="1"/>
          </p:cNvCxnSpPr>
          <p:nvPr/>
        </p:nvCxnSpPr>
        <p:spPr>
          <a:xfrm>
            <a:off x="6095880" y="3157200"/>
            <a:ext cx="1031040" cy="927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4" name=""/>
          <p:cNvCxnSpPr>
            <a:stCxn id="364" idx="6"/>
            <a:endCxn id="369" idx="1"/>
          </p:cNvCxnSpPr>
          <p:nvPr/>
        </p:nvCxnSpPr>
        <p:spPr>
          <a:xfrm>
            <a:off x="6095880" y="3157560"/>
            <a:ext cx="1897920" cy="9230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5" name=""/>
          <p:cNvCxnSpPr>
            <a:stCxn id="365" idx="4"/>
            <a:endCxn id="370" idx="0"/>
          </p:cNvCxnSpPr>
          <p:nvPr/>
        </p:nvCxnSpPr>
        <p:spPr>
          <a:xfrm flipH="1">
            <a:off x="4657320" y="4247640"/>
            <a:ext cx="262800" cy="8074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6" name=""/>
          <p:cNvCxnSpPr>
            <a:stCxn id="368" idx="4"/>
            <a:endCxn id="371" idx="0"/>
          </p:cNvCxnSpPr>
          <p:nvPr/>
        </p:nvCxnSpPr>
        <p:spPr>
          <a:xfrm>
            <a:off x="5689440" y="4246560"/>
            <a:ext cx="501120" cy="813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7" name=""/>
          <p:cNvCxnSpPr>
            <a:stCxn id="367" idx="4"/>
            <a:endCxn id="372" idx="0"/>
          </p:cNvCxnSpPr>
          <p:nvPr/>
        </p:nvCxnSpPr>
        <p:spPr>
          <a:xfrm flipH="1">
            <a:off x="6935400" y="4246560"/>
            <a:ext cx="26280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8" name=""/>
          <p:cNvCxnSpPr>
            <a:stCxn id="366" idx="4"/>
            <a:endCxn id="374" idx="2"/>
          </p:cNvCxnSpPr>
          <p:nvPr/>
        </p:nvCxnSpPr>
        <p:spPr>
          <a:xfrm>
            <a:off x="6451200" y="4253040"/>
            <a:ext cx="1250280" cy="891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9" name=""/>
          <p:cNvCxnSpPr>
            <a:stCxn id="369" idx="4"/>
            <a:endCxn id="374" idx="7"/>
          </p:cNvCxnSpPr>
          <p:nvPr/>
        </p:nvCxnSpPr>
        <p:spPr>
          <a:xfrm flipH="1">
            <a:off x="7873200" y="4241520"/>
            <a:ext cx="19116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00" name=""/>
          <p:cNvCxnSpPr>
            <a:stCxn id="370" idx="4"/>
            <a:endCxn id="373" idx="4"/>
          </p:cNvCxnSpPr>
          <p:nvPr/>
        </p:nvCxnSpPr>
        <p:spPr>
          <a:xfrm flipH="1" flipV="1" rot="5400000">
            <a:off x="5040720" y="4857120"/>
            <a:ext cx="2160" cy="770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01" name=""/>
          <p:cNvCxnSpPr>
            <a:stCxn id="371" idx="5"/>
            <a:endCxn id="375" idx="4"/>
          </p:cNvCxnSpPr>
          <p:nvPr/>
        </p:nvCxnSpPr>
        <p:spPr>
          <a:xfrm flipH="1" rot="16200000">
            <a:off x="7445520" y="4037040"/>
            <a:ext cx="11520" cy="2379960"/>
          </a:xfrm>
          <a:prstGeom prst="curvedConnector5">
            <a:avLst>
              <a:gd name="adj1" fmla="val 2300000"/>
              <a:gd name="adj2" fmla="val 50000"/>
              <a:gd name="adj3" fmla="val 2300000"/>
            </a:avLst>
          </a:prstGeom>
          <a:ln w="9360">
            <a:solidFill>
              <a:srgbClr val="000066"/>
            </a:solidFill>
            <a:miter/>
          </a:ln>
        </p:spPr>
      </p:cxnSp>
      <p:sp>
        <p:nvSpPr>
          <p:cNvPr id="402" name=""/>
          <p:cNvSpPr/>
          <p:nvPr/>
        </p:nvSpPr>
        <p:spPr>
          <a:xfrm>
            <a:off x="646920" y="1827360"/>
            <a:ext cx="44341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lines: positive feedback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would you buy from  him/her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or him/her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16480" y="4856040"/>
            <a:ext cx="507960" cy="52560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75000" y="3638520"/>
            <a:ext cx="1871640" cy="12780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848720" y="228600"/>
            <a:ext cx="9712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tr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89E-8354-402A-8016-E6FC52554FC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E-bay Fraud detection - NetProb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07" name="Rectangle 3" descr=""/>
          <p:cNvPicPr/>
          <p:nvPr/>
        </p:nvPicPr>
        <p:blipFill>
          <a:blip r:embed="rId1"/>
          <a:stretch/>
        </p:blipFill>
        <p:spPr>
          <a:xfrm>
            <a:off x="735120" y="1922400"/>
            <a:ext cx="3057480" cy="41148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122800" y="3063960"/>
            <a:ext cx="203400" cy="189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54960" y="3068640"/>
            <a:ext cx="203040" cy="189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00880" y="3062160"/>
            <a:ext cx="203400" cy="189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92840" y="3062160"/>
            <a:ext cx="203040" cy="189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18240" y="4059360"/>
            <a:ext cx="203040" cy="188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350040" y="4064040"/>
            <a:ext cx="20304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95960" y="405756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87920" y="405756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962840" y="405288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56160" y="5054760"/>
            <a:ext cx="203040" cy="188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87960" y="5059440"/>
            <a:ext cx="20340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34240" y="5052960"/>
            <a:ext cx="20304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26200" y="5052960"/>
            <a:ext cx="20304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01120" y="5048280"/>
            <a:ext cx="20304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539200" y="5043600"/>
            <a:ext cx="203040" cy="188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08" idx="4"/>
            <a:endCxn id="412" idx="0"/>
          </p:cNvCxnSpPr>
          <p:nvPr/>
        </p:nvCxnSpPr>
        <p:spPr>
          <a:xfrm flipH="1">
            <a:off x="4919400" y="3252960"/>
            <a:ext cx="30528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24" name=""/>
          <p:cNvCxnSpPr>
            <a:stCxn id="408" idx="4"/>
            <a:endCxn id="415" idx="1"/>
          </p:cNvCxnSpPr>
          <p:nvPr/>
        </p:nvCxnSpPr>
        <p:spPr>
          <a:xfrm>
            <a:off x="5224320" y="3252960"/>
            <a:ext cx="394560" cy="832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25" name=""/>
          <p:cNvCxnSpPr>
            <a:stCxn id="408" idx="5"/>
            <a:endCxn id="413" idx="1"/>
          </p:cNvCxnSpPr>
          <p:nvPr/>
        </p:nvCxnSpPr>
        <p:spPr>
          <a:xfrm>
            <a:off x="5295960" y="3225600"/>
            <a:ext cx="1085040" cy="8658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26" name=""/>
          <p:cNvCxnSpPr>
            <a:stCxn id="408" idx="6"/>
            <a:endCxn id="414" idx="2"/>
          </p:cNvCxnSpPr>
          <p:nvPr/>
        </p:nvCxnSpPr>
        <p:spPr>
          <a:xfrm>
            <a:off x="5326200" y="3158640"/>
            <a:ext cx="1770480" cy="994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27" name=""/>
          <p:cNvCxnSpPr>
            <a:stCxn id="408" idx="6"/>
            <a:endCxn id="416" idx="2"/>
          </p:cNvCxnSpPr>
          <p:nvPr/>
        </p:nvCxnSpPr>
        <p:spPr>
          <a:xfrm>
            <a:off x="5326200" y="3159000"/>
            <a:ext cx="2637360" cy="990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28" name=""/>
          <p:cNvCxnSpPr>
            <a:stCxn id="411" idx="4"/>
            <a:endCxn id="415" idx="7"/>
          </p:cNvCxnSpPr>
          <p:nvPr/>
        </p:nvCxnSpPr>
        <p:spPr>
          <a:xfrm flipH="1">
            <a:off x="576072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29" name=""/>
          <p:cNvCxnSpPr>
            <a:stCxn id="411" idx="3"/>
            <a:endCxn id="412" idx="7"/>
          </p:cNvCxnSpPr>
          <p:nvPr/>
        </p:nvCxnSpPr>
        <p:spPr>
          <a:xfrm flipH="1">
            <a:off x="4990320" y="3223800"/>
            <a:ext cx="93276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0" name=""/>
          <p:cNvCxnSpPr>
            <a:stCxn id="409" idx="3"/>
            <a:endCxn id="412" idx="7"/>
          </p:cNvCxnSpPr>
          <p:nvPr/>
        </p:nvCxnSpPr>
        <p:spPr>
          <a:xfrm flipH="1">
            <a:off x="4990320" y="3230280"/>
            <a:ext cx="1694520" cy="856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1" name=""/>
          <p:cNvCxnSpPr>
            <a:stCxn id="410" idx="3"/>
            <a:endCxn id="412" idx="7"/>
          </p:cNvCxnSpPr>
          <p:nvPr/>
        </p:nvCxnSpPr>
        <p:spPr>
          <a:xfrm flipH="1">
            <a:off x="4990680" y="3223800"/>
            <a:ext cx="244080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2" name=""/>
          <p:cNvCxnSpPr>
            <a:stCxn id="410" idx="5"/>
            <a:endCxn id="416" idx="0"/>
          </p:cNvCxnSpPr>
          <p:nvPr/>
        </p:nvCxnSpPr>
        <p:spPr>
          <a:xfrm>
            <a:off x="7574040" y="3224160"/>
            <a:ext cx="491040" cy="829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3" name=""/>
          <p:cNvCxnSpPr>
            <a:stCxn id="410" idx="4"/>
            <a:endCxn id="414" idx="7"/>
          </p:cNvCxnSpPr>
          <p:nvPr/>
        </p:nvCxnSpPr>
        <p:spPr>
          <a:xfrm flipH="1">
            <a:off x="726876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4" name=""/>
          <p:cNvCxnSpPr>
            <a:stCxn id="410" idx="3"/>
            <a:endCxn id="413" idx="0"/>
          </p:cNvCxnSpPr>
          <p:nvPr/>
        </p:nvCxnSpPr>
        <p:spPr>
          <a:xfrm flipH="1">
            <a:off x="6450840" y="3223800"/>
            <a:ext cx="980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5" name=""/>
          <p:cNvCxnSpPr>
            <a:stCxn id="409" idx="4"/>
            <a:endCxn id="415" idx="7"/>
          </p:cNvCxnSpPr>
          <p:nvPr/>
        </p:nvCxnSpPr>
        <p:spPr>
          <a:xfrm flipH="1">
            <a:off x="5760360" y="3257280"/>
            <a:ext cx="996120" cy="827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6" name=""/>
          <p:cNvCxnSpPr>
            <a:stCxn id="409" idx="4"/>
            <a:endCxn id="413" idx="0"/>
          </p:cNvCxnSpPr>
          <p:nvPr/>
        </p:nvCxnSpPr>
        <p:spPr>
          <a:xfrm flipH="1">
            <a:off x="6450840" y="3257640"/>
            <a:ext cx="30564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7" name=""/>
          <p:cNvCxnSpPr>
            <a:stCxn id="409" idx="4"/>
            <a:endCxn id="414" idx="0"/>
          </p:cNvCxnSpPr>
          <p:nvPr/>
        </p:nvCxnSpPr>
        <p:spPr>
          <a:xfrm>
            <a:off x="6756480" y="3257640"/>
            <a:ext cx="442080" cy="800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8" name=""/>
          <p:cNvCxnSpPr>
            <a:stCxn id="409" idx="5"/>
            <a:endCxn id="416" idx="1"/>
          </p:cNvCxnSpPr>
          <p:nvPr/>
        </p:nvCxnSpPr>
        <p:spPr>
          <a:xfrm>
            <a:off x="6827400" y="3230280"/>
            <a:ext cx="1166040" cy="849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9" name=""/>
          <p:cNvCxnSpPr>
            <a:stCxn id="411" idx="5"/>
            <a:endCxn id="413" idx="0"/>
          </p:cNvCxnSpPr>
          <p:nvPr/>
        </p:nvCxnSpPr>
        <p:spPr>
          <a:xfrm>
            <a:off x="6065640" y="3223800"/>
            <a:ext cx="386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0" name=""/>
          <p:cNvCxnSpPr>
            <a:stCxn id="411" idx="6"/>
            <a:endCxn id="414" idx="1"/>
          </p:cNvCxnSpPr>
          <p:nvPr/>
        </p:nvCxnSpPr>
        <p:spPr>
          <a:xfrm>
            <a:off x="6095880" y="3157200"/>
            <a:ext cx="1031040" cy="927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1" name=""/>
          <p:cNvCxnSpPr>
            <a:stCxn id="411" idx="6"/>
            <a:endCxn id="416" idx="1"/>
          </p:cNvCxnSpPr>
          <p:nvPr/>
        </p:nvCxnSpPr>
        <p:spPr>
          <a:xfrm>
            <a:off x="6095880" y="3157560"/>
            <a:ext cx="1897920" cy="9230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2" name=""/>
          <p:cNvCxnSpPr>
            <a:stCxn id="412" idx="4"/>
            <a:endCxn id="417" idx="0"/>
          </p:cNvCxnSpPr>
          <p:nvPr/>
        </p:nvCxnSpPr>
        <p:spPr>
          <a:xfrm flipH="1">
            <a:off x="4657320" y="4247640"/>
            <a:ext cx="262800" cy="8074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3" name=""/>
          <p:cNvCxnSpPr>
            <a:stCxn id="415" idx="4"/>
            <a:endCxn id="418" idx="0"/>
          </p:cNvCxnSpPr>
          <p:nvPr/>
        </p:nvCxnSpPr>
        <p:spPr>
          <a:xfrm>
            <a:off x="5689440" y="4246560"/>
            <a:ext cx="501120" cy="813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4" name=""/>
          <p:cNvCxnSpPr>
            <a:stCxn id="414" idx="4"/>
            <a:endCxn id="419" idx="0"/>
          </p:cNvCxnSpPr>
          <p:nvPr/>
        </p:nvCxnSpPr>
        <p:spPr>
          <a:xfrm flipH="1">
            <a:off x="6935400" y="4246560"/>
            <a:ext cx="26280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5" name=""/>
          <p:cNvCxnSpPr>
            <a:stCxn id="413" idx="4"/>
            <a:endCxn id="421" idx="2"/>
          </p:cNvCxnSpPr>
          <p:nvPr/>
        </p:nvCxnSpPr>
        <p:spPr>
          <a:xfrm>
            <a:off x="6451200" y="4253040"/>
            <a:ext cx="1250280" cy="891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6" name=""/>
          <p:cNvCxnSpPr>
            <a:stCxn id="416" idx="4"/>
            <a:endCxn id="421" idx="7"/>
          </p:cNvCxnSpPr>
          <p:nvPr/>
        </p:nvCxnSpPr>
        <p:spPr>
          <a:xfrm flipH="1">
            <a:off x="7873200" y="4241520"/>
            <a:ext cx="19116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7" name=""/>
          <p:cNvCxnSpPr>
            <a:stCxn id="417" idx="4"/>
            <a:endCxn id="420" idx="4"/>
          </p:cNvCxnSpPr>
          <p:nvPr/>
        </p:nvCxnSpPr>
        <p:spPr>
          <a:xfrm flipH="1" flipV="1" rot="5400000">
            <a:off x="5040720" y="4857120"/>
            <a:ext cx="2160" cy="770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8" name=""/>
          <p:cNvCxnSpPr>
            <a:stCxn id="418" idx="5"/>
            <a:endCxn id="422" idx="4"/>
          </p:cNvCxnSpPr>
          <p:nvPr/>
        </p:nvCxnSpPr>
        <p:spPr>
          <a:xfrm flipH="1" rot="16200000">
            <a:off x="7445520" y="4037040"/>
            <a:ext cx="11520" cy="2379960"/>
          </a:xfrm>
          <a:prstGeom prst="curvedConnector5">
            <a:avLst>
              <a:gd name="adj1" fmla="val 2300000"/>
              <a:gd name="adj2" fmla="val 50000"/>
              <a:gd name="adj3" fmla="val 2300000"/>
            </a:avLst>
          </a:prstGeom>
          <a:ln w="9360">
            <a:solidFill>
              <a:srgbClr val="000066"/>
            </a:solidFill>
            <a:miter/>
          </a:ln>
        </p:spPr>
      </p:cxnSp>
      <p:sp>
        <p:nvSpPr>
          <p:cNvPr id="449" name=""/>
          <p:cNvSpPr txBox="1"/>
          <p:nvPr/>
        </p:nvSpPr>
        <p:spPr>
          <a:xfrm>
            <a:off x="7848720" y="228600"/>
            <a:ext cx="9712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tr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1828800"/>
            <a:ext cx="38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elief Propagation gives: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812-5B1A-4B5F-813F-E7EDA23835E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λ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,</a:t>
            </a:r>
            <a:r>
              <a:rPr b="1" i="1" lang="en-US" sz="32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A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igenvalue of adjacency matrix determines the survival of a flu-like viru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t gives a measure of how well connected is the graph (~ # paths – see Task 7, later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y guide immunization polic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[Belief Propagation: a powerful algo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8785-8F9C-4101-8C57-BCDF62D1CB1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. Chakrabarti, Y. Wang, C. Wang, J. Leskovec, and C. Faloutsos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Epidemic Thresholds in Real Network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in ACM TISSEC, 10(4), 2008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anesh, A., Massoulie, L., and Towsley, D., 2005. The effect of network topology on the spread of epidemics. In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INFOCOM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628-F167-4B85-A091-E6F6177C68B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ferences (cont’d)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ethcote, H. W. 2000. The mathematics of infectious diseases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IAM Review 4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599–653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ethcote, H. W. AND Yorke, J. A. 1984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Gonorrhea Transmission Dynamics and Control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 Vol. 56. Springer. Lecture Notes in Biomathematic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75EB-481B-4FA6-BC41-AB10A150208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ferences (cont’d)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. Wang, D. Chakrabarti, C. Wang and C. Faloutsos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Epidemic Spreading in Real Networks: An Eigenvalue Viewpoin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in SRDS 2003 (pages 25-34), Florence, Italy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CB63-3301-4071-A345-144D1B9C30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pidemic threshol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blem defini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perime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raud detection in e-ba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170-45F3-4135-A6A4-609B9C0C1E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Virus propagatio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do viruses/rumors  propagat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log influenc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ll a flu-like virus linger, or will it become extinct soon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D8BB-91F7-45EB-93FA-1D8D086DB0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9160"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The model: SI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lu’ like: Susceptible-Infected-Susceptibl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Virus ‘strength’ s=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4724280"/>
            <a:ext cx="609840" cy="5335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5486400"/>
            <a:ext cx="60984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4724280"/>
            <a:ext cx="60948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3809880"/>
            <a:ext cx="609480" cy="5335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5029200"/>
            <a:ext cx="1295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800600" y="4190760"/>
            <a:ext cx="1066680" cy="609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5181480"/>
            <a:ext cx="106668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5334120"/>
            <a:ext cx="1523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fec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3429000"/>
            <a:ext cx="167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ealth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724280"/>
            <a:ext cx="30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4724280"/>
            <a:ext cx="609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5486400"/>
            <a:ext cx="6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3809880"/>
            <a:ext cx="609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724280"/>
            <a:ext cx="60984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971800" y="4267080"/>
            <a:ext cx="3381120" cy="1230120"/>
            <a:chOff x="2971800" y="4267080"/>
            <a:chExt cx="3381120" cy="1230120"/>
          </a:xfrm>
        </p:grpSpPr>
        <p:sp>
          <p:nvSpPr>
            <p:cNvPr id="121" name=""/>
            <p:cNvSpPr/>
            <p:nvPr/>
          </p:nvSpPr>
          <p:spPr>
            <a:xfrm>
              <a:off x="3276720" y="4724280"/>
              <a:ext cx="838080" cy="152280"/>
            </a:xfrm>
            <a:prstGeom prst="rightArrow">
              <a:avLst>
                <a:gd name="adj1" fmla="val 50000"/>
                <a:gd name="adj2" fmla="val 137589"/>
              </a:avLst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880" rIns="110880" tIns="20880" bIns="2088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2187800">
              <a:off x="4952520" y="5180760"/>
              <a:ext cx="838440" cy="152280"/>
            </a:xfrm>
            <a:prstGeom prst="rightArrow">
              <a:avLst>
                <a:gd name="adj1" fmla="val 50000"/>
                <a:gd name="adj2" fmla="val 137648"/>
              </a:avLst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880" rIns="110880" tIns="20880" bIns="2088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71800" y="4267080"/>
              <a:ext cx="12952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Prob. </a:t>
              </a:r>
              <a:r>
                <a:rPr b="1" lang="el-GR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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236000">
              <a:off x="5027400" y="4875840"/>
              <a:ext cx="12952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Prob. </a:t>
              </a:r>
              <a:r>
                <a:rPr b="1" lang="el-GR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β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9880" y="3809880"/>
            <a:ext cx="1219320" cy="838080"/>
            <a:chOff x="3809880" y="3809880"/>
            <a:chExt cx="1219320" cy="838080"/>
          </a:xfrm>
        </p:grpSpPr>
        <p:grpSp>
          <p:nvGrpSpPr>
            <p:cNvPr id="126" name=""/>
            <p:cNvGrpSpPr/>
            <p:nvPr/>
          </p:nvGrpSpPr>
          <p:grpSpPr>
            <a:xfrm>
              <a:off x="4267080" y="4267080"/>
              <a:ext cx="380880" cy="380880"/>
              <a:chOff x="4267080" y="4267080"/>
              <a:chExt cx="38088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4419360" y="4267080"/>
                <a:ext cx="76320" cy="380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440" rIns="100440" tIns="50040" bIns="500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267080" y="4419360"/>
                <a:ext cx="380880" cy="76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440" rIns="100440" tIns="26280" bIns="2628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267080" y="426708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440" rIns="100440" tIns="50040" bIns="500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809880" y="3809880"/>
              <a:ext cx="1219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Prob. </a:t>
              </a:r>
              <a:r>
                <a:rPr b="1" lang="en-US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5F8-C8B3-4369-A307-0219EB1189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demic threshold </a:t>
            </a:r>
            <a:r>
              <a:rPr b="1" lang="en-US" sz="4000" spc="-1" strike="noStrike">
                <a:solidFill>
                  <a:srgbClr val="a50021"/>
                </a:solidFill>
                <a:latin typeface="Symbol"/>
                <a:ea typeface="Symbol"/>
              </a:rPr>
              <a:t>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f a graph: the value of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such th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  strength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 =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/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&lt; 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 epidemic can not happe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us,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grap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ute its epidemic threshol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F0A-482C-43C1-AE18-C4B8004361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demic threshold </a:t>
            </a:r>
            <a:r>
              <a:rPr b="1" lang="en-US" sz="4000" spc="-1" strike="noStrike">
                <a:solidFill>
                  <a:srgbClr val="a50021"/>
                </a:solidFill>
                <a:latin typeface="Symbol"/>
                <a:ea typeface="Symbol"/>
              </a:rPr>
              <a:t>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at should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depend on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vg. degree? and/or highest degree?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/or variance of degre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/or third moment of degre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/or diameter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505320" y="4648320"/>
            <a:ext cx="1371600" cy="1295280"/>
            <a:chOff x="3505320" y="4648320"/>
            <a:chExt cx="1371600" cy="1295280"/>
          </a:xfrm>
        </p:grpSpPr>
        <p:sp>
          <p:nvSpPr>
            <p:cNvPr id="136" name=""/>
            <p:cNvSpPr/>
            <p:nvPr/>
          </p:nvSpPr>
          <p:spPr>
            <a:xfrm>
              <a:off x="3962520" y="5257800"/>
              <a:ext cx="152280" cy="152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14800" y="48769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7080" y="55627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51818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40" name=""/>
            <p:cNvCxnSpPr>
              <a:stCxn id="139" idx="1"/>
              <a:endCxn id="137" idx="5"/>
            </p:cNvCxnSpPr>
            <p:nvPr/>
          </p:nvCxnSpPr>
          <p:spPr>
            <a:xfrm flipH="1" flipV="1">
              <a:off x="4244760" y="5019480"/>
              <a:ext cx="197280" cy="17208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141" name=""/>
            <p:cNvCxnSpPr>
              <a:stCxn id="138" idx="0"/>
              <a:endCxn id="139" idx="3"/>
            </p:cNvCxnSpPr>
            <p:nvPr/>
          </p:nvCxnSpPr>
          <p:spPr>
            <a:xfrm flipV="1">
              <a:off x="4343040" y="5324400"/>
              <a:ext cx="99000" cy="22608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142" name=""/>
            <p:cNvCxnSpPr>
              <a:stCxn id="136" idx="5"/>
              <a:endCxn id="138" idx="0"/>
            </p:cNvCxnSpPr>
            <p:nvPr/>
          </p:nvCxnSpPr>
          <p:spPr>
            <a:xfrm>
              <a:off x="4092120" y="5400360"/>
              <a:ext cx="251640" cy="15012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sp>
          <p:nvSpPr>
            <p:cNvPr id="143" name=""/>
            <p:cNvSpPr/>
            <p:nvPr/>
          </p:nvSpPr>
          <p:spPr>
            <a:xfrm>
              <a:off x="3505320" y="4648320"/>
              <a:ext cx="1371600" cy="1295280"/>
            </a:xfrm>
            <a:prstGeom prst="ellipse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943600" y="4572000"/>
            <a:ext cx="1371600" cy="1295280"/>
            <a:chOff x="5943600" y="4572000"/>
            <a:chExt cx="1371600" cy="1295280"/>
          </a:xfrm>
        </p:grpSpPr>
        <p:sp>
          <p:nvSpPr>
            <p:cNvPr id="145" name=""/>
            <p:cNvSpPr/>
            <p:nvPr/>
          </p:nvSpPr>
          <p:spPr>
            <a:xfrm>
              <a:off x="6172200" y="51055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34320" y="52578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77120" y="48769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29400" y="55627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47" idx="1"/>
              <a:endCxn id="145" idx="7"/>
            </p:cNvCxnSpPr>
            <p:nvPr/>
          </p:nvCxnSpPr>
          <p:spPr>
            <a:xfrm flipH="1">
              <a:off x="6302160" y="4885920"/>
              <a:ext cx="197280" cy="22932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150" name=""/>
            <p:cNvCxnSpPr>
              <a:stCxn id="147" idx="5"/>
              <a:endCxn id="146" idx="1"/>
            </p:cNvCxnSpPr>
            <p:nvPr/>
          </p:nvCxnSpPr>
          <p:spPr>
            <a:xfrm>
              <a:off x="6607080" y="5019480"/>
              <a:ext cx="349920" cy="24804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151" name=""/>
            <p:cNvCxnSpPr>
              <a:stCxn id="147" idx="4"/>
              <a:endCxn id="148" idx="1"/>
            </p:cNvCxnSpPr>
            <p:nvPr/>
          </p:nvCxnSpPr>
          <p:spPr>
            <a:xfrm>
              <a:off x="6553080" y="5041440"/>
              <a:ext cx="99360" cy="53100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5943600" y="4572000"/>
              <a:ext cx="1371600" cy="1295280"/>
            </a:xfrm>
            <a:prstGeom prst="ellipse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066680" y="4724280"/>
            <a:ext cx="1371600" cy="1295280"/>
            <a:chOff x="1066680" y="4724280"/>
            <a:chExt cx="1371600" cy="1295280"/>
          </a:xfrm>
        </p:grpSpPr>
        <p:sp>
          <p:nvSpPr>
            <p:cNvPr id="154" name=""/>
            <p:cNvSpPr/>
            <p:nvPr/>
          </p:nvSpPr>
          <p:spPr>
            <a:xfrm>
              <a:off x="1295280" y="5105160"/>
              <a:ext cx="152640" cy="152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7400" y="5333760"/>
              <a:ext cx="152280" cy="152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7920" y="54864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28800" y="50292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66680" y="4724280"/>
              <a:ext cx="1371600" cy="1295280"/>
            </a:xfrm>
            <a:prstGeom prst="ellipse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492D-8349-444E-9A87-6AD751DE52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demic threshol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[Theorem 1] We have no epidemic, if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3276720"/>
            <a:ext cx="3733920" cy="1143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94880" y="3502080"/>
            <a:ext cx="322092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Times New Roman"/>
              </a:rPr>
              <a:t>β/δ &lt;</a:t>
            </a:r>
            <a:r>
              <a:rPr b="0" i="1" lang="el-GR" sz="4000" spc="-1" strike="noStrike">
                <a:solidFill>
                  <a:srgbClr val="000066"/>
                </a:solidFill>
                <a:latin typeface="Times New Roman"/>
              </a:rPr>
              <a:t>τ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1/ λ</a:t>
            </a:r>
            <a:r>
              <a:rPr b="0" i="1" lang="en-US" sz="4000" spc="-1" strike="noStrike" baseline="-25000">
                <a:solidFill>
                  <a:srgbClr val="ff0000"/>
                </a:solidFill>
                <a:latin typeface="Times New Roman"/>
              </a:rPr>
              <a:t>1,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7CF-BE57-47C3-AE6F-0079F10BB9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demic threshol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[Theorem 1] We have no epidemic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*)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, if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3276720"/>
            <a:ext cx="3733920" cy="1143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94880" y="3502080"/>
            <a:ext cx="322092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Times New Roman"/>
              </a:rPr>
              <a:t>β/δ &lt;</a:t>
            </a:r>
            <a:r>
              <a:rPr b="0" i="1" lang="el-GR" sz="4000" spc="-1" strike="noStrike">
                <a:solidFill>
                  <a:srgbClr val="000066"/>
                </a:solidFill>
                <a:latin typeface="Times New Roman"/>
              </a:rPr>
              <a:t>τ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1/ λ</a:t>
            </a:r>
            <a:r>
              <a:rPr b="0" i="1" lang="en-US" sz="4000" spc="-1" strike="noStrike" baseline="-25000">
                <a:solidFill>
                  <a:srgbClr val="ff0000"/>
                </a:solidFill>
                <a:latin typeface="Times New Roman"/>
              </a:rPr>
              <a:t>1,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02400" y="4486320"/>
            <a:ext cx="275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largest eigenvalu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of adj. matrix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04720" y="4597560"/>
            <a:ext cx="1861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ttack prob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2819520"/>
            <a:ext cx="24386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covery prob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124080" y="4190760"/>
            <a:ext cx="30492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3035160"/>
            <a:ext cx="914400" cy="546120"/>
          </a:xfrm>
          <a:custGeom>
            <a:avLst/>
            <a:gdLst/>
            <a:ahLst/>
            <a:rect l="l" t="t" r="r" b="b"/>
            <a:pathLst>
              <a:path w="576" h="344">
                <a:moveTo>
                  <a:pt x="0" y="8"/>
                </a:moveTo>
                <a:cubicBezTo>
                  <a:pt x="168" y="4"/>
                  <a:pt x="336" y="0"/>
                  <a:pt x="432" y="56"/>
                </a:cubicBezTo>
                <a:cubicBezTo>
                  <a:pt x="528" y="112"/>
                  <a:pt x="552" y="228"/>
                  <a:pt x="576" y="344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943600" y="4114800"/>
            <a:ext cx="76320" cy="45720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92320" y="2581200"/>
            <a:ext cx="2899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pidemic threshol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800240" y="3124080"/>
            <a:ext cx="152280" cy="609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040" y="5353200"/>
            <a:ext cx="684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of: [Wang+03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*) under mild, conditional-independence assump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B794-C425-4D0C-953B-C1942E551D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os</cp:lastModifiedBy>
  <dcterms:modified xsi:type="dcterms:W3CDTF">2009-06-05T15:35:50Z</dcterms:modified>
  <cp:revision>20</cp:revision>
  <dc:subject>virus propagation</dc:subject>
  <dc:title>KDD09 tutorial</dc:title>
</cp:coreProperties>
</file>