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2DF1-406E-4F7F-B4ED-F00F0DC6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1BD-0A7A-4A5E-A623-69C90A12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1FE-F555-4ED5-8C84-270B4938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C26D-D15F-4A6F-8A6C-0CD80D62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A4A-0AB8-4494-96BE-B82049F3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476-1E78-4EE0-9D1D-DD4FC0D1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A82-E0E8-4D42-BE41-BD2CCF44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2FB-2BFD-4119-A601-10BD0CAF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E57-6A87-4813-BE1F-16C4DAFA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AECC-A035-4929-9B6D-0D3B8125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690-C5C5-45A7-A337-B74F73A1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3F7D-30F6-44FE-A09D-43D5FB42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5-</a:t>
            </a:r>
            <a:fld id="{77C8E79C-269C-4324-BB2E-D5A7077A0D16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ask 4: Center-piece Subgraph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Times New Roman"/>
              </a:rPr>
              <a:t>Faloutsos, Miller and Tsourakaki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70A-D4A9-4F60-BB0D-47CEC66940A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K_SoftAnd: Combine Scor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41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eneralization – SoftAND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 want nodes close to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&lt;Q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query node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to do that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7" name="Rectangle 3"/>
          <p:cNvGraphicFramePr/>
          <p:nvPr/>
        </p:nvGraphicFramePr>
        <p:xfrm>
          <a:off x="4849920" y="1676520"/>
          <a:ext cx="391320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9920" y="1676520"/>
                    <a:ext cx="391320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734-D9DD-43E5-9D74-1D94FA976D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K_SoftAnd: Combine Scor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41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eneralization – softAND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 want nodes close to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&lt;Q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query node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to do that?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Prob(at leas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out-of-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will meet each other at j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1" name="Rectangle 3"/>
          <p:cNvGraphicFramePr/>
          <p:nvPr/>
        </p:nvGraphicFramePr>
        <p:xfrm>
          <a:off x="4849920" y="1676520"/>
          <a:ext cx="391320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9920" y="1676520"/>
                    <a:ext cx="391320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7C4-63B1-4357-B285-72FEFF8AA8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  <a:ea typeface="宋体"/>
              </a:rPr>
              <a:t>AND query vs.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K_SoftAnd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  <a:ea typeface="宋体"/>
              </a:rPr>
              <a:t> query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5433480"/>
            <a:ext cx="381312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Quer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10160" y="5410080"/>
            <a:ext cx="3924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_SoftAnd Que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1905120"/>
            <a:ext cx="392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66"/>
                </a:solidFill>
                <a:latin typeface="Times New Roman"/>
              </a:rPr>
              <a:t>x 1e-4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7" name="Rectangle 3"/>
          <p:cNvGraphicFramePr/>
          <p:nvPr/>
        </p:nvGraphicFramePr>
        <p:xfrm>
          <a:off x="1117440" y="1730520"/>
          <a:ext cx="323712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7440" y="1730520"/>
                    <a:ext cx="323712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286000" y="3505320"/>
            <a:ext cx="838080" cy="7617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0" name="Rectangle 3"/>
          <p:cNvGraphicFramePr/>
          <p:nvPr/>
        </p:nvGraphicFramePr>
        <p:xfrm>
          <a:off x="5027760" y="1641600"/>
          <a:ext cx="3246120" cy="364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7760" y="1641600"/>
                    <a:ext cx="324612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5181480" y="2362320"/>
            <a:ext cx="1067040" cy="17524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362320"/>
            <a:ext cx="990720" cy="17524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4648320"/>
            <a:ext cx="2057400" cy="8380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21F7-74A7-4039-8CDD-4ECEC746CC8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Rectangle 3"/>
          <p:cNvGraphicFramePr/>
          <p:nvPr/>
        </p:nvGraphicFramePr>
        <p:xfrm>
          <a:off x="2557440" y="1447920"/>
          <a:ext cx="41450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7440" y="1447920"/>
                    <a:ext cx="41450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1_SoftAnd query = OR query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590920"/>
            <a:ext cx="3048120" cy="9903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334400">
            <a:off x="5110200" y="3506760"/>
            <a:ext cx="1139760" cy="29718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3244800">
            <a:off x="1875960" y="4370040"/>
            <a:ext cx="3200400" cy="12574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D60-2D51-43F2-B53B-AA293C961E1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Problem definition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lution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8954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CB4-E06C-4289-9817-462DCFAFE9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6248520"/>
            <a:ext cx="80010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  <a:ea typeface="宋体"/>
              </a:rPr>
              <a:t>Case Study: AND query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338040" y="1371600"/>
          <a:ext cx="7585200" cy="532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1371600"/>
                    <a:ext cx="758520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54F-4636-49EB-B6DF-F1E16183D73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6248520"/>
            <a:ext cx="80010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  <a:ea typeface="宋体"/>
              </a:rPr>
              <a:t>Case Study: AND query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20" name="Rectangle 3"/>
          <p:cNvGraphicFramePr/>
          <p:nvPr/>
        </p:nvGraphicFramePr>
        <p:xfrm>
          <a:off x="338040" y="1371600"/>
          <a:ext cx="7585200" cy="532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1371600"/>
                    <a:ext cx="758520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rcRect l="0" t="0" r="0" b="24000"/>
          <a:stretch/>
        </p:blipFill>
        <p:spPr>
          <a:xfrm>
            <a:off x="4800600" y="4952880"/>
            <a:ext cx="1141560" cy="127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733920" y="2133720"/>
            <a:ext cx="912600" cy="1279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rcRect l="30736" t="0" r="30736" b="0"/>
          <a:stretch/>
        </p:blipFill>
        <p:spPr>
          <a:xfrm>
            <a:off x="4952880" y="3200400"/>
            <a:ext cx="1252800" cy="127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851E-9B26-4C89-A0CD-321BDAD6B7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Rectangle 3"/>
          <p:cNvGraphicFramePr/>
          <p:nvPr/>
        </p:nvGraphicFramePr>
        <p:xfrm>
          <a:off x="304920" y="0"/>
          <a:ext cx="8016840" cy="62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01684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57200" y="6324480"/>
            <a:ext cx="8229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_SoftAnd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que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048120"/>
            <a:ext cx="8915400" cy="3200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3124080"/>
            <a:ext cx="1752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Times New Roman"/>
              </a:rPr>
              <a:t>Statistic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8915400" cy="2971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2920" y="0"/>
            <a:ext cx="1752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9900"/>
                </a:solidFill>
                <a:latin typeface="Times New Roman"/>
              </a:rPr>
              <a:t>database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DE6-F466-4D8A-A232-764903012AB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Proximity (e.g., w/ RWR) helps answer ‘AND’ and ‘k_softAnd’ querie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B0D-7424-4195-ACCD-E3F851E4E0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2767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B3D-3C24-4EFA-B691-9797391B94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Problem definition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lution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600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943600"/>
            <a:ext cx="9144000" cy="885960"/>
          </a:xfrm>
          <a:prstGeom prst="rect">
            <a:avLst/>
          </a:prstGeom>
          <a:solidFill>
            <a:srgbClr val="ffff99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H. Tong &amp; C. Faloutsos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Center-piece subgraphs: problem definition and fast solution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In KDD, 404-413, 2006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4E3C-B179-4E47-9012-3C61028DDB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e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nter-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iece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ubgraph(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eps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Q query nod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Find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enter-piece (       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put of </a:t>
            </a:r>
            <a:r>
              <a:rPr b="0" lang="en-US" sz="2800" spc="-1" strike="noStrike">
                <a:solidFill>
                  <a:srgbClr val="f60000"/>
                </a:solidFill>
                <a:latin typeface="Times New Roman"/>
              </a:rPr>
              <a:t>Cep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Q Query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udget 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 softAnd numb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pp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ocial Networ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aw Inforce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ene Networ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5" name="Rectangle 3"/>
          <p:cNvGraphicFramePr/>
          <p:nvPr/>
        </p:nvGraphicFramePr>
        <p:xfrm>
          <a:off x="5530680" y="1295280"/>
          <a:ext cx="227196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0680" y="1295280"/>
                    <a:ext cx="2271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Rectangle 3"/>
          <p:cNvGraphicFramePr/>
          <p:nvPr/>
        </p:nvGraphicFramePr>
        <p:xfrm>
          <a:off x="5635800" y="3849840"/>
          <a:ext cx="1830240" cy="22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5800" y="3849840"/>
                    <a:ext cx="1830240" cy="22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638680" y="3838680"/>
          <a:ext cx="203832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3838680"/>
                    <a:ext cx="203832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86200" y="1981080"/>
          <a:ext cx="533520" cy="3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1981080"/>
                    <a:ext cx="5335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3D0-2B18-4A9E-B3F2-1E6808A967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Challenges in Cep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24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Q1: How to measure importance?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2332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2332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233280" indent="-2332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(Q2: How to extract connection subgraph?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33280" indent="-2332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Q3: How to do it efficiently?)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CF5-F470-4A16-B719-7F382F51ED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Challenges in Cep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24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Q1: How to measure importance?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-29160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A: “proximity” – but how to combine scores?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(Q2: How to extract connection subgraph?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Q3: How to do it efficiently?)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1E2-7205-494D-A63B-E043FB82CC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AND: Combine Scor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41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to combine score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9" name="Rectangle 3"/>
          <p:cNvGraphicFramePr/>
          <p:nvPr/>
        </p:nvGraphicFramePr>
        <p:xfrm>
          <a:off x="4849920" y="1676520"/>
          <a:ext cx="391320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9920" y="1676520"/>
                    <a:ext cx="391320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0F01-D9DA-4155-856D-3A8980D96F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AND: Combine Scor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41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to combine score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Multip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prob. 3 random particles coincide on nod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3" name="Rectangle 3"/>
          <p:cNvGraphicFramePr/>
          <p:nvPr/>
        </p:nvGraphicFramePr>
        <p:xfrm>
          <a:off x="4849920" y="1676520"/>
          <a:ext cx="391320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9920" y="1676520"/>
                    <a:ext cx="391320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E25-2574-412E-869F-9652E263F6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K_SoftAnd: Relaxation of AND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54097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hat if AND query</a:t>
            </a:r>
            <a:r>
              <a:rPr b="0" lang="en-US" sz="4400" spc="-1" strike="noStrike">
                <a:solidFill>
                  <a:srgbClr val="f6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6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f60000"/>
                </a:solidFill>
                <a:latin typeface="Times New Roman"/>
              </a:rPr>
              <a:t> No Answer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920" y="3935520"/>
            <a:ext cx="243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connected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un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4400" y="40878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i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9" name="Rectangle 3"/>
          <p:cNvGraphicFramePr/>
          <p:nvPr/>
        </p:nvGraphicFramePr>
        <p:xfrm>
          <a:off x="5219640" y="1525680"/>
          <a:ext cx="26542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525680"/>
                    <a:ext cx="26542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57200" y="1295280"/>
            <a:ext cx="3962520" cy="3657600"/>
          </a:xfrm>
          <a:prstGeom prst="rect">
            <a:avLst/>
          </a:prstGeom>
          <a:noFill/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1295280"/>
            <a:ext cx="3810240" cy="3657600"/>
          </a:xfrm>
          <a:prstGeom prst="rect">
            <a:avLst/>
          </a:prstGeom>
          <a:noFill/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3" name="Rectangle 3"/>
          <p:cNvGraphicFramePr/>
          <p:nvPr/>
        </p:nvGraphicFramePr>
        <p:xfrm>
          <a:off x="1019160" y="1550880"/>
          <a:ext cx="3265560" cy="224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9160" y="1550880"/>
                    <a:ext cx="326556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1AC-371D-46C7-9A06-3788ECB2A7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os</cp:lastModifiedBy>
  <dcterms:modified xsi:type="dcterms:W3CDTF">2009-06-05T15:30:14Z</dcterms:modified>
  <cp:revision>2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