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3C8-CDEC-4BCD-9A0D-4C3FEE48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F76-E46E-40A7-B97F-EFA44A8B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43C-9AD9-46FF-9DAF-F2FB40FD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11C-5232-4D2D-B6AC-AD8F4BEE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6550-F9FE-4D61-9680-30CA5D63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00C4-1D57-4ED0-8C51-8D9D058B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A4E0-066B-4911-A2C6-B9821585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2B4C-EA0A-4DC1-A852-3B446E4D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D86C-0CA3-4C10-8B5B-A06CF5A0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F6FC-F7C8-4F13-96DA-84689EBD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8F68-45F0-46B6-9F1D-E0BA8670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7E5-8FEF-458E-B3C9-CB3F3030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9C3B-3CF5-4FA7-B84B-69B8B79E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03B1-1BC6-458D-8C6F-EB102C46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2A81-4D59-4637-A3E9-BB25658F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FB52-F173-498C-AC23-CC7F5228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739B-ECDE-4BF8-A8AF-79C20DD7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EF550-1C97-4D2F-85FC-0D22659F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5D47-56CE-4039-A070-363CCA0D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4DAB-0BF4-4E92-A554-5288B154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C25B-25E3-4AB2-8244-1E93BFD1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ADAE-8E25-4F86-B18A-0ABC5F4B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05C-4C00-4DE7-9161-3DF0B146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0061-CFCB-4FC4-8B0E-DA433CCB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BD7B-51AD-4E26-B96B-6861723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B50D-A25F-43B8-8F1F-58BF602D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3991-8B20-48ED-ADBA-EA0C6B38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C64F-0ED3-4ABF-915E-C7CD339D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5ADE0-A5F5-4F95-AC1A-DBFE2763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BD96-9168-4A8F-83ED-A674A4CB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B6047-BC66-46BB-BC7D-6EE45812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03CA3-B858-463C-80B5-EB148D1F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2AE4-228C-4D50-9962-D23B92BD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609-8437-456D-B238-96C6700C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66209-28E6-49F1-98C7-0DF8366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D2D46-5099-4BED-9391-038BD3CB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8A359-A302-4A12-A3FD-436F953E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7851D-938B-479D-B933-FB5718AB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4BF99-7A02-42FA-B243-4E2123E3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0536E-B356-46B4-BB88-EB2A095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7304D-D476-46D8-ABA1-6326F7D3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7555D-5423-4EE7-86D5-2E2FCB2B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B8B4F-157C-4A9C-957C-E5FBE48E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E57-6573-4978-931E-5136763A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CBD-544C-4A76-97FB-72F6D8F1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149-05F4-457D-A38D-D7DEF3E1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0F6-24B6-4E05-BD3D-69EF325D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3FC-9291-44B1-BA4C-3F8041A7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DC3576F4-0A7D-474A-89F2-1C9572751CD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80E2B925-FAD1-4025-833F-5C654794062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86DF7C4E-E55A-4A3E-A4BF-3187B08C7A3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C18564B4-9638-4E00-931A-A514883A51BC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ristos Faloutso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Gary Mill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aralampos (Babis) Tsourakak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37F4-A695-430F-A214-E581EA59F38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Authors and term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061640" y="2286000"/>
            <a:ext cx="7396560" cy="2482200"/>
            <a:chOff x="1061640" y="2286000"/>
            <a:chExt cx="7396560" cy="2482200"/>
          </a:xfrm>
        </p:grpSpPr>
        <p:graphicFrame>
          <p:nvGraphicFramePr>
            <p:cNvPr id="313" name=""/>
            <p:cNvGraphicFramePr/>
            <p:nvPr/>
          </p:nvGraphicFramePr>
          <p:xfrm>
            <a:off x="1976400" y="28940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28940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>
              <a:off x="2211840" y="22860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0080" y="228600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70440" y="22860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66000" y="22860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53440" y="2403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061640" y="2784600"/>
              <a:ext cx="842040" cy="1983600"/>
              <a:chOff x="1061640" y="2784600"/>
              <a:chExt cx="842040" cy="1983600"/>
            </a:xfrm>
          </p:grpSpPr>
          <p:sp>
            <p:nvSpPr>
              <p:cNvPr id="321" name=""/>
              <p:cNvSpPr/>
              <p:nvPr/>
            </p:nvSpPr>
            <p:spPr>
              <a:xfrm>
                <a:off x="1062360" y="27846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76760" y="31240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61640" y="34290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77840" y="3809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90960" y="43084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0716-0DE4-4088-849E-5E1F8D4770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Examples without network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or, at least, no straightforward network interpretation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609480"/>
            <a:ext cx="380880" cy="5257800"/>
          </a:xfrm>
          <a:custGeom>
            <a:avLst/>
            <a:gdLst>
              <a:gd name="textAreaLeft" fmla="*/ 111960 w 380880"/>
              <a:gd name="textAreaRight" fmla="*/ 381240 w 380880"/>
              <a:gd name="textAreaTop" fmla="*/ 218880 h 5257800"/>
              <a:gd name="textAreaBottom" fmla="*/ 503892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D5DC-F2DF-40AC-A474-55761FF3F9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cloud of n-d poi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976400" y="274176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4176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2212200" y="2133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ol#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30080" y="2133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lood#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7152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359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453440" y="2251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09000" y="2631960"/>
            <a:ext cx="842040" cy="1983600"/>
            <a:chOff x="909000" y="2631960"/>
            <a:chExt cx="842040" cy="1983600"/>
          </a:xfrm>
        </p:grpSpPr>
        <p:sp>
          <p:nvSpPr>
            <p:cNvPr id="339" name=""/>
            <p:cNvSpPr/>
            <p:nvPr/>
          </p:nvSpPr>
          <p:spPr>
            <a:xfrm>
              <a:off x="909720" y="263196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oh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24120" y="297144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te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9000" y="32763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r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25200" y="3657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ick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38320" y="4155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B90B-526F-4CC8-9913-4F3521B4D1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sensor-ids and time-tick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976400" y="28940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8940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188360" y="278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04560" y="3124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83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04560" y="3809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11480" y="2286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mp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10080" y="2286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mp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00960" y="22860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umi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4320" y="22860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ss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53440" y="2403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17680" y="430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8534520" y="990720"/>
            <a:ext cx="380880" cy="5257800"/>
          </a:xfrm>
          <a:custGeom>
            <a:avLst/>
            <a:gdLst>
              <a:gd name="textAreaLeft" fmla="*/ 111960 w 380880"/>
              <a:gd name="textAreaRight" fmla="*/ 381240 w 380880"/>
              <a:gd name="textAreaTop" fmla="*/ 218880 h 5257800"/>
              <a:gd name="textAreaBottom" fmla="*/ 503892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B219-2575-4F44-B51A-EFB147DA75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19051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05C9-6EE4-49BE-919B-20B6F2B4A7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6F19-95DD-4D39-A502-211F28D974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- why should we ca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81" name="Rectangle 3" descr=""/>
          <p:cNvPicPr/>
          <p:nvPr/>
        </p:nvPicPr>
        <p:blipFill>
          <a:blip r:embed="rId1"/>
          <a:stretch/>
        </p:blipFill>
        <p:spPr>
          <a:xfrm>
            <a:off x="1847880" y="1569960"/>
            <a:ext cx="2077920" cy="1560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81720" y="1467000"/>
            <a:ext cx="2187360" cy="1639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915160" y="3981600"/>
            <a:ext cx="1620720" cy="162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19320" y="3124080"/>
            <a:ext cx="205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ternet Map [lumeta.com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10320" y="3124080"/>
            <a:ext cx="205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od Web [Martinez ’91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10240" y="5605560"/>
            <a:ext cx="251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tein Interactions [genomebiology.com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14400" y="5607000"/>
            <a:ext cx="2210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iendship Network [Moody ’01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8" name="Rectangle 3" descr=""/>
          <p:cNvPicPr/>
          <p:nvPr/>
        </p:nvPicPr>
        <p:blipFill>
          <a:blip r:embed="rId4"/>
          <a:stretch/>
        </p:blipFill>
        <p:spPr>
          <a:xfrm>
            <a:off x="1685880" y="3687840"/>
            <a:ext cx="227808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9FBA-CC78-4838-B826-21383051F6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- why should we ca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R: bi-partite graphs (doc-term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b: hyper-text grap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mor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474600" y="1752480"/>
            <a:ext cx="2579400" cy="1500840"/>
            <a:chOff x="6474600" y="1752480"/>
            <a:chExt cx="2579400" cy="1500840"/>
          </a:xfrm>
        </p:grpSpPr>
        <p:sp>
          <p:nvSpPr>
            <p:cNvPr id="192" name=""/>
            <p:cNvSpPr/>
            <p:nvPr/>
          </p:nvSpPr>
          <p:spPr>
            <a:xfrm>
              <a:off x="8267760" y="28954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67760" y="19810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67760" y="21333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67760" y="25905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7760" y="274320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3360" y="205740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53360" y="22096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53360" y="26668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53360" y="28191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74600" y="179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08800" y="266688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74120" y="17524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30560" y="2743200"/>
              <a:ext cx="5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197" idx="6"/>
              <a:endCxn id="194" idx="2"/>
            </p:cNvCxnSpPr>
            <p:nvPr/>
          </p:nvCxnSpPr>
          <p:spPr>
            <a:xfrm>
              <a:off x="7448040" y="2095200"/>
              <a:ext cx="801000" cy="7668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206" name=""/>
            <p:cNvCxnSpPr>
              <a:stCxn id="197" idx="6"/>
              <a:endCxn id="195" idx="0"/>
            </p:cNvCxnSpPr>
            <p:nvPr/>
          </p:nvCxnSpPr>
          <p:spPr>
            <a:xfrm>
              <a:off x="7448400" y="2095560"/>
              <a:ext cx="858240" cy="47664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207" name=""/>
            <p:cNvCxnSpPr>
              <a:stCxn id="200" idx="5"/>
              <a:endCxn id="194" idx="2"/>
            </p:cNvCxnSpPr>
            <p:nvPr/>
          </p:nvCxnSpPr>
          <p:spPr>
            <a:xfrm flipV="1">
              <a:off x="7417800" y="2170800"/>
              <a:ext cx="831240" cy="73260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208" name=""/>
            <p:cNvSpPr/>
            <p:nvPr/>
          </p:nvSpPr>
          <p:spPr>
            <a:xfrm>
              <a:off x="7246800" y="2174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61200" y="2133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B200-30FF-45A8-B462-9AA82D4184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- why should we ca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etwork of companies &amp; board-of-directors memb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iral’ market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b-log (‘blog’) news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uter network security: email/IP traffic and anomal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ny M:N relationship -&gt; Grap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ny subject-verb-object construct: -&gt; Grap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B52C-59F5-4167-8D31-577757DF33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and matri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osely re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werful tools from matrix algebra, for graph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nd, conversely, great problems for CS/Math to solv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07E2-8EB8-4914-A604-7DBF86009D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 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Graph - social network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3280" y="213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10440" y="20574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1520" y="205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5200" y="2057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i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53440" y="2251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3040" y="2631960"/>
            <a:ext cx="842040" cy="1983600"/>
            <a:chOff x="833040" y="2631960"/>
            <a:chExt cx="842040" cy="1983600"/>
          </a:xfrm>
        </p:grpSpPr>
        <p:sp>
          <p:nvSpPr>
            <p:cNvPr id="222" name=""/>
            <p:cNvSpPr/>
            <p:nvPr/>
          </p:nvSpPr>
          <p:spPr>
            <a:xfrm>
              <a:off x="833760" y="263196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oh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8160" y="297144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te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3040" y="32763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r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9240" y="3657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ick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2360" y="4155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76400" y="2741760"/>
            <a:ext cx="6481800" cy="1733400"/>
            <a:chOff x="1976400" y="2741760"/>
            <a:chExt cx="6481800" cy="1733400"/>
          </a:xfrm>
        </p:grpSpPr>
        <p:sp>
          <p:nvSpPr>
            <p:cNvPr id="228" name=""/>
            <p:cNvSpPr/>
            <p:nvPr/>
          </p:nvSpPr>
          <p:spPr>
            <a:xfrm>
              <a:off x="1976400" y="2741760"/>
              <a:ext cx="648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76400" y="2741760"/>
              <a:ext cx="6481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76400" y="2741760"/>
              <a:ext cx="1800" cy="17334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76400" y="2741760"/>
              <a:ext cx="20520" cy="1733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72960" y="2762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55560" y="2762280"/>
              <a:ext cx="371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1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47600" y="2762280"/>
              <a:ext cx="371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2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000" y="2762280"/>
              <a:ext cx="371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5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64080" y="276228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7880" y="31050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0280" y="31050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29040" y="31050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21080" y="31050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64080" y="310500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9520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8724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7964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7168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6408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9520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8724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7964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7168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6408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9520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8724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7964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7168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6408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76400" y="274176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76400" y="274176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76400" y="3084480"/>
              <a:ext cx="6461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76400" y="308448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76400" y="342756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6400" y="3427560"/>
              <a:ext cx="64612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6400" y="376884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76400" y="376884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76400" y="4111560"/>
              <a:ext cx="6461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76400" y="4111560"/>
              <a:ext cx="646128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76400" y="445464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76400" y="445464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76400" y="2741760"/>
              <a:ext cx="180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7640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8800" y="2741760"/>
              <a:ext cx="144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6880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0840" y="2741760"/>
              <a:ext cx="180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084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53240" y="2741760"/>
              <a:ext cx="144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5324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45280" y="2741760"/>
              <a:ext cx="180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4528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37680" y="2741760"/>
              <a:ext cx="144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3768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5D56-E9BF-468F-8B59-F74DF0227A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Market basket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arket baske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s in Association Rul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76400" y="28940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8940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211480" y="2286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il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10800" y="2286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e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71520" y="22860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o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35200" y="2286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i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53440" y="2403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3040" y="2784600"/>
            <a:ext cx="842040" cy="1983600"/>
            <a:chOff x="833040" y="2784600"/>
            <a:chExt cx="842040" cy="1983600"/>
          </a:xfrm>
        </p:grpSpPr>
        <p:sp>
          <p:nvSpPr>
            <p:cNvPr id="291" name=""/>
            <p:cNvSpPr/>
            <p:nvPr/>
          </p:nvSpPr>
          <p:spPr>
            <a:xfrm>
              <a:off x="833760" y="27846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oh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8160" y="31240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te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3040" y="342900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r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49240" y="3809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ick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2360" y="4308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73E5-7755-45EC-95BF-9825A95D69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Documents and term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976400" y="2852640"/>
          <a:ext cx="6481800" cy="17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852640"/>
                    <a:ext cx="648180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3661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1960" y="3200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6120" y="3657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196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11840" y="2244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10080" y="22446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70440" y="22446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if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66000" y="22446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53440" y="2362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5440" y="4267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2408-B135-4D03-9138-0410FAB55F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18:16Z</dcterms:modified>
  <cp:revision>181</cp:revision>
  <dc:subject/>
  <dc:title>Large graph mining</dc:title>
</cp:coreProperties>
</file>