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0.png" ContentType="image/png"/>
  <Override PartName="/ppt/media/image5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png" ContentType="image/png"/>
  <Override PartName="/ppt/media/image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BA98D6-042D-48B6-B28B-633B20278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7C5-479F-495B-A0F5-8093A35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9EA-9374-47F5-BFC3-1CA04F5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A34-CD8B-48AD-8A11-526D00C8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647-FA4D-416C-A708-ABE301E3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0B69-C323-46F6-A034-F3C1849D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E349-258C-4326-AE56-D0FBAFCE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0E2F-B997-41FD-A3E7-E0C5EDA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C23E-EE64-465D-AB11-635C696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5EA5-8A1A-45E8-9951-4CB0078D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8DA-150E-4274-A267-5888171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8F00-A8E3-4A01-8D86-7693BC5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605-3700-42E9-BAE4-C84009C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2EB-3D6E-4C78-B749-A33109D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3FBA-ED16-40B0-A514-676B6EF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06A5-2D07-4418-9165-B6C7069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FAAD-56B0-4A84-8D4C-DBBEDD9A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9E9A-61BE-4ACB-B286-6C07DA51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0CC-6E2A-4D1D-AEAE-804DF35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39-15AC-4922-A675-BB8A0581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25A-0958-49C2-8995-FF08283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4EA-C44F-40B5-B850-8442F9A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498-43C7-4045-ACE6-F2DDDFE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811-9431-4915-9247-FA42688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96F-578D-47B1-8635-38BF98A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5-</a:t>
            </a:r>
            <a:fld id="{F76A26B0-94E3-4992-B3DB-7C6F7C5EF1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95F15800-50B3-41CF-B414-2EC41D1C19E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24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9.wmf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Graphs over time &amp; tens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B93-E7A0-41D7-8953-0A2D9F8B44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8760" y="6172200"/>
            <a:ext cx="21862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destin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3720" y="2666880"/>
            <a:ext cx="16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Dest. por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00" y="53784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sour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560" y="38862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80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5480" y="335268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25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D55-0FDC-4531-BDBB-701120C3D6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g, fFMRI: x,y,z, time, person-id, task-i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1371600" y="3828960"/>
            <a:ext cx="2362320" cy="210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88920" y="6019920"/>
            <a:ext cx="744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ttp://denlab.temple.edu/bidms/cgi-bin/browse.cg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5120" y="4876920"/>
            <a:ext cx="458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rom DENLAB, Temple U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Prof. V. Megalooikonomou 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D16-555A-4A65-BE2D-9A8543A1A6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otivating Applications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tensors are useful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 mining (TOP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vironmental senso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usion detection (src, dst, time, dest-por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s (src, dst, time, type-of-contac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e recogn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6C4-AEE7-4DAD-9B22-B4D8CA3C06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1337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E08-EAB8-48BD-844F-C760AFA420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basic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ulti-mode extensions of SVD – recall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4C6-DFCB-4405-B24F-B6EBFC0515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786200" y="2481120"/>
            <a:ext cx="3286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5120" y="283860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95480" y="2475000"/>
            <a:ext cx="481320" cy="1752480"/>
            <a:chOff x="3795480" y="2475000"/>
            <a:chExt cx="481320" cy="1752480"/>
          </a:xfrm>
        </p:grpSpPr>
        <p:sp>
          <p:nvSpPr>
            <p:cNvPr id="219" name=""/>
            <p:cNvSpPr/>
            <p:nvPr/>
          </p:nvSpPr>
          <p:spPr>
            <a:xfrm>
              <a:off x="4124520" y="2475000"/>
              <a:ext cx="152280" cy="1752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5480" y="31161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77960" y="1776240"/>
            <a:ext cx="1066680" cy="660600"/>
            <a:chOff x="5277960" y="1776240"/>
            <a:chExt cx="1066680" cy="660600"/>
          </a:xfrm>
        </p:grpSpPr>
        <p:sp>
          <p:nvSpPr>
            <p:cNvPr id="222" name=""/>
            <p:cNvSpPr/>
            <p:nvPr/>
          </p:nvSpPr>
          <p:spPr>
            <a:xfrm>
              <a:off x="5658120" y="17762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5658840" y="1751040"/>
              <a:ext cx="304920" cy="1066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313520" y="422280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52008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77504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75680" y="2800440"/>
            <a:ext cx="5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Sylfae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11520" y="2471760"/>
            <a:ext cx="17172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1440" y="265104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3548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34040" y="266076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1BF-6D20-4E74-9058-9B1C2C32AE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320580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26060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9440" y="2514600"/>
            <a:ext cx="17136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251460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251460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71880" y="30290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8280" y="194940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61120" y="199692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584-C4D8-49C8-A78A-E30BE1A362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Goal: extension to &gt;=3 mod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77160" y="2658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msy10"/>
                <a:ea typeface="Arial"/>
              </a:rPr>
              <a:t>¼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923200" y="1456560"/>
            <a:ext cx="2129400" cy="2323440"/>
            <a:chOff x="2923200" y="1456560"/>
            <a:chExt cx="2129400" cy="2323440"/>
          </a:xfrm>
        </p:grpSpPr>
        <p:sp>
          <p:nvSpPr>
            <p:cNvPr id="257" name=""/>
            <p:cNvSpPr/>
            <p:nvPr/>
          </p:nvSpPr>
          <p:spPr>
            <a:xfrm>
              <a:off x="2923200" y="222084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0800">
              <a:off x="3581640" y="16603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30120" y="2630520"/>
              <a:ext cx="427320" cy="114948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9960" y="2584440"/>
              <a:ext cx="782640" cy="49356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7720" y="22575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637800">
              <a:off x="3811320" y="1920960"/>
              <a:ext cx="79056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6160" y="320508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160" y="2665440"/>
              <a:ext cx="533520" cy="30492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671640" y="284004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611160" y="2535120"/>
              <a:ext cx="52884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71600" y="2057400"/>
            <a:ext cx="1017360" cy="1600200"/>
            <a:chOff x="1371600" y="2057400"/>
            <a:chExt cx="1017360" cy="1600200"/>
          </a:xfrm>
        </p:grpSpPr>
        <p:sp>
          <p:nvSpPr>
            <p:cNvPr id="268" name=""/>
            <p:cNvSpPr/>
            <p:nvPr/>
          </p:nvSpPr>
          <p:spPr>
            <a:xfrm>
              <a:off x="1371600" y="2555640"/>
              <a:ext cx="877680" cy="11019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1595160" y="3043080"/>
              <a:ext cx="24624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441440" y="20574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0" y="2345400"/>
            <a:ext cx="2741760" cy="1159560"/>
            <a:chOff x="5335200" y="2345400"/>
            <a:chExt cx="2741760" cy="1159560"/>
          </a:xfrm>
        </p:grpSpPr>
        <p:grpSp>
          <p:nvGrpSpPr>
            <p:cNvPr id="272" name=""/>
            <p:cNvGrpSpPr/>
            <p:nvPr/>
          </p:nvGrpSpPr>
          <p:grpSpPr>
            <a:xfrm>
              <a:off x="5581800" y="2345400"/>
              <a:ext cx="2495160" cy="1159560"/>
              <a:chOff x="5581800" y="2345400"/>
              <a:chExt cx="2495160" cy="115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5851440" y="2835000"/>
                <a:ext cx="7452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5400000">
                <a:off x="6195600" y="262368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6760" y="269856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70640" y="2835000"/>
                <a:ext cx="7308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84320" y="266688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+…+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700000">
                <a:off x="6028920" y="2300040"/>
                <a:ext cx="7956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7795800" y="262224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700000">
                <a:off x="7629120" y="2298240"/>
                <a:ext cx="7920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1800" y="2628720"/>
                <a:ext cx="185760" cy="16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89840" y="2685960"/>
                <a:ext cx="222120" cy="16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3" name=""/>
            <p:cNvSpPr/>
            <p:nvPr/>
          </p:nvSpPr>
          <p:spPr>
            <a:xfrm>
              <a:off x="5335200" y="2667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824120" y="3968640"/>
            <a:ext cx="5591160" cy="596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564-45A9-4FC1-9EF7-4C6B217961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ain points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 major types of tensor decompos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can be solved with ``alternating least squares’’ (AL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851-6ECB-4331-9F05-468381E42C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715000" y="3429000"/>
            <a:ext cx="2666880" cy="2743200"/>
            <a:chOff x="5715000" y="3429000"/>
            <a:chExt cx="2666880" cy="2743200"/>
          </a:xfrm>
        </p:grpSpPr>
        <p:sp>
          <p:nvSpPr>
            <p:cNvPr id="289" name=""/>
            <p:cNvSpPr/>
            <p:nvPr/>
          </p:nvSpPr>
          <p:spPr>
            <a:xfrm>
              <a:off x="5715000" y="3429000"/>
              <a:ext cx="26668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7200" y="4854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89480" y="4819680"/>
              <a:ext cx="426600" cy="1149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2200" y="441000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29320" y="4773600"/>
              <a:ext cx="782280" cy="4935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06360" y="44463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637800">
              <a:off x="6970320" y="3957840"/>
              <a:ext cx="790560" cy="29808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640800">
              <a:off x="6740640" y="369720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5160" y="539424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0520" y="4854600"/>
              <a:ext cx="532800" cy="30456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6830640" y="502920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770520" y="4724280"/>
              <a:ext cx="52812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pecially Structured Tens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ruskal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4842000"/>
            <a:ext cx="878040" cy="110160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48200" y="5329080"/>
            <a:ext cx="246240" cy="233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61840" y="4761000"/>
            <a:ext cx="995400" cy="12938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7920" y="433692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127160" y="5384880"/>
            <a:ext cx="236520" cy="239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36080" y="48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68360" y="4819680"/>
            <a:ext cx="427320" cy="114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61440" y="4410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8200" y="4773600"/>
            <a:ext cx="782640" cy="493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3520" y="4446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8637800">
            <a:off x="3049560" y="3957840"/>
            <a:ext cx="7905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54440" y="4761000"/>
            <a:ext cx="441360" cy="612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8640800">
            <a:off x="2824200" y="36979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29160" y="53942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941560" y="4987800"/>
            <a:ext cx="177840" cy="268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914400" y="2209680"/>
            <a:ext cx="3309840" cy="1155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4952880" y="2363760"/>
            <a:ext cx="2513160" cy="785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794120" y="434340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09960" y="3041640"/>
            <a:ext cx="1073520" cy="533520"/>
            <a:chOff x="3009960" y="3041640"/>
            <a:chExt cx="1073520" cy="533520"/>
          </a:xfrm>
        </p:grpSpPr>
        <p:sp>
          <p:nvSpPr>
            <p:cNvPr id="323" name=""/>
            <p:cNvSpPr/>
            <p:nvPr/>
          </p:nvSpPr>
          <p:spPr>
            <a:xfrm>
              <a:off x="3009960" y="3041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8200" y="307980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53120" y="2743200"/>
            <a:ext cx="1073520" cy="533160"/>
            <a:chOff x="7053120" y="2743200"/>
            <a:chExt cx="1073520" cy="533160"/>
          </a:xfrm>
        </p:grpSpPr>
        <p:sp>
          <p:nvSpPr>
            <p:cNvPr id="326" name=""/>
            <p:cNvSpPr/>
            <p:nvPr/>
          </p:nvSpPr>
          <p:spPr>
            <a:xfrm>
              <a:off x="7053120" y="2743200"/>
              <a:ext cx="228600" cy="533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81360" y="278136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63800" y="3352680"/>
            <a:ext cx="2818080" cy="2667240"/>
            <a:chOff x="5563800" y="3352680"/>
            <a:chExt cx="2818080" cy="2667240"/>
          </a:xfrm>
        </p:grpSpPr>
        <p:sp>
          <p:nvSpPr>
            <p:cNvPr id="329" name=""/>
            <p:cNvSpPr/>
            <p:nvPr/>
          </p:nvSpPr>
          <p:spPr>
            <a:xfrm>
              <a:off x="5791320" y="3352680"/>
              <a:ext cx="2590560" cy="26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563800" y="4402080"/>
              <a:ext cx="2741760" cy="1472400"/>
              <a:chOff x="5563800" y="4402080"/>
              <a:chExt cx="2741760" cy="1472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563800" y="4551840"/>
                <a:ext cx="2741760" cy="1105920"/>
                <a:chOff x="5563800" y="4551840"/>
                <a:chExt cx="2741760" cy="1105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880320" y="4591080"/>
                  <a:ext cx="1839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5810400" y="4551840"/>
                  <a:ext cx="2495160" cy="1105920"/>
                  <a:chOff x="5810400" y="4551840"/>
                  <a:chExt cx="2495160" cy="11059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6080040" y="5024880"/>
                    <a:ext cx="7452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5400000">
                    <a:off x="6426720" y="48117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75360" y="4895640"/>
                    <a:ext cx="1843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599240" y="5024880"/>
                    <a:ext cx="7308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712920" y="4865400"/>
                    <a:ext cx="67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Arial"/>
                        <a:ea typeface="Arial"/>
                      </a:rPr>
                      <a:t>+…+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700000">
                    <a:off x="6260040" y="4504320"/>
                    <a:ext cx="7488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5400000">
                    <a:off x="8026920" y="48099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700000">
                    <a:off x="7860240" y="4503240"/>
                    <a:ext cx="7452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0400" y="4829760"/>
                    <a:ext cx="18576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8440" y="4883400"/>
                    <a:ext cx="222120" cy="1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44" name=""/>
                <p:cNvSpPr/>
                <p:nvPr/>
              </p:nvSpPr>
              <p:spPr>
                <a:xfrm>
                  <a:off x="5563800" y="48657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Arial"/>
                      <a:ea typeface="Arial"/>
                    </a:rPr>
                    <a:t>=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6100200" y="5586840"/>
                <a:ext cx="337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25520" y="5586840"/>
                <a:ext cx="354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52480" y="5082120"/>
                <a:ext cx="328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24600" y="4433400"/>
                <a:ext cx="3668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29720" y="5082120"/>
                <a:ext cx="345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73240" y="4402080"/>
                <a:ext cx="3834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2357280" y="3962520"/>
            <a:ext cx="609840" cy="7617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2560" y="36576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cor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D35-75A2-443C-82DA-CA28638EF3BC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6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ECE-A82C-447A-9BA5-B25E7A1AFD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47760" y="1143000"/>
            <a:ext cx="3916440" cy="2746440"/>
          </a:xfrm>
          <a:prstGeom prst="rect">
            <a:avLst/>
          </a:prstGeom>
          <a:solidFill>
            <a:srgbClr val="ffffff">
              <a:alpha val="68000"/>
            </a:srgbClr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Times New Roman"/>
              </a:rPr>
              <a:t>Tucker Decomposition - intuition</a:t>
            </a:r>
            <a:endParaRPr b="1" lang="en-US" sz="41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33240" y="1137960"/>
            <a:ext cx="3429000" cy="2554560"/>
            <a:chOff x="633240" y="1137960"/>
            <a:chExt cx="3429000" cy="2554560"/>
          </a:xfrm>
        </p:grpSpPr>
        <p:sp>
          <p:nvSpPr>
            <p:cNvPr id="357" name=""/>
            <p:cNvSpPr/>
            <p:nvPr/>
          </p:nvSpPr>
          <p:spPr>
            <a:xfrm>
              <a:off x="633240" y="2398680"/>
              <a:ext cx="995400" cy="129384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9320" y="19749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898200" y="302256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"/>
            <p:cNvGrpSpPr/>
            <p:nvPr/>
          </p:nvGrpSpPr>
          <p:grpSpPr>
            <a:xfrm>
              <a:off x="1668960" y="1137960"/>
              <a:ext cx="2393280" cy="2468880"/>
              <a:chOff x="1668960" y="1137960"/>
              <a:chExt cx="2393280" cy="2468880"/>
            </a:xfrm>
          </p:grpSpPr>
          <p:sp>
            <p:nvSpPr>
              <p:cNvPr id="361" name=""/>
              <p:cNvSpPr/>
              <p:nvPr/>
            </p:nvSpPr>
            <p:spPr>
              <a:xfrm>
                <a:off x="1668960" y="248472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msy10"/>
                    <a:ea typeface="Arial"/>
                  </a:rPr>
                  <a:t>¼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39760" y="2457720"/>
                <a:ext cx="426960" cy="114912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480" y="2048040"/>
                <a:ext cx="64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I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x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79600" y="2411640"/>
                <a:ext cx="782640" cy="493560"/>
              </a:xfrm>
              <a:prstGeom prst="rect">
                <a:avLst/>
              </a:prstGeom>
              <a:noFill/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64560" y="2084400"/>
                <a:ext cx="61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J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637800">
                <a:off x="2820600" y="1595880"/>
                <a:ext cx="79056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5480" y="2398680"/>
                <a:ext cx="441360" cy="61308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640800">
                <a:off x="2595240" y="1335600"/>
                <a:ext cx="69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K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00200" y="3032280"/>
                <a:ext cx="105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960" y="2625840"/>
                <a:ext cx="17748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3847680"/>
            <a:ext cx="77724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 x keyword x confe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author x author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: keyword x keyword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: conf. x conf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French Script MT"/>
              </a:rPr>
              <a:t>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how groups relate to each oth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BED-D8C7-4572-A648-E7C9AB071B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ntuition behind core tenso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-d case: co-clus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Dhillon et al. Information-Theoretic Co-clustering, KDD’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380880"/>
            <a:ext cx="533520" cy="6096240"/>
          </a:xfrm>
          <a:custGeom>
            <a:avLst/>
            <a:gdLst>
              <a:gd name="textAreaLeft" fmla="*/ 156600 w 533520"/>
              <a:gd name="textAreaRight" fmla="*/ 533880 w 53352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8CF-31A1-43C3-888F-39FBCEFEE1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81952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9272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14C-B6C6-4C6A-AEDA-C813F426651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280" y="5410080"/>
            <a:ext cx="179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076600" y="380880"/>
            <a:ext cx="533160" cy="6096240"/>
          </a:xfrm>
          <a:custGeom>
            <a:avLst/>
            <a:gdLst>
              <a:gd name="textAreaLeft" fmla="*/ 156600 w 533160"/>
              <a:gd name="textAreaRight" fmla="*/ 533520 w 53316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B72-DA17-4223-B2C1-77F07BDEC07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summar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wo main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find row-, column-, tube-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in PARAFAC the three groups are identic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 To solve: Alternating Least Squares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09F-0E77-4AB6-948F-E80E0274DE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2666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32F-27E9-4082-84D7-E0887E6844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eb graph min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order the importance of web pag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Ran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nsor extension on HITS (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OPHI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91080" y="3505320"/>
            <a:ext cx="4324320" cy="27972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276800" cy="275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49B-14C8-4742-B2A7-24F4281A8F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160" y="12240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Kleinberg’s Hubs and Authorities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(the HITS metho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78000"/>
            <a:ext cx="4608360" cy="24400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60240" y="3983040"/>
            <a:ext cx="3149640" cy="21891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57800" y="2044800"/>
            <a:ext cx="3375000" cy="608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956480" y="160020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rse adjacency matrix and its SVD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5120" y="40021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952880" y="4616280"/>
            <a:ext cx="3649680" cy="797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>
            <a:off x="6067440" y="538452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99200" y="553896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97520" y="56149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182000" y="5422680"/>
            <a:ext cx="11556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27880" y="438624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642080" y="438624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3840" y="38098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488808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23960" y="4654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64832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667400"/>
            <a:ext cx="6094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5715000" y="2971800"/>
            <a:ext cx="2057400" cy="469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82520" y="64929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leinberg, JACM, 199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2A4-4E91-4F55-91C2-3D445ABF61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6324480"/>
            <a:ext cx="23619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6800" y="458784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04920" y="5202360"/>
            <a:ext cx="3649680" cy="796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V="1">
            <a:off x="1419120" y="597024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60958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9560" y="620064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33680" y="600840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79560" y="497196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994120" y="497196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44197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39760" y="5538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5640" y="5240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523404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5253120"/>
            <a:ext cx="60984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ITS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67" name="Rectangle 3"/>
          <p:cNvGraphicFramePr/>
          <p:nvPr/>
        </p:nvGraphicFramePr>
        <p:xfrm>
          <a:off x="647640" y="1066680"/>
          <a:ext cx="2470320" cy="171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066680"/>
                    <a:ext cx="24703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954080" y="1566720"/>
          <a:ext cx="2571840" cy="238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1566720"/>
                    <a:ext cx="257184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838840" y="1700280"/>
            <a:ext cx="313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e started our crawl from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http://www-neos.mcs.anl.gov/neos,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and crawled 4700 pages,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resulting in 560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ross-linked host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306600" y="2111400"/>
          <a:ext cx="2586240" cy="2381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06600" y="2111400"/>
                    <a:ext cx="25862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873680" y="2833560"/>
          <a:ext cx="2585880" cy="23734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3680" y="2833560"/>
                    <a:ext cx="25858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6102360" y="3678120"/>
          <a:ext cx="2584440" cy="2381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02360" y="3678120"/>
                    <a:ext cx="25844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CCA-DE0B-4FB1-B36A-4A69B796EF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1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82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123-E668-4964-92AF-B320B86FA4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s to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mara Kolda (Sandia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 the foils on tensor definitions, and on TOP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Picture 7" descr="kolda"/>
          <p:cNvPicPr/>
          <p:nvPr/>
        </p:nvPicPr>
        <p:blipFill>
          <a:blip r:embed="rId1"/>
          <a:stretch/>
        </p:blipFill>
        <p:spPr>
          <a:xfrm>
            <a:off x="6324480" y="1371600"/>
            <a:ext cx="11588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8FC-97F7-4A26-A26D-33EA9380FD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3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94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D85-8EA8-4CC9-AF42-D10567A1705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09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1282680"/>
            <a:ext cx="1523880" cy="165240"/>
          </a:xfrm>
          <a:custGeom>
            <a:avLst/>
            <a:gdLst/>
            <a:ahLst/>
            <a:rect l="l" t="t" r="r" b="b"/>
            <a:pathLst>
              <a:path w="960" h="104">
                <a:moveTo>
                  <a:pt x="960" y="104"/>
                </a:moveTo>
                <a:cubicBezTo>
                  <a:pt x="820" y="88"/>
                  <a:pt x="680" y="72"/>
                  <a:pt x="576" y="56"/>
                </a:cubicBezTo>
                <a:cubicBezTo>
                  <a:pt x="472" y="40"/>
                  <a:pt x="400" y="16"/>
                  <a:pt x="336" y="8"/>
                </a:cubicBezTo>
                <a:cubicBezTo>
                  <a:pt x="272" y="0"/>
                  <a:pt x="232" y="8"/>
                  <a:pt x="192" y="8"/>
                </a:cubicBezTo>
                <a:cubicBezTo>
                  <a:pt x="152" y="8"/>
                  <a:pt x="128" y="0"/>
                  <a:pt x="96" y="8"/>
                </a:cubicBezTo>
                <a:cubicBezTo>
                  <a:pt x="64" y="16"/>
                  <a:pt x="32" y="36"/>
                  <a:pt x="0" y="56"/>
                </a:cubicBezTo>
              </a:path>
            </a:pathLst>
          </a:custGeom>
          <a:noFill/>
          <a:ln w="28440">
            <a:solidFill>
              <a:srgbClr val="9933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1219320" y="4276440"/>
            <a:ext cx="2666880" cy="284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85920" y="4286160"/>
            <a:ext cx="2590920" cy="571680"/>
          </a:xfrm>
          <a:custGeom>
            <a:avLst/>
            <a:gdLst/>
            <a:ahLst/>
            <a:rect l="l" t="t" r="r" b="b"/>
            <a:pathLst>
              <a:path w="1632" h="360">
                <a:moveTo>
                  <a:pt x="1632" y="0"/>
                </a:moveTo>
                <a:cubicBezTo>
                  <a:pt x="1432" y="72"/>
                  <a:pt x="1232" y="144"/>
                  <a:pt x="1104" y="192"/>
                </a:cubicBezTo>
                <a:cubicBezTo>
                  <a:pt x="976" y="240"/>
                  <a:pt x="952" y="264"/>
                  <a:pt x="864" y="288"/>
                </a:cubicBezTo>
                <a:cubicBezTo>
                  <a:pt x="776" y="312"/>
                  <a:pt x="640" y="328"/>
                  <a:pt x="576" y="336"/>
                </a:cubicBezTo>
                <a:cubicBezTo>
                  <a:pt x="512" y="344"/>
                  <a:pt x="544" y="360"/>
                  <a:pt x="480" y="336"/>
                </a:cubicBezTo>
                <a:cubicBezTo>
                  <a:pt x="416" y="312"/>
                  <a:pt x="272" y="240"/>
                  <a:pt x="192" y="192"/>
                </a:cubicBezTo>
                <a:cubicBezTo>
                  <a:pt x="112" y="144"/>
                  <a:pt x="56" y="96"/>
                  <a:pt x="0" y="48"/>
                </a:cubicBezTo>
              </a:path>
            </a:pathLst>
          </a:custGeom>
          <a:noFill/>
          <a:ln w="2844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76880" y="55530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86360" y="50958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1467000"/>
            <a:ext cx="914400" cy="15228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AE8-D07A-493A-9BD3-517910BE54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334120" y="24382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14400" y="3657600"/>
            <a:ext cx="1905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05080" y="365760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979-25CE-4A04-82FD-04B55565961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849-5876-415E-9BDD-A0D227ABA24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771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HITS Terms &amp;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52280" y="1290600"/>
          <a:ext cx="3637080" cy="17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060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822240" y="1685880"/>
          <a:ext cx="3637080" cy="12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240" y="1685880"/>
                    <a:ext cx="3637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1492200" y="2052720"/>
          <a:ext cx="3637080" cy="17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205272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160720" y="2509920"/>
          <a:ext cx="3636720" cy="175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720" y="2509920"/>
                    <a:ext cx="363672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830680" y="3043080"/>
          <a:ext cx="3636720" cy="1757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0680" y="3043080"/>
                    <a:ext cx="363672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500280" y="3576600"/>
          <a:ext cx="3637080" cy="1757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576600"/>
                    <a:ext cx="3637080" cy="1757520"/>
                  </a:xfrm>
                  <a:prstGeom prst="rect">
                    <a:avLst/>
                  </a:prstGeom>
                  <a:ln w="5724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168800" y="4038480"/>
          <a:ext cx="3637080" cy="14432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8800" y="4038480"/>
                    <a:ext cx="363708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4838760" y="4508640"/>
          <a:ext cx="3637080" cy="17571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38760" y="450864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506920" y="5100480"/>
          <a:ext cx="3637080" cy="1757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6920" y="510048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954760" y="1700280"/>
            <a:ext cx="29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OPHITS uses 3D analysis to find the dominant groupings of web pages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term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9"/>
          <a:stretch/>
        </p:blipFill>
        <p:spPr>
          <a:xfrm>
            <a:off x="84240" y="5146560"/>
            <a:ext cx="3801960" cy="11858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682640" y="5877000"/>
            <a:ext cx="765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346040" y="6126120"/>
            <a:ext cx="889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185840" y="6324480"/>
            <a:ext cx="622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32040" y="6183360"/>
            <a:ext cx="62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695320" y="6086160"/>
            <a:ext cx="88920" cy="135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1914120" y="5683320"/>
            <a:ext cx="88920" cy="2109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944440" y="5703480"/>
            <a:ext cx="88920" cy="15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73520" y="5856120"/>
            <a:ext cx="76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107640" y="585072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0640" y="5618160"/>
            <a:ext cx="24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8843600">
            <a:off x="237600" y="535140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78120" y="516564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808280" y="531972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08440" y="518472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38600" y="533880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19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nsor PARAFA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0"/>
          <a:stretch/>
        </p:blipFill>
        <p:spPr>
          <a:xfrm>
            <a:off x="6108840" y="2506680"/>
            <a:ext cx="2689200" cy="420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877080" y="3006720"/>
            <a:ext cx="199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mmi10"/>
              </a:rPr>
              <a:t>w</a:t>
            </a:r>
            <a:r>
              <a:rPr b="0" lang="en-US" sz="1200" spc="-1" strike="noStrike" baseline="-25000">
                <a:solidFill>
                  <a:srgbClr val="000066"/>
                </a:solidFill>
                <a:latin typeface="cmmi10"/>
              </a:rPr>
              <a:t>k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= # unique links using term 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0200" y="5573880"/>
            <a:ext cx="0" cy="70452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0200" y="5573880"/>
            <a:ext cx="68580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7600" y="5275440"/>
            <a:ext cx="380880" cy="30456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A0E-339A-44F6-890F-1EFCEE72E93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al data are often in high dimensions with multiple aspects (mod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nsors provide elegant theory and algorith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 and Tucker: discover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7F7-5DB6-4850-AD3A-E659C78F7E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. G. Kolda, B. W. Bader and J. P. Kenny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igher-Order Web Link Analysis Using Multilinear Algebr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In: ICDM 2005, Pages 242-249, November 2005.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Jimeng Su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Spiros Papadimitrio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Philip Yu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indow-based Tensor Analysis on High-dimensional and Multi-aspect Stream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roc. of the Int. Conf. on Data Mining (ICDM), Hong Kong, China, Dec 2006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372-EE27-4134-B8D9-E48A8F369E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tutorial on tensors, KDD’07 (w/ Tamara Kolda and Jimeng Sun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ww.cs.cmu.edu/~christos/TALKS/KDD-07-tutori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E73-6EF1-4D9A-BA0F-BC246A8104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olbox: from Tamara Kold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smr.ca.sandia.gov/~tgkolda/TensorToolbo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FAA81076-3D02-48B8-9E29-0B99F8F12BF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3" name="Picture 7" descr="kolda"/>
          <p:cNvPicPr/>
          <p:nvPr/>
        </p:nvPicPr>
        <p:blipFill>
          <a:blip r:embed="rId1"/>
          <a:stretch/>
        </p:blipFill>
        <p:spPr>
          <a:xfrm>
            <a:off x="304920" y="1600200"/>
            <a:ext cx="1139760" cy="142416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112E0819-D034-441D-B397-65B604B1952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726080"/>
            <a:ext cx="9144000" cy="2105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G. Kolda and B. W. Bader.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Tensor Decompositions and Application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IAM Review, Volume 51, Number 3, September 2009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smr.ca.sandia.gov/~tgkolda/pubs/bibtgkfiles/TensorReview-preprint.pd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Kolda and J. Sun: Scalable Tensor Decomposition for Multi-Aspect Data Mining (ICDM 2008)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ED1-DFB3-4626-BF31-D460A08FDC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F24-1E99-4B6B-B0A9-F57BCFABFD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108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22B-173A-4263-B699-B9644B7DC2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at is a tenso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807-AA0F-4E54-A2EE-138FAF9E2F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26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47160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BF5-0C4C-4D96-BB3D-D75E68D90F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45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53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3200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7560" y="26668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484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71E-A9F8-4F37-BA85-615C1DC685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s are useful for 3 or more modes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rminology: ‘mode’ (or ‘aspect’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11840" y="3657600"/>
            <a:ext cx="68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10080" y="3657600"/>
            <a:ext cx="104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0440" y="3657600"/>
            <a:ext cx="103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3657600"/>
            <a:ext cx="63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3880" y="6172200"/>
            <a:ext cx="3236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 (== aspect) #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" y="556272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720" y="313704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D8F-EDB8-44F6-A30F-6ADBDEA38B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4:34Z</dcterms:modified>
  <cp:revision>188</cp:revision>
  <dc:subject>tensors</dc:subject>
  <dc:title>KDD 09 tutorial</dc:title>
</cp:coreProperties>
</file>