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D71-83C0-408E-956B-942A4F84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F72-CE34-4092-ABED-C484B01C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298-B2B6-4246-A5D2-FA76519B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73D-0A6B-4B08-A852-CB28D0DE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B774-24F4-44D4-B750-9A6AB85C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F8B-4C64-4259-A7D9-392E9818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026C-F50A-491F-84E9-622A22C4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6454-77C7-4034-B30B-3B060BA7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7D54-75DE-44F7-B652-59E6DDC9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AAB9-872B-4C48-9863-746308B3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0D6A-6F78-4AAB-AF01-6633789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F1E-E61C-47C5-9B0C-EA289CAE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E4F9-A2EE-4901-8DD0-E5A328B5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C4E5-A890-467E-BE72-2E08DDD5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38FE-1234-4B9E-B39E-B78AEE3E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E5A1-156A-458B-B7DA-9418DD16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F2B5-81A1-4FDC-89B9-08B63FD4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DFB1-4F53-4CAE-A799-283F1F82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9F07-1D2B-4A80-85B7-E670506A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BEA01-726B-4206-976E-9D37493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1BF6-7CC3-43C6-951F-5960A34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07FD-88AA-4E50-A039-630EBD20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4E2-CE53-45A1-A2E7-1826B89B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44F35-DE40-402B-AF52-1D4FDC47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D0A3-7423-48ED-8BAF-DE1AC47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9CAB-45ED-46F7-AC6D-8C731BCE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DE8D-B024-4D09-A102-69DE5ED9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F264-BF2E-4E87-A3D4-51263ADE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F94B-D0E8-4CED-B415-63559C7E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BDFB9-E65C-4A50-8D11-F2DFA175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A898-128B-41D5-BFAA-D258EEDB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10C42-9E22-47F5-9A10-6AE3F51F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FD2E-4276-483E-A46C-3A578ED2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5AE-55EB-4304-AD36-08C89520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5D577-B0B0-48C0-817D-DBBC387B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DDA15-EFDC-4771-8621-6CC748C2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9B73-2999-410C-96CE-7BEB63A6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12C46-EEDC-402A-8DBE-688C1361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A46CC-64BE-4783-8191-1CCE94D0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8FC3-60CB-48C2-B6D7-C2C9A7F5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3B4CF-2B3F-4059-8A5F-F1D10328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6775-4725-46C0-B61E-B8A8A53B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2CBE-C867-4B06-82D7-FFAB9148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44F-652F-4F1D-A0B1-51B09FC9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FAF-42A1-4592-83BB-DDE6A4A2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493-1229-489A-BE4F-9F61E1D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0A5-0415-49A3-8A32-73B1D8BF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24E-CC02-4BBA-A17E-0DCABB4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466CE9CA-E6C3-4D3C-8B9D-61D48405B1A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9-</a:t>
            </a:r>
            <a:fld id="{47E6266D-D844-4FA5-B45F-9D46B448377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7DC62D57-8D09-45BB-9AD6-0C9E90C42A6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16C06BD2-0354-4A01-B3F7-F69B7D74037C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Gary Mill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aralampos (Babis) Tsourakak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12F6-EA3F-4D83-99E0-AD743D5CEC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2 – degree distribut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kewed degree distrib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st nodes have degree 1 or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ut they probably have a neighbor with degree 100,000 or so (!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actical implication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y need to delete/ignore those high degree no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uld probably also trim the 1-degree nodes, saving significant space and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093E-3253-46B7-87F0-1FB8AD5E90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3 – power law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wer-laws / skewed distributions in everything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st pairs: within 2-3 steps; but, some pair: ~20 or more steps awa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riangles: power laws[Tsourakakis’08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# of cliques: ditto [Du+’09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ight vs degree: ditto [McGlohon+’08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5BF4-0AAD-4608-934C-7F1B8638C4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4 – communiti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gative dimensionality’ paradox [Chakrabarti+’04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actical implicatio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raphs may have no good cu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FA2C-28AC-4F63-9FBB-7111871146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) Graphs appear in numerous setting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) Singular / eigenvalue analysis: valua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xed points – random walks – impor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igenvalue and epidemic threshol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aplacians -&gt; communi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C60E-526B-4FCB-AC25-1EB478E6C1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 – cont’d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) Random walks -&gt; proxim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commendations, auto-captioning, etc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ast algo’s, through Sherman-Morris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3) Tera-byte scale graphs: hadoo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4) Beware: counter-intuitive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mall diameters; power-laws; possible lack of good cu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8A18-AD1B-4AB0-BC43-F3D44F7CCF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cknowledgement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unding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8" name="Picture 5" descr="llnl_03"/>
          <p:cNvPicPr/>
          <p:nvPr/>
        </p:nvPicPr>
        <p:blipFill>
          <a:blip r:embed="rId1"/>
          <a:stretch/>
        </p:blipFill>
        <p:spPr>
          <a:xfrm>
            <a:off x="990720" y="4224240"/>
            <a:ext cx="4647960" cy="470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ibm-logo"/>
          <p:cNvPicPr/>
          <p:nvPr/>
        </p:nvPicPr>
        <p:blipFill>
          <a:blip r:embed="rId2"/>
          <a:stretch/>
        </p:blipFill>
        <p:spPr>
          <a:xfrm>
            <a:off x="5791320" y="4243320"/>
            <a:ext cx="685800" cy="32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nsf-logo"/>
          <p:cNvPicPr/>
          <p:nvPr/>
        </p:nvPicPr>
        <p:blipFill>
          <a:blip r:embed="rId3"/>
          <a:stretch/>
        </p:blipFill>
        <p:spPr>
          <a:xfrm>
            <a:off x="838080" y="1905120"/>
            <a:ext cx="6172200" cy="1190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3897360" y="49291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TA (PA Inf. Tech. Allianc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4"/>
          <a:stretch/>
        </p:blipFill>
        <p:spPr>
          <a:xfrm>
            <a:off x="990720" y="4929120"/>
            <a:ext cx="1371600" cy="301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"/>
          <p:cNvPicPr/>
          <p:nvPr/>
        </p:nvPicPr>
        <p:blipFill>
          <a:blip r:embed="rId5"/>
          <a:stretch/>
        </p:blipFill>
        <p:spPr>
          <a:xfrm>
            <a:off x="2590920" y="4929120"/>
            <a:ext cx="895320" cy="419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6"/>
          <a:stretch/>
        </p:blipFill>
        <p:spPr>
          <a:xfrm>
            <a:off x="1828800" y="576756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685800" y="3048120"/>
            <a:ext cx="805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IS-0705359, IIS-0534205, DBI-0640543, CNS-0721736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6" name="Picture 14" descr=""/>
          <p:cNvPicPr/>
          <p:nvPr/>
        </p:nvPicPr>
        <p:blipFill>
          <a:blip r:embed="rId7"/>
          <a:stretch/>
        </p:blipFill>
        <p:spPr>
          <a:xfrm>
            <a:off x="1066680" y="5843520"/>
            <a:ext cx="533520" cy="405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rcRect l="0" t="36001" r="0" b="36001"/>
          <a:stretch/>
        </p:blipFill>
        <p:spPr>
          <a:xfrm>
            <a:off x="6629400" y="4243320"/>
            <a:ext cx="1143000" cy="3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8367-1B19-4CF1-87C3-B982F97D55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cknowledgements - foil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krabarti, Deepay (cross-association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olda, Tamara (tensor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padimitriou, Spiros (cross-association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n, Jimeng (tensor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ng, Hanghang (proximit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Rectangle 3" descr=""/>
          <p:cNvPicPr/>
          <p:nvPr/>
        </p:nvPicPr>
        <p:blipFill>
          <a:blip r:embed="rId1"/>
          <a:stretch/>
        </p:blipFill>
        <p:spPr>
          <a:xfrm>
            <a:off x="258840" y="2133720"/>
            <a:ext cx="1341360" cy="167616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3" descr=""/>
          <p:cNvPicPr/>
          <p:nvPr/>
        </p:nvPicPr>
        <p:blipFill>
          <a:blip r:embed="rId2"/>
          <a:stretch/>
        </p:blipFill>
        <p:spPr>
          <a:xfrm>
            <a:off x="7391520" y="1371600"/>
            <a:ext cx="1206360" cy="1447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391520" y="4495680"/>
            <a:ext cx="1411200" cy="1594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7391520" y="2971800"/>
            <a:ext cx="1251000" cy="1411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>
            <a:off x="1676520" y="2743200"/>
            <a:ext cx="304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676520" y="4191120"/>
            <a:ext cx="304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182880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327672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10280" y="472428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7285-D07D-47DD-ADCF-D037A102DF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ANK YOU!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61" name="Rectangle 3" descr=""/>
          <p:cNvPicPr/>
          <p:nvPr/>
        </p:nvPicPr>
        <p:blipFill>
          <a:blip r:embed="rId1"/>
          <a:srcRect l="11842" t="2738" r="7105" b="0"/>
          <a:stretch/>
        </p:blipFill>
        <p:spPr>
          <a:xfrm>
            <a:off x="609480" y="3886200"/>
            <a:ext cx="881280" cy="91440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81288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3" descr=""/>
          <p:cNvPicPr/>
          <p:nvPr/>
        </p:nvPicPr>
        <p:blipFill>
          <a:blip r:embed="rId3"/>
          <a:srcRect l="0" t="11250" r="0" b="0"/>
          <a:stretch/>
        </p:blipFill>
        <p:spPr>
          <a:xfrm>
            <a:off x="609480" y="2590920"/>
            <a:ext cx="836640" cy="990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053800" y="1374840"/>
            <a:ext cx="4111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christo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4160" y="2670120"/>
            <a:ext cx="401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Gary Mill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glmill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55240" y="3965400"/>
            <a:ext cx="46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haralampos (Babis) Tsourakaki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ctsoura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1440" y="5486400"/>
            <a:ext cx="771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christos/TALKS/09-KDD-tutorial/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52C5-AB96-418B-BA82-10ACDC1000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5334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3C79-1B04-4A33-8EC8-83CA06C922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s – ‘laws’ of real graph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1: small and SHRINKING diame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2: power law / skewed degree distribu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3: power laws in several aspec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4: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2539-A66D-4582-8FD5-022E0848A6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1 – diamete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mall diameter – ‘six degree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 diameter SHRINKS as the graph grows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EA9E-6FCE-4F24-92CC-53BA927273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43440" y="1914480"/>
            <a:ext cx="5200560" cy="3978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iameter – “Patents”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33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tent citation networ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5 years of dat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2400" y="5715000"/>
            <a:ext cx="2021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ime [years]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4880" y="175752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A6C5-253F-4238-816A-300111B75B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1 – diamete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mall diameter – ‘six degree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 diameter SHRINKS as the graph grows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actical implication: BFS may di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-step-away neighbors =&gt; half of the graph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3A5F-AAEE-4AAB-B865-A3E7233A68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s  2 – degree distribu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kewed degree distribu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st nodes have degree 1 or 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ut they probably have a neighbor with degree 100,000 or so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B11-5D04-4964-A74F-8F1D0A611F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gree distribu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b hit counts [w/ A. Montgomery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76680" y="2895480"/>
            <a:ext cx="3841560" cy="3345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69640" y="29851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b Site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29440" y="57376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in-degre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74440" y="342144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coun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00600" y="3902040"/>
            <a:ext cx="701640" cy="117324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50520" y="40899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PMingLiU"/>
              </a:rPr>
              <a:t>Zip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760800" y="2362320"/>
            <a:ext cx="2001600" cy="3126600"/>
            <a:chOff x="6760800" y="2362320"/>
            <a:chExt cx="2001600" cy="3126600"/>
          </a:xfrm>
        </p:grpSpPr>
        <p:sp>
          <p:nvSpPr>
            <p:cNvPr id="203" name=""/>
            <p:cNvSpPr/>
            <p:nvPr/>
          </p:nvSpPr>
          <p:spPr>
            <a:xfrm>
              <a:off x="7238880" y="3276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8880" y="4419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888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34520" y="2362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34520" y="2895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34520" y="34290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534520" y="4114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34520" y="4724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11" name=""/>
            <p:cNvCxnSpPr>
              <a:stCxn id="203" idx="6"/>
              <a:endCxn id="207" idx="2"/>
            </p:cNvCxnSpPr>
            <p:nvPr/>
          </p:nvCxnSpPr>
          <p:spPr>
            <a:xfrm flipV="1">
              <a:off x="7410240" y="2971440"/>
              <a:ext cx="1105560" cy="3816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3" idx="6"/>
              <a:endCxn id="208" idx="2"/>
            </p:cNvCxnSpPr>
            <p:nvPr/>
          </p:nvCxnSpPr>
          <p:spPr>
            <a:xfrm>
              <a:off x="7410240" y="3352680"/>
              <a:ext cx="1105560" cy="153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stCxn id="205" idx="6"/>
              <a:endCxn id="208" idx="2"/>
            </p:cNvCxnSpPr>
            <p:nvPr/>
          </p:nvCxnSpPr>
          <p:spPr>
            <a:xfrm flipV="1">
              <a:off x="7410240" y="3504960"/>
              <a:ext cx="1105560" cy="4579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204" idx="6"/>
              <a:endCxn id="208" idx="2"/>
            </p:cNvCxnSpPr>
            <p:nvPr/>
          </p:nvCxnSpPr>
          <p:spPr>
            <a:xfrm flipV="1">
              <a:off x="7410240" y="3504600"/>
              <a:ext cx="1105560" cy="99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>
              <a:off x="6760800" y="480060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user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37720" y="502920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ite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5411520" y="5051520"/>
            <a:ext cx="114120" cy="5191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59200" y="45100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``ebay’’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631C-09C3-4D1E-BBD6-0F94957209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nions.co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o-trusts-whom [Richardson + Domingos, KDD 2001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Rectangle 3" descr=""/>
          <p:cNvPicPr/>
          <p:nvPr/>
        </p:nvPicPr>
        <p:blipFill>
          <a:blip r:embed="rId1"/>
          <a:stretch/>
        </p:blipFill>
        <p:spPr>
          <a:xfrm>
            <a:off x="685800" y="2263680"/>
            <a:ext cx="3809880" cy="3016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14120" y="56376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out) deg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0840" y="1980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1440" y="4605480"/>
            <a:ext cx="790560" cy="2728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0200" y="433548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rusts-2000-people us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DA1A-FBD4-46C7-98A4-6E016B600B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41:58Z</dcterms:modified>
  <cp:revision>192</cp:revision>
  <dc:subject/>
  <dc:title>Large graph mining</dc:title>
</cp:coreProperties>
</file>